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29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5.png" ContentType="image/png"/>
  <Override PartName="/ppt/media/image38.wmf" ContentType="image/x-wmf"/>
  <Override PartName="/ppt/media/image8.wmf" ContentType="image/x-wmf"/>
  <Override PartName="/ppt/media/image4.jpeg" ContentType="image/jpeg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13.wmf" ContentType="image/x-wmf"/>
  <Override PartName="/ppt/media/image5.png" ContentType="image/pn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3560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7"/>
          </p:nvPr>
        </p:nvSpPr>
        <p:spPr>
          <a:xfrm>
            <a:off x="5260680" y="0"/>
            <a:ext cx="403524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Img"/>
          </p:nvPr>
        </p:nvSpPr>
        <p:spPr>
          <a:xfrm>
            <a:off x="2895120" y="510840"/>
            <a:ext cx="3537000" cy="26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move the slide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18"/>
          </p:nvPr>
        </p:nvSpPr>
        <p:spPr>
          <a:xfrm>
            <a:off x="0" y="6669000"/>
            <a:ext cx="403560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19"/>
          </p:nvPr>
        </p:nvSpPr>
        <p:spPr>
          <a:xfrm>
            <a:off x="526068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b">
            <a:noAutofit/>
          </a:bodyPr>
          <a:lstStyle>
            <a:lvl1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  <a:defRPr b="0" lang="es-E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5D9A89EE-A273-4790-A544-F6FC51C823C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AA5EF0A-A592-4B78-92D6-62FD64644F32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95E089B-5629-42A2-8CF3-6F78AB90454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5BF7F24-0FEB-4C75-9F3C-5D7B0C827EA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D459E18-285C-4304-B00B-F57426381C41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D7E6E8E5-B1C5-41DF-877B-66D37284ECC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00266CF-E45A-4166-8EB8-04F0B26B683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7DD2677-C53E-4E79-8605-A561F19241A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B409772-3EC7-42E3-AF75-EBF7891B872B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080-D26F-4F62-8D98-E3DB89AB46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7B2E-A145-4B96-A325-D8333C5B90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783B-C2DA-415F-A180-CF1A43FF132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895480" y="53496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C11344C8-A9AE-4526-9E29-9C159B3F5AE9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7FFCAA63-8BA0-4B82-823F-EF8E8CA260E2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D76A8C13-1347-403E-9778-AB6567E5477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0B9B6C8-0B04-49FA-AF75-6A20C223EE6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92368B5-51FB-475A-B4CF-10C11999FA86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B915A73A-6E18-4C16-8523-50343BD8612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78666C74-B7AA-42DE-A1D1-88ACDBB71FE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C5F54842-A159-433D-B768-A9B50E4B3DBA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E92280A6-2B88-4160-A51C-CCDE73CF40EE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ADC743AC-5E33-492E-BA0F-7CA07A68482F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24EF7C00-F4BE-4743-AA45-8EADFDB694AD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5B4A6317-00DD-4A96-9E76-719395C7B065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07B38CC6-ED75-40C0-A010-AB8E335494F1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84E6EBD-348C-47D8-AF55-263B473BAC91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8A2D568F-DB25-4F1B-A9BE-79C2ED2D91F0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106E8F68-3AB3-4A56-AE94-DA5449F20464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F7E4B8F3-9BE8-47B7-AB77-708D2BC1E1C8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06D55244-A62E-48E1-B801-705CB2007F19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95480" y="511200"/>
            <a:ext cx="3537000" cy="2652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27240" y="3335400"/>
            <a:ext cx="684216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5261040" y="6669000"/>
            <a:ext cx="4035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b">
            <a:no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fld id="{89C76091-721A-4C1A-A360-FFFD6CBAE83C}" type="slidenum"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A1F6-9EFF-41ED-8A58-CD315082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E31A-7B5C-44FE-BD7E-9BFC9CD21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A858-2D28-4108-881B-E631E8298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A578-298A-4EA8-8D9E-C8CAF36D4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FB8F6-68AA-4C22-A022-1D251D5A0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561B7-3EA6-4E00-9DB5-94C1C0BB1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BA04-57F2-4B9E-B71A-83256A5A75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04C1-11B2-432E-BB65-B9805FD98A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279F1-1BEA-4A4E-BD52-973CF27773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9842-1796-4C91-A410-FE13289FF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F6C3-2676-4D9E-8506-FEFB8F5C5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F5E6-9D02-4D7E-B0EA-460BA6D3F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094B0-A958-4221-A928-17B3366BC2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81291-7DC7-411B-A526-18AEA534E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A094-3B96-4BC9-8D7E-1376E8F6D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1895C-213B-4244-A5DE-BC7DF070B9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5E75D-B5FD-423C-9D2A-9F3B805BEE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13B0-6C9B-4D02-8AC2-D038F84579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5BE-0ADD-4A50-AE47-821ECB65F4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300E-9A25-4E4F-9800-8E67317755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0D33-0437-4532-954A-E19EBA63CE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43E-380F-4453-8D3A-2A494A8EC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0261-760C-4C38-8CFB-1843A3EFDD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E006-293C-4B18-A414-E45C9FF44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4EB3-5ED4-4B65-8E12-0C0CA22F1C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59ED-52FA-4477-9788-6B3AE16DE8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000-5306-44A2-BE85-CF08BCE1D4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1FBE-49C7-42BB-9E70-9F50D5E114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D2A-2B40-45AF-A688-FF2C619C5A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9787-4D0C-4B08-9EE1-98C57F6548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A20C8-5DD6-43F0-8BF6-0E4B955FDA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1143-9ECD-4AA6-B174-E5D6A33B1F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B07D2-B27F-4D83-9F83-5070C396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E387-A8A0-4A53-84BA-CE551745FC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9EDCA-2A39-4A27-BFCB-7BB610E47A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411B5-4BF8-4C6C-A789-FE153C6773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C8039-342D-4166-A24F-33477558DE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2F95-6BD8-4379-A41D-AFDDDE2A89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E4B6D-70AB-4224-81EC-1086D3E62A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1D1D8-90F1-4F40-8A0A-4EAD8BEB65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4F06B-00A6-4DEA-B431-223DC23720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C505A-2858-435E-83D0-F72B139BCF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F8B4E-E09A-48A4-8725-32AB75AFE5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C3168-C353-414A-B2B0-D19456F77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B1B4-D20D-4AE3-873A-626B3BD883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F1B46-9DF3-450B-96EE-D1D2E5A15B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EB505-68AD-4F7E-AD86-9CE4018489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F08C5-5ED4-4CB0-A181-9E28D5FE08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32390-AC2E-45AD-98AB-E573B9E3AA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3A9FA-630B-46BD-858A-C324D50EAD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3D3C9-5612-4BD3-9F6F-5DB7860D5E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68BEF-9CB3-451B-B392-EA141A0E63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6E556-AB52-4C94-9716-7F2A55B7E9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F2D01-898F-4543-8C17-87A0C4E4D5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2768E-5C80-4A0D-9127-505FBF2C1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ABFD-0088-47D2-84E3-9DD7C65627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1DA0E-4531-4841-8D76-38B61C871E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B1A5-C06D-4D24-A818-E5455618B8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D045-7B56-4F8F-83E2-56C2FCEF63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5AE6-7CF6-46F9-8D17-7D752F2183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6989-CF6C-44E3-A456-6AD88BFA85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B799-B687-41B6-AB70-292D7625FA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6571-971F-43C7-B3AA-133628B4C6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FBA0-C89C-436F-A27B-A06060E2CC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2C82-9E44-4F60-B4EC-ADEEA37FAA0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54EA-CA09-421F-A860-CDA38B7D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7AA2-73F6-4118-8B44-35D672EDBC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D6EF-448A-4685-8678-564D94EFF6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89FB-280E-45CC-B4EE-F587E8A489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E62C-BB05-41A5-81CC-DEA5BD12C5E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5803A-7919-475A-8BBE-23558F7D79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39520-ECE8-4107-849D-7DE7BC363C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DBAD8-157B-40A8-A4EF-4227EA64AA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FD942-DB2F-44DF-98AB-DA4B2CCF84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38358-ABA5-4F99-93F8-5D6362302B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20C79-5332-4190-B741-33BF7A7C9D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FBEEF-7067-41EA-85FD-1D9E36956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CF05-C61F-4E79-B8DC-6041FD39AF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E2240-0A32-43A6-90F9-54CE73F1CF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B8A1A-562F-4877-84A4-282DC47F021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E0179-6832-496A-A2F8-DBFEA510DD2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3097A-424F-4ABD-9D2F-99A2427611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6EECD-624F-4C9D-A889-8EE2B93146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A8461-A6BC-4B23-80E0-8244C9C6C1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12610-AD5F-405B-9A82-EB7D75E0B0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DEB5E-D7A3-40E6-AC68-3A9F64B528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3CC5D-6048-4DAF-9569-6710C1482D3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21FE35-E52C-4D05-9822-DB1AE72C6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B5EB-A1BA-4134-AAA4-63EE4CBA13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285640" y="6094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F7799-35B2-46A2-B7E1-20CF29C76A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B3973A-4AFF-4C3D-B1FA-A1883D5F71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FC32B-77C6-4D83-BA1D-C9A19EDD87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8E58C-2332-49F1-B531-C85172AAFCE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8A7F2D-812A-47CE-B24D-C1C6EDBAD6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3FF27-5A3D-4EF7-9AD1-33B5BDC112B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365F4F-260E-4C1F-ABEE-24F0A8079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808F-6BA9-47B8-9F2E-A637B5D0B11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2097-4D26-428E-B6A2-79C7FB3C394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B4A3-D952-40D6-80EC-4917270E2046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03BC-1064-40BC-848F-8BC1DFFA0873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0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EC1-96AD-4715-B1FA-8604A92657ED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650-FF1E-4871-B1CD-4C18280E83F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4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3A59-6DAF-4580-9B98-C63F76663A4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1028"/>
          <p:cNvSpPr/>
          <p:nvPr/>
        </p:nvSpPr>
        <p:spPr>
          <a:xfrm>
            <a:off x="1892160" y="681120"/>
            <a:ext cx="7236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8d63"/>
                </a:solidFill>
                <a:latin typeface="Humanst521 BT"/>
              </a:rPr>
              <a:t>Click to edit the title text format</a:t>
            </a:r>
            <a:endParaRPr b="1" lang="en-US" sz="28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6"/>
          </p:nvPr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100" spc="-1" strike="noStrike">
                <a:solidFill>
                  <a:srgbClr val="ffffff"/>
                </a:solidFill>
                <a:latin typeface="Humanst52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863-4876-4801-8675-71DDB035CAF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7" descr=""/>
          <p:cNvPicPr/>
          <p:nvPr/>
        </p:nvPicPr>
        <p:blipFill>
          <a:blip r:embed="rId1"/>
          <a:stretch/>
        </p:blipFill>
        <p:spPr>
          <a:xfrm>
            <a:off x="6603840" y="2857680"/>
            <a:ext cx="1927440" cy="224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5" name="Picture 18" descr=""/>
          <p:cNvPicPr/>
          <p:nvPr/>
        </p:nvPicPr>
        <p:blipFill>
          <a:blip r:embed="rId2"/>
          <a:stretch/>
        </p:blipFill>
        <p:spPr>
          <a:xfrm>
            <a:off x="3624120" y="2838600"/>
            <a:ext cx="3014640" cy="2266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36" name="Picture 19" descr=""/>
          <p:cNvPicPr/>
          <p:nvPr/>
        </p:nvPicPr>
        <p:blipFill>
          <a:blip r:embed="rId3"/>
          <a:stretch/>
        </p:blipFill>
        <p:spPr>
          <a:xfrm>
            <a:off x="1276200" y="2843280"/>
            <a:ext cx="2433960" cy="2287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37" name="Group 7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38" name="Rectangle 8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0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41" name="Rectangle 11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3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344" name="Rectangle 14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4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170-768E-45D8-A696-7A0571A4180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2331360" y="2003400"/>
            <a:ext cx="506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678d63"/>
                </a:solidFill>
                <a:latin typeface="Humanst521 BT"/>
              </a:rPr>
              <a:t>Entorno internac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1251000" y="2833560"/>
            <a:ext cx="7256520" cy="22798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AEC9-781B-43D7-975E-2CF19A5EF8A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054"/>
          <p:cNvSpPr/>
          <p:nvPr/>
        </p:nvSpPr>
        <p:spPr>
          <a:xfrm>
            <a:off x="1341360" y="6581880"/>
            <a:ext cx="717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.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1968480" y="851040"/>
            <a:ext cx="54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Índice Dow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0" y="1327320"/>
            <a:ext cx="8910720" cy="4965480"/>
          </a:xfrm>
          <a:prstGeom prst="rect">
            <a:avLst/>
          </a:prstGeom>
          <a:ln w="0">
            <a:noFill/>
          </a:ln>
        </p:spPr>
      </p:pic>
      <p:sp>
        <p:nvSpPr>
          <p:cNvPr id="427" name="11 CuadroTexto"/>
          <p:cNvSpPr/>
          <p:nvPr/>
        </p:nvSpPr>
        <p:spPr>
          <a:xfrm>
            <a:off x="793800" y="1730520"/>
            <a:ext cx="284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Humanst521 BT"/>
              </a:rPr>
              <a:t>Se han registrado cinco caídas desde que índice tocó fo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12 Flecha derecha"/>
          <p:cNvSpPr/>
          <p:nvPr/>
        </p:nvSpPr>
        <p:spPr>
          <a:xfrm>
            <a:off x="3602160" y="1884240"/>
            <a:ext cx="1411200" cy="64944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12 Conector recto"/>
          <p:cNvSpPr/>
          <p:nvPr/>
        </p:nvSpPr>
        <p:spPr>
          <a:xfrm flipH="1" flipV="1">
            <a:off x="3173040" y="3073320"/>
            <a:ext cx="11160" cy="2424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13 CuadroTexto"/>
          <p:cNvSpPr/>
          <p:nvPr/>
        </p:nvSpPr>
        <p:spPr>
          <a:xfrm>
            <a:off x="3260880" y="3095640"/>
            <a:ext cx="94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200" spc="-1" strike="noStrike">
                <a:solidFill>
                  <a:srgbClr val="000000"/>
                </a:solidFill>
                <a:latin typeface="Humanst521 BT"/>
              </a:rPr>
              <a:t>Bancarrota de Lehman Br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14 Conector recto"/>
          <p:cNvSpPr/>
          <p:nvPr/>
        </p:nvSpPr>
        <p:spPr>
          <a:xfrm>
            <a:off x="1606680" y="327672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16 Conector recto"/>
          <p:cNvSpPr/>
          <p:nvPr/>
        </p:nvSpPr>
        <p:spPr>
          <a:xfrm>
            <a:off x="2952720" y="395604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17 Conector recto"/>
          <p:cNvSpPr/>
          <p:nvPr/>
        </p:nvSpPr>
        <p:spPr>
          <a:xfrm>
            <a:off x="3701880" y="539748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18 Conector recto"/>
          <p:cNvSpPr/>
          <p:nvPr/>
        </p:nvSpPr>
        <p:spPr>
          <a:xfrm>
            <a:off x="4667400" y="452772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21 Grupo"/>
          <p:cNvGrpSpPr/>
          <p:nvPr/>
        </p:nvGrpSpPr>
        <p:grpSpPr>
          <a:xfrm>
            <a:off x="2308320" y="2951280"/>
            <a:ext cx="660240" cy="438120"/>
            <a:chOff x="2308320" y="2951280"/>
            <a:chExt cx="660240" cy="438120"/>
          </a:xfrm>
        </p:grpSpPr>
        <p:sp>
          <p:nvSpPr>
            <p:cNvPr id="436" name="19 CuadroTexto"/>
            <p:cNvSpPr/>
            <p:nvPr/>
          </p:nvSpPr>
          <p:spPr>
            <a:xfrm>
              <a:off x="2308320" y="302112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Humanst521 BT"/>
                </a:rPr>
                <a:t>-23.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20 Elipse"/>
            <p:cNvSpPr/>
            <p:nvPr/>
          </p:nvSpPr>
          <p:spPr>
            <a:xfrm>
              <a:off x="2365200" y="295128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26 Grupo"/>
          <p:cNvGrpSpPr/>
          <p:nvPr/>
        </p:nvGrpSpPr>
        <p:grpSpPr>
          <a:xfrm>
            <a:off x="3524400" y="4222800"/>
            <a:ext cx="660240" cy="438120"/>
            <a:chOff x="3524400" y="4222800"/>
            <a:chExt cx="660240" cy="438120"/>
          </a:xfrm>
        </p:grpSpPr>
        <p:sp>
          <p:nvSpPr>
            <p:cNvPr id="439" name="27 CuadroTexto"/>
            <p:cNvSpPr/>
            <p:nvPr/>
          </p:nvSpPr>
          <p:spPr>
            <a:xfrm>
              <a:off x="3524400" y="429264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0000"/>
                  </a:solidFill>
                  <a:latin typeface="Humanst521 BT"/>
                </a:rPr>
                <a:t>-39.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28 Elipse"/>
            <p:cNvSpPr/>
            <p:nvPr/>
          </p:nvSpPr>
          <p:spPr>
            <a:xfrm>
              <a:off x="3581280" y="422280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29 Grupo"/>
          <p:cNvGrpSpPr/>
          <p:nvPr/>
        </p:nvGrpSpPr>
        <p:grpSpPr>
          <a:xfrm>
            <a:off x="4826160" y="5118120"/>
            <a:ext cx="660240" cy="438120"/>
            <a:chOff x="4826160" y="5118120"/>
            <a:chExt cx="660240" cy="438120"/>
          </a:xfrm>
        </p:grpSpPr>
        <p:sp>
          <p:nvSpPr>
            <p:cNvPr id="442" name="30 CuadroTexto"/>
            <p:cNvSpPr/>
            <p:nvPr/>
          </p:nvSpPr>
          <p:spPr>
            <a:xfrm>
              <a:off x="4826160" y="518796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000000"/>
                  </a:solidFill>
                  <a:latin typeface="Humanst521 BT"/>
                </a:rPr>
                <a:t> </a:t>
              </a:r>
              <a:r>
                <a:rPr b="0" lang="es-PE" sz="1200" spc="-1" strike="noStrike">
                  <a:solidFill>
                    <a:srgbClr val="000000"/>
                  </a:solidFill>
                  <a:latin typeface="Humanst521 BT"/>
                </a:rPr>
                <a:t>49.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31 Elipse"/>
            <p:cNvSpPr/>
            <p:nvPr/>
          </p:nvSpPr>
          <p:spPr>
            <a:xfrm>
              <a:off x="4883040" y="5118120"/>
              <a:ext cx="603360" cy="438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4" name="33 Conector recto de flecha"/>
          <p:cNvCxnSpPr>
            <a:stCxn id="443" idx="0"/>
          </p:cNvCxnSpPr>
          <p:nvPr/>
        </p:nvCxnSpPr>
        <p:spPr>
          <a:xfrm flipH="1" flipV="1">
            <a:off x="4997160" y="4546080"/>
            <a:ext cx="18792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35 Conector recto de flecha"/>
          <p:cNvCxnSpPr>
            <a:stCxn id="443" idx="2"/>
          </p:cNvCxnSpPr>
          <p:nvPr/>
        </p:nvCxnSpPr>
        <p:spPr>
          <a:xfrm flipH="1">
            <a:off x="4247640" y="5335920"/>
            <a:ext cx="635760" cy="4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38 Conector recto de flecha"/>
          <p:cNvCxnSpPr>
            <a:stCxn id="440" idx="4"/>
          </p:cNvCxnSpPr>
          <p:nvPr/>
        </p:nvCxnSpPr>
        <p:spPr>
          <a:xfrm>
            <a:off x="3881880" y="4660560"/>
            <a:ext cx="11844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40 Conector recto de flecha"/>
          <p:cNvCxnSpPr>
            <a:stCxn id="440" idx="1"/>
          </p:cNvCxnSpPr>
          <p:nvPr/>
        </p:nvCxnSpPr>
        <p:spPr>
          <a:xfrm flipH="1" flipV="1">
            <a:off x="3435120" y="3961800"/>
            <a:ext cx="23544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45 Conector recto de flecha"/>
          <p:cNvCxnSpPr>
            <a:stCxn id="437" idx="5"/>
          </p:cNvCxnSpPr>
          <p:nvPr/>
        </p:nvCxnSpPr>
        <p:spPr>
          <a:xfrm>
            <a:off x="2878560" y="3325680"/>
            <a:ext cx="2516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47 Conector recto de flecha"/>
          <p:cNvCxnSpPr>
            <a:stCxn id="437" idx="2"/>
          </p:cNvCxnSpPr>
          <p:nvPr/>
        </p:nvCxnSpPr>
        <p:spPr>
          <a:xfrm flipH="1">
            <a:off x="1861560" y="3170160"/>
            <a:ext cx="503640" cy="11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37AB-068A-4157-A12B-5B652AC963F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MF  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2063880" y="696960"/>
            <a:ext cx="5441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Balance del Gobie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umanst521 BT"/>
              </a:rPr>
              <a:t>(% del PB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730520" y="1246320"/>
            <a:ext cx="61308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053-D226-4B65-B623-6CAC4E8128EA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Mercado de divi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2379600" y="111132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Moneda local por dó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Base ene 2007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52480" y="1793880"/>
            <a:ext cx="7462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7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65" name="Rectangle 8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9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0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68" name="Rectangle 11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2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13"/>
          <p:cNvGrpSpPr/>
          <p:nvPr/>
        </p:nvGrpSpPr>
        <p:grpSpPr>
          <a:xfrm>
            <a:off x="0" y="0"/>
            <a:ext cx="3240" cy="461880"/>
            <a:chOff x="0" y="0"/>
            <a:chExt cx="3240" cy="461880"/>
          </a:xfrm>
        </p:grpSpPr>
        <p:sp>
          <p:nvSpPr>
            <p:cNvPr id="471" name="Rectangle 14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5"/>
            <p:cNvSpPr/>
            <p:nvPr/>
          </p:nvSpPr>
          <p:spPr>
            <a:xfrm>
              <a:off x="0" y="0"/>
              <a:ext cx="32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4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C35-C588-4B38-AB83-680817534361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1877400" y="2003400"/>
            <a:ext cx="53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678d63"/>
                </a:solidFill>
                <a:latin typeface="Humanst521 BT"/>
              </a:rPr>
              <a:t>Proyecciones 2009-201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9" descr=""/>
          <p:cNvPicPr/>
          <p:nvPr/>
        </p:nvPicPr>
        <p:blipFill>
          <a:blip r:embed="rId1"/>
          <a:stretch/>
        </p:blipFill>
        <p:spPr>
          <a:xfrm>
            <a:off x="5410080" y="2840040"/>
            <a:ext cx="3098880" cy="2286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0" descr=""/>
          <p:cNvPicPr/>
          <p:nvPr/>
        </p:nvPicPr>
        <p:blipFill>
          <a:blip r:embed="rId2"/>
          <a:stretch/>
        </p:blipFill>
        <p:spPr>
          <a:xfrm>
            <a:off x="1263600" y="2840040"/>
            <a:ext cx="3070440" cy="2265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7" descr=""/>
          <p:cNvPicPr/>
          <p:nvPr/>
        </p:nvPicPr>
        <p:blipFill>
          <a:blip r:embed="rId3"/>
          <a:stretch/>
        </p:blipFill>
        <p:spPr>
          <a:xfrm>
            <a:off x="3278160" y="2828880"/>
            <a:ext cx="2563920" cy="2268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6"/>
          <p:cNvSpPr/>
          <p:nvPr/>
        </p:nvSpPr>
        <p:spPr>
          <a:xfrm>
            <a:off x="1251000" y="2833560"/>
            <a:ext cx="7256520" cy="22798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480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45A-858B-4D30-9C86-84C8AA2B95CD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876240" y="6540480"/>
            <a:ext cx="788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CRP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         Elaboración y proyec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355680" y="853920"/>
            <a:ext cx="868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Nivel de Inventarios de Productos Terminados de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Humanst521 BT"/>
              </a:rPr>
              <a:t>(en días de producción y/o ven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531800" y="1346040"/>
            <a:ext cx="6483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1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FD5-8C57-4E8E-B699-0398865C1CF7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768760" y="6540480"/>
            <a:ext cx="599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CRP 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Elabora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146240" y="1081080"/>
            <a:ext cx="7095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Inversión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% 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Situación inicial: La respuesta fis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11" descr=""/>
          <p:cNvPicPr/>
          <p:nvPr/>
        </p:nvPicPr>
        <p:blipFill>
          <a:blip r:embed="rId1"/>
          <a:stretch/>
        </p:blipFill>
        <p:spPr>
          <a:xfrm>
            <a:off x="700200" y="1208160"/>
            <a:ext cx="7672320" cy="5567400"/>
          </a:xfrm>
          <a:prstGeom prst="rect">
            <a:avLst/>
          </a:prstGeom>
          <a:ln w="0">
            <a:noFill/>
          </a:ln>
        </p:spPr>
      </p:pic>
      <p:sp>
        <p:nvSpPr>
          <p:cNvPr id="491" name="11 Elipse"/>
          <p:cNvSpPr/>
          <p:nvPr/>
        </p:nvSpPr>
        <p:spPr>
          <a:xfrm>
            <a:off x="4537080" y="4749840"/>
            <a:ext cx="1103400" cy="842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12 Elipse"/>
          <p:cNvSpPr/>
          <p:nvPr/>
        </p:nvSpPr>
        <p:spPr>
          <a:xfrm>
            <a:off x="5342040" y="1852560"/>
            <a:ext cx="690480" cy="3906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13 Elipse"/>
          <p:cNvSpPr/>
          <p:nvPr/>
        </p:nvSpPr>
        <p:spPr>
          <a:xfrm>
            <a:off x="6408720" y="4095720"/>
            <a:ext cx="690480" cy="388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1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DF3-30C9-4EEA-8300-04AAA63D897D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422440" y="6540480"/>
            <a:ext cx="634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Fuente: Bancos Centrales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PE" sz="1000" spc="-1" strike="noStrike">
                <a:solidFill>
                  <a:srgbClr val="000000"/>
                </a:solidFill>
                <a:latin typeface="Humanst521 BT"/>
              </a:rPr>
              <a:t>Elaboración: Macroconsul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1098720" y="914400"/>
            <a:ext cx="7095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Tasas de Interés 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icture 5"/>
          <p:cNvSpPr/>
          <p:nvPr/>
        </p:nvSpPr>
        <p:spPr>
          <a:xfrm>
            <a:off x="1236600" y="1606680"/>
            <a:ext cx="774072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9" descr=""/>
          <p:cNvPicPr/>
          <p:nvPr/>
        </p:nvPicPr>
        <p:blipFill>
          <a:blip r:embed="rId1"/>
          <a:stretch/>
        </p:blipFill>
        <p:spPr>
          <a:xfrm>
            <a:off x="1336680" y="1490760"/>
            <a:ext cx="707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54"/>
          <p:cNvSpPr/>
          <p:nvPr/>
        </p:nvSpPr>
        <p:spPr>
          <a:xfrm>
            <a:off x="4446720" y="6539040"/>
            <a:ext cx="415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174840" y="808200"/>
            <a:ext cx="2772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Exportacione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H="1">
            <a:off x="154080" y="62064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12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544F-54AD-4291-B7BA-7893318828EC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icture 2"/>
          <p:cNvSpPr/>
          <p:nvPr/>
        </p:nvSpPr>
        <p:spPr>
          <a:xfrm>
            <a:off x="1519200" y="1393920"/>
            <a:ext cx="6058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icture 3"/>
          <p:cNvSpPr/>
          <p:nvPr/>
        </p:nvSpPr>
        <p:spPr>
          <a:xfrm>
            <a:off x="2386080" y="5133960"/>
            <a:ext cx="4514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11 Grupo"/>
          <p:cNvGrpSpPr/>
          <p:nvPr/>
        </p:nvGrpSpPr>
        <p:grpSpPr>
          <a:xfrm>
            <a:off x="5281560" y="1604880"/>
            <a:ext cx="2549520" cy="702000"/>
            <a:chOff x="5281560" y="1604880"/>
            <a:chExt cx="2549520" cy="702000"/>
          </a:xfrm>
        </p:grpSpPr>
        <p:sp>
          <p:nvSpPr>
            <p:cNvPr id="509" name="16 CuadroTexto"/>
            <p:cNvSpPr/>
            <p:nvPr/>
          </p:nvSpPr>
          <p:spPr>
            <a:xfrm>
              <a:off x="5281560" y="160488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31,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17 CuadroTexto"/>
            <p:cNvSpPr/>
            <p:nvPr/>
          </p:nvSpPr>
          <p:spPr>
            <a:xfrm>
              <a:off x="5852880" y="203040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6,3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20 CuadroTexto"/>
            <p:cNvSpPr/>
            <p:nvPr/>
          </p:nvSpPr>
          <p:spPr>
            <a:xfrm>
              <a:off x="6438960" y="169668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9,5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2" name="Picture 13" descr=""/>
          <p:cNvPicPr/>
          <p:nvPr/>
        </p:nvPicPr>
        <p:blipFill>
          <a:blip r:embed="rId1"/>
          <a:stretch/>
        </p:blipFill>
        <p:spPr>
          <a:xfrm>
            <a:off x="1500120" y="1459080"/>
            <a:ext cx="6058080" cy="3600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2433600" y="5154480"/>
            <a:ext cx="45147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11 Grupo"/>
          <p:cNvGrpSpPr/>
          <p:nvPr/>
        </p:nvGrpSpPr>
        <p:grpSpPr>
          <a:xfrm>
            <a:off x="5281560" y="1193760"/>
            <a:ext cx="2746440" cy="1259280"/>
            <a:chOff x="5281560" y="1193760"/>
            <a:chExt cx="2746440" cy="1259280"/>
          </a:xfrm>
        </p:grpSpPr>
        <p:sp>
          <p:nvSpPr>
            <p:cNvPr id="515" name="12 CuadroTexto"/>
            <p:cNvSpPr/>
            <p:nvPr/>
          </p:nvSpPr>
          <p:spPr>
            <a:xfrm>
              <a:off x="5281560" y="1193760"/>
              <a:ext cx="14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8,4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15 CuadroTexto"/>
            <p:cNvSpPr/>
            <p:nvPr/>
          </p:nvSpPr>
          <p:spPr>
            <a:xfrm>
              <a:off x="5986440" y="217656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0,3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16 CuadroTexto"/>
            <p:cNvSpPr/>
            <p:nvPr/>
          </p:nvSpPr>
          <p:spPr>
            <a:xfrm>
              <a:off x="6600960" y="1803240"/>
              <a:ext cx="14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23,0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"/>
          <p:cNvSpPr/>
          <p:nvPr/>
        </p:nvSpPr>
        <p:spPr>
          <a:xfrm>
            <a:off x="3073320" y="660240"/>
            <a:ext cx="2772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Importacione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9"/>
          <p:cNvSpPr/>
          <p:nvPr/>
        </p:nvSpPr>
        <p:spPr>
          <a:xfrm flipH="1">
            <a:off x="154080" y="6094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E90-24B1-4663-977C-1E245823A1C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2305080" y="5243400"/>
            <a:ext cx="4533840" cy="1152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3" descr=""/>
          <p:cNvPicPr/>
          <p:nvPr/>
        </p:nvPicPr>
        <p:blipFill>
          <a:blip r:embed="rId2"/>
          <a:stretch/>
        </p:blipFill>
        <p:spPr>
          <a:xfrm>
            <a:off x="1093680" y="1101600"/>
            <a:ext cx="65912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9"/>
          <p:cNvSpPr/>
          <p:nvPr/>
        </p:nvSpPr>
        <p:spPr>
          <a:xfrm flipH="1">
            <a:off x="154080" y="6094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BCC-C800-487F-B627-6DEA5A18E09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54"/>
          <p:cNvSpPr/>
          <p:nvPr/>
        </p:nvSpPr>
        <p:spPr>
          <a:xfrm>
            <a:off x="4305240" y="652464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91"/>
          <p:cNvSpPr/>
          <p:nvPr/>
        </p:nvSpPr>
        <p:spPr>
          <a:xfrm>
            <a:off x="2548080" y="30240"/>
            <a:ext cx="6476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Ex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12 Rectángulo"/>
          <p:cNvSpPr/>
          <p:nvPr/>
        </p:nvSpPr>
        <p:spPr>
          <a:xfrm>
            <a:off x="3802680" y="2822400"/>
            <a:ext cx="14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Humanst521 BT"/>
              </a:rPr>
              <a:t>Flujo de R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3132000" y="700200"/>
            <a:ext cx="277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Humanst521 BT"/>
              </a:rPr>
              <a:t>(US$ mill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2008080" y="1386000"/>
            <a:ext cx="4962600" cy="13618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1405080" y="3149640"/>
            <a:ext cx="6143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ABE-E547-44B2-88DF-0B067FE3F18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FMI renueva optimi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2152800" y="1171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870120" y="1916280"/>
            <a:ext cx="712944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E54-FE73-48F1-8D8D-C2CD40898CF2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Liquidez y Crédi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3170160" y="909720"/>
            <a:ext cx="277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Humanst521 BT"/>
              </a:rPr>
              <a:t>Sistema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9" descr=""/>
          <p:cNvPicPr/>
          <p:nvPr/>
        </p:nvPicPr>
        <p:blipFill>
          <a:blip r:embed="rId1"/>
          <a:stretch/>
        </p:blipFill>
        <p:spPr>
          <a:xfrm>
            <a:off x="571680" y="1614600"/>
            <a:ext cx="8001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956-BA84-4498-A325-57B921C3971B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Inf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1" descr=""/>
          <p:cNvPicPr/>
          <p:nvPr/>
        </p:nvPicPr>
        <p:blipFill>
          <a:blip r:embed="rId1"/>
          <a:stretch/>
        </p:blipFill>
        <p:spPr>
          <a:xfrm>
            <a:off x="692280" y="784080"/>
            <a:ext cx="8069040" cy="878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8"/>
          <p:cNvSpPr/>
          <p:nvPr/>
        </p:nvSpPr>
        <p:spPr>
          <a:xfrm>
            <a:off x="2427120" y="177624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Inf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 anu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12 CuadroTexto"/>
          <p:cNvSpPr/>
          <p:nvPr/>
        </p:nvSpPr>
        <p:spPr>
          <a:xfrm>
            <a:off x="5403960" y="2494080"/>
            <a:ext cx="24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6600"/>
                </a:solidFill>
                <a:latin typeface="Humanst521 BT"/>
              </a:rPr>
              <a:t>Pro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8 CuadroTexto"/>
          <p:cNvSpPr/>
          <p:nvPr/>
        </p:nvSpPr>
        <p:spPr>
          <a:xfrm>
            <a:off x="5497560" y="3075120"/>
            <a:ext cx="2055600" cy="10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Humanst521 BT"/>
              </a:rPr>
              <a:t>Ligero incremento de la inflación, dentro del rango me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15" descr=""/>
          <p:cNvPicPr/>
          <p:nvPr/>
        </p:nvPicPr>
        <p:blipFill>
          <a:blip r:embed="rId2"/>
          <a:stretch/>
        </p:blipFill>
        <p:spPr>
          <a:xfrm>
            <a:off x="1117440" y="2335320"/>
            <a:ext cx="68216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CF8B-E318-43C7-84E5-F5C3FAF280F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Tipo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2414520" y="190656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S/. por US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31760" y="771480"/>
            <a:ext cx="8928000" cy="10461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26 Grupo"/>
          <p:cNvGrpSpPr/>
          <p:nvPr/>
        </p:nvGrpSpPr>
        <p:grpSpPr>
          <a:xfrm>
            <a:off x="569880" y="2236680"/>
            <a:ext cx="8099280" cy="4307040"/>
            <a:chOff x="569880" y="2236680"/>
            <a:chExt cx="8099280" cy="4307040"/>
          </a:xfrm>
        </p:grpSpPr>
        <p:pic>
          <p:nvPicPr>
            <p:cNvPr id="557" name="Picture 24" descr=""/>
            <p:cNvPicPr/>
            <p:nvPr/>
          </p:nvPicPr>
          <p:blipFill>
            <a:blip r:embed="rId2"/>
            <a:stretch/>
          </p:blipFill>
          <p:spPr>
            <a:xfrm>
              <a:off x="569880" y="2236680"/>
              <a:ext cx="719712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7 Rectángulo"/>
            <p:cNvSpPr/>
            <p:nvPr/>
          </p:nvSpPr>
          <p:spPr>
            <a:xfrm>
              <a:off x="2971080" y="3915720"/>
              <a:ext cx="275400" cy="22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14 CuadroTexto"/>
            <p:cNvSpPr/>
            <p:nvPr/>
          </p:nvSpPr>
          <p:spPr>
            <a:xfrm>
              <a:off x="4937040" y="436392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Hum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16 CuadroTexto"/>
            <p:cNvSpPr/>
            <p:nvPr/>
          </p:nvSpPr>
          <p:spPr>
            <a:xfrm>
              <a:off x="5949720" y="2730240"/>
              <a:ext cx="12668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Dólar pierde valor en mercados intern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17 CuadroTexto"/>
            <p:cNvSpPr/>
            <p:nvPr/>
          </p:nvSpPr>
          <p:spPr>
            <a:xfrm>
              <a:off x="6873840" y="489276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Crisis financi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18 CuadroTexto"/>
            <p:cNvSpPr/>
            <p:nvPr/>
          </p:nvSpPr>
          <p:spPr>
            <a:xfrm>
              <a:off x="7496280" y="380520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Recuperación económ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20 Conector recto de flecha"/>
            <p:cNvCxnSpPr/>
            <p:nvPr/>
          </p:nvCxnSpPr>
          <p:spPr>
            <a:xfrm flipH="1">
              <a:off x="6273720" y="3564000"/>
              <a:ext cx="189720" cy="41148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4" name="22 Conector recto de flecha"/>
            <p:cNvCxnSpPr/>
            <p:nvPr/>
          </p:nvCxnSpPr>
          <p:spPr>
            <a:xfrm flipV="1">
              <a:off x="5393160" y="3507840"/>
              <a:ext cx="100440" cy="78876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5" name="24 Conector recto de flecha"/>
            <p:cNvCxnSpPr/>
            <p:nvPr/>
          </p:nvCxnSpPr>
          <p:spPr>
            <a:xfrm flipH="1" flipV="1">
              <a:off x="6920640" y="4517280"/>
              <a:ext cx="177840" cy="38916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6" name="26 Conector recto de flecha"/>
            <p:cNvCxnSpPr>
              <a:stCxn id="562" idx="1"/>
            </p:cNvCxnSpPr>
            <p:nvPr/>
          </p:nvCxnSpPr>
          <p:spPr>
            <a:xfrm flipH="1">
              <a:off x="7298640" y="4020120"/>
              <a:ext cx="197280" cy="3092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67" name="19 CuadroTexto"/>
            <p:cNvSpPr/>
            <p:nvPr/>
          </p:nvSpPr>
          <p:spPr>
            <a:xfrm>
              <a:off x="3375000" y="391932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L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22 Conector recto de flecha"/>
            <p:cNvCxnSpPr/>
            <p:nvPr/>
          </p:nvCxnSpPr>
          <p:spPr>
            <a:xfrm flipV="1">
              <a:off x="3831840" y="3075480"/>
              <a:ext cx="36000" cy="76464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69" name="20 CuadroTexto"/>
            <p:cNvSpPr/>
            <p:nvPr/>
          </p:nvSpPr>
          <p:spPr>
            <a:xfrm>
              <a:off x="2649240" y="417204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Garc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0" name="22 Conector recto de flecha"/>
            <p:cNvCxnSpPr/>
            <p:nvPr/>
          </p:nvCxnSpPr>
          <p:spPr>
            <a:xfrm flipV="1">
              <a:off x="3105360" y="3305520"/>
              <a:ext cx="78120" cy="78840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571" name="22 CuadroTexto"/>
            <p:cNvSpPr/>
            <p:nvPr/>
          </p:nvSpPr>
          <p:spPr>
            <a:xfrm>
              <a:off x="2136600" y="2306520"/>
              <a:ext cx="118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200" spc="-1" strike="noStrike">
                  <a:solidFill>
                    <a:srgbClr val="000000"/>
                  </a:solidFill>
                  <a:latin typeface="Humanst521 BT"/>
                </a:rPr>
                <a:t>Efecto Montesi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20 Conector recto de flecha"/>
            <p:cNvCxnSpPr/>
            <p:nvPr/>
          </p:nvCxnSpPr>
          <p:spPr>
            <a:xfrm>
              <a:off x="2831400" y="2752200"/>
              <a:ext cx="55800" cy="334080"/>
            </a:xfrm>
            <a:prstGeom prst="straightConnector1">
              <a:avLst/>
            </a:prstGeom>
            <a:ln w="19080">
              <a:solidFill>
                <a:srgbClr val="c00000"/>
              </a:solidFill>
              <a:miter/>
              <a:tailEnd len="med" type="arrow" w="med"/>
            </a:ln>
          </p:spPr>
        </p:cxnSp>
      </p:grpSp>
      <p:cxnSp>
        <p:nvCxnSpPr>
          <p:cNvPr id="573" name="20 Conector recto de flecha"/>
          <p:cNvCxnSpPr/>
          <p:nvPr/>
        </p:nvCxnSpPr>
        <p:spPr>
          <a:xfrm>
            <a:off x="1850040" y="3120840"/>
            <a:ext cx="130680" cy="384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74" name="25 CuadroTexto"/>
          <p:cNvSpPr/>
          <p:nvPr/>
        </p:nvSpPr>
        <p:spPr>
          <a:xfrm>
            <a:off x="1474920" y="2689200"/>
            <a:ext cx="105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risis Brasi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26 CuadroTexto"/>
          <p:cNvSpPr/>
          <p:nvPr/>
        </p:nvSpPr>
        <p:spPr>
          <a:xfrm>
            <a:off x="2552760" y="5138640"/>
            <a:ext cx="105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risis R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22 Conector recto de flecha"/>
          <p:cNvCxnSpPr/>
          <p:nvPr/>
        </p:nvCxnSpPr>
        <p:spPr>
          <a:xfrm flipH="1" flipV="1">
            <a:off x="2045880" y="4811040"/>
            <a:ext cx="480240" cy="4244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DD6-A458-40CB-8191-297092AE463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Resultado económico del Sector Públ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54"/>
          <p:cNvSpPr/>
          <p:nvPr/>
        </p:nvSpPr>
        <p:spPr>
          <a:xfrm>
            <a:off x="4329000" y="6526080"/>
            <a:ext cx="417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MEF.      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2379600" y="111132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Resultado económico del sect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% del P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9" descr=""/>
          <p:cNvPicPr/>
          <p:nvPr/>
        </p:nvPicPr>
        <p:blipFill>
          <a:blip r:embed="rId1"/>
          <a:stretch/>
        </p:blipFill>
        <p:spPr>
          <a:xfrm>
            <a:off x="982800" y="1876320"/>
            <a:ext cx="7154640" cy="4299120"/>
          </a:xfrm>
          <a:prstGeom prst="rect">
            <a:avLst/>
          </a:prstGeom>
          <a:ln w="0">
            <a:noFill/>
          </a:ln>
        </p:spPr>
      </p:pic>
      <p:sp>
        <p:nvSpPr>
          <p:cNvPr id="584" name="8 CuadroTexto"/>
          <p:cNvSpPr/>
          <p:nvPr/>
        </p:nvSpPr>
        <p:spPr>
          <a:xfrm>
            <a:off x="2732040" y="4309920"/>
            <a:ext cx="1949400" cy="459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Humanst521 BT"/>
              </a:rPr>
              <a:t>+ S/. 24,543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10 CuadroTexto"/>
          <p:cNvSpPr/>
          <p:nvPr/>
        </p:nvSpPr>
        <p:spPr>
          <a:xfrm>
            <a:off x="5673600" y="2943360"/>
            <a:ext cx="180504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Humanst521 BT"/>
              </a:rPr>
              <a:t>- S</a:t>
            </a:r>
            <a:r>
              <a:rPr b="1" lang="es-PE" sz="2400" spc="-1" strike="noStrike">
                <a:solidFill>
                  <a:srgbClr val="000000"/>
                </a:solidFill>
                <a:latin typeface="Humanst521 BT"/>
              </a:rPr>
              <a:t>/. 12,500</a:t>
            </a: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028-61C5-4A33-A957-F03F2B765833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Despachos de Ce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2016000" y="814320"/>
            <a:ext cx="544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Despachos de C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Humanst521 BT"/>
              </a:rPr>
              <a:t>(Miles de 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9" descr=""/>
          <p:cNvPicPr/>
          <p:nvPr/>
        </p:nvPicPr>
        <p:blipFill>
          <a:blip r:embed="rId1"/>
          <a:stretch/>
        </p:blipFill>
        <p:spPr>
          <a:xfrm>
            <a:off x="879480" y="1839960"/>
            <a:ext cx="7275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594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167-A0A9-4522-A7CA-D8A05062280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55680" y="853920"/>
            <a:ext cx="86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Encuestas sobre Actividad 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8" descr=""/>
          <p:cNvPicPr/>
          <p:nvPr/>
        </p:nvPicPr>
        <p:blipFill>
          <a:blip r:embed="rId1"/>
          <a:stretch/>
        </p:blipFill>
        <p:spPr>
          <a:xfrm>
            <a:off x="1587600" y="1254240"/>
            <a:ext cx="6018120" cy="50529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54"/>
          <p:cNvSpPr/>
          <p:nvPr/>
        </p:nvSpPr>
        <p:spPr>
          <a:xfrm>
            <a:off x="1341360" y="6526080"/>
            <a:ext cx="717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Basado en encuestas de diversas industrias sobre ventas, inventarios de bienes finales y órdenes de compra 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         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ajustadas por componente estacional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Fuente: BCRP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4CF5-338E-4307-A713-ED0DEFB8D770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24000" y="919080"/>
            <a:ext cx="8681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 Desestaci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Índice 1994=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054"/>
          <p:cNvSpPr/>
          <p:nvPr/>
        </p:nvSpPr>
        <p:spPr>
          <a:xfrm>
            <a:off x="1341360" y="6526080"/>
            <a:ext cx="717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        Elaboración  y estimación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660240" y="1579680"/>
            <a:ext cx="7723440" cy="4678200"/>
          </a:xfrm>
          <a:prstGeom prst="rect">
            <a:avLst/>
          </a:prstGeom>
          <a:ln w="0">
            <a:noFill/>
          </a:ln>
        </p:spPr>
      </p:pic>
      <p:sp>
        <p:nvSpPr>
          <p:cNvPr id="605" name="7 CuadroTexto"/>
          <p:cNvSpPr/>
          <p:nvPr/>
        </p:nvSpPr>
        <p:spPr>
          <a:xfrm>
            <a:off x="1585800" y="607068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400" spc="-1" strike="noStrike">
                <a:solidFill>
                  <a:srgbClr val="000000"/>
                </a:solidFill>
                <a:latin typeface="Humanst521 BT"/>
              </a:rPr>
              <a:t>*Estim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9 Conector recto"/>
          <p:cNvSpPr/>
          <p:nvPr/>
        </p:nvSpPr>
        <p:spPr>
          <a:xfrm flipH="1" flipV="1">
            <a:off x="4208040" y="1663560"/>
            <a:ext cx="11160" cy="3624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1000" y="142560"/>
            <a:ext cx="87346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154080" y="83196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504-59F1-4140-9D22-B1782BBE883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315040" y="1112760"/>
            <a:ext cx="3236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Var. % Trimestral Anualizad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A la EE.UU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054"/>
          <p:cNvSpPr/>
          <p:nvPr/>
        </p:nvSpPr>
        <p:spPr>
          <a:xfrm>
            <a:off x="1341360" y="6526080"/>
            <a:ext cx="717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* Desestacionalizado        Fuente: BCRP        Elaboración  y estimación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760320" y="1103400"/>
            <a:ext cx="3237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2d2db9"/>
                </a:solidFill>
                <a:latin typeface="Humanst521 BT"/>
              </a:rPr>
              <a:t>Producto Brut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(Var. %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i="1" lang="es-PE" sz="1500" spc="-1" strike="noStrike">
                <a:solidFill>
                  <a:srgbClr val="000000"/>
                </a:solidFill>
                <a:latin typeface="Humanst521 BT"/>
              </a:rPr>
              <a:t>A la Peruana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495680" cy="37717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1" descr=""/>
          <p:cNvPicPr/>
          <p:nvPr/>
        </p:nvPicPr>
        <p:blipFill>
          <a:blip r:embed="rId2"/>
          <a:stretch/>
        </p:blipFill>
        <p:spPr>
          <a:xfrm>
            <a:off x="66600" y="2085840"/>
            <a:ext cx="4722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70A-46D9-4EA4-A4E1-64DFED92E501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765520" y="985680"/>
            <a:ext cx="39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Oferta y Demanda Agre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220920" y="1347840"/>
            <a:ext cx="275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. % re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2724120" y="79200"/>
            <a:ext cx="6297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054"/>
          <p:cNvSpPr/>
          <p:nvPr/>
        </p:nvSpPr>
        <p:spPr>
          <a:xfrm>
            <a:off x="4330800" y="650232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1/ Comprende bienes y servicios.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CRP.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11" descr=""/>
          <p:cNvPicPr/>
          <p:nvPr/>
        </p:nvPicPr>
        <p:blipFill>
          <a:blip r:embed="rId1"/>
          <a:stretch/>
        </p:blipFill>
        <p:spPr>
          <a:xfrm>
            <a:off x="1579680" y="1677960"/>
            <a:ext cx="5796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167-13CC-4FB8-B184-8F36F1025911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2724120" y="79200"/>
            <a:ext cx="62974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78d63"/>
                </a:solidFill>
                <a:latin typeface="Humanst521 BT"/>
              </a:rPr>
              <a:t>Sector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573280" y="720720"/>
            <a:ext cx="39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PBI Sec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240000" y="1011240"/>
            <a:ext cx="275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. % real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054"/>
          <p:cNvSpPr/>
          <p:nvPr/>
        </p:nvSpPr>
        <p:spPr>
          <a:xfrm>
            <a:off x="4343400" y="655020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p: Pro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INEI.     Elaboración y proyección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9" descr=""/>
          <p:cNvPicPr/>
          <p:nvPr/>
        </p:nvPicPr>
        <p:blipFill>
          <a:blip r:embed="rId1"/>
          <a:stretch/>
        </p:blipFill>
        <p:spPr>
          <a:xfrm>
            <a:off x="1906560" y="1413000"/>
            <a:ext cx="5153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562-EAE2-477D-B31C-87F979BD1B2C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FMI renueva optimism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144360" y="130176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royecciones de crecimiento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tretch/>
        </p:blipFill>
        <p:spPr>
          <a:xfrm>
            <a:off x="0" y="2149560"/>
            <a:ext cx="4724280" cy="3708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2"/>
          <a:stretch/>
        </p:blipFill>
        <p:spPr>
          <a:xfrm>
            <a:off x="4475160" y="1893960"/>
            <a:ext cx="4383000" cy="3922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8"/>
          <p:cNvSpPr/>
          <p:nvPr/>
        </p:nvSpPr>
        <p:spPr>
          <a:xfrm>
            <a:off x="4548240" y="1287360"/>
            <a:ext cx="442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(Var.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33640" y="3312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678d63"/>
                </a:solidFill>
                <a:latin typeface="Humanst521 BT"/>
              </a:rPr>
              <a:t>Conclusiones</a:t>
            </a:r>
            <a:endParaRPr b="1" lang="en-US" sz="2600" spc="-1" strike="noStrike">
              <a:solidFill>
                <a:srgbClr val="678d63"/>
              </a:solidFill>
              <a:latin typeface="Humanst521 BT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282600" y="669960"/>
            <a:ext cx="86486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Humanst521 BT"/>
              </a:rPr>
              <a:t>200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Crecimiento del PBI por debajo de 1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Caída de exportaciones e inversión privada explican la fuerte desaceleración del PBI, compensada en parte por un mayor gasto públ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Estancamiento del crédito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Déficit fiscal se elevaría a 1.7% del PBI por caída de los ingresos tributarios y mayor inversión publ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Inflación casi nula y política monetaria en moneda nacional expans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Humanst521 BT"/>
              </a:rPr>
              <a:t>2010</a:t>
            </a: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PBI crecería 4.5 con sesgo al al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Estancamiento en el flujo de inversión privada y ligera aceleración del consu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Balanza de pagos superavita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Dólar con presiones a la 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Humanst521 BT"/>
              </a:rPr>
              <a:t>Inflación vuelve a la meta del BCRP, aunque en el rango inferi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154080" y="63180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8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E2D-42EE-4987-985B-3E5F681A5A18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CB7-750C-4D55-8321-36253BF82421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BI países desarroll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658800" y="1319040"/>
            <a:ext cx="7802640" cy="1519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2"/>
          <a:stretch/>
        </p:blipFill>
        <p:spPr>
          <a:xfrm>
            <a:off x="1344600" y="2824200"/>
            <a:ext cx="6421320" cy="37908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284-4DC9-4236-BBF1-18FF08EE1715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Perú vs. BR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878040" y="1343160"/>
            <a:ext cx="7788240" cy="1312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2"/>
          <a:stretch/>
        </p:blipFill>
        <p:spPr>
          <a:xfrm>
            <a:off x="1271520" y="2637000"/>
            <a:ext cx="6708960" cy="39747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4EE-B8DD-4EBB-8FDA-669955AED7A9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conomías  A. Lat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54"/>
          <p:cNvSpPr/>
          <p:nvPr/>
        </p:nvSpPr>
        <p:spPr>
          <a:xfrm>
            <a:off x="4305240" y="6543720"/>
            <a:ext cx="417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FMI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2343240" y="676440"/>
            <a:ext cx="442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3399"/>
                </a:solidFill>
                <a:latin typeface="Humanst521 BT"/>
              </a:rPr>
              <a:t>P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Humanst521 BT"/>
              </a:rPr>
              <a:t>2008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1" descr=""/>
          <p:cNvPicPr/>
          <p:nvPr/>
        </p:nvPicPr>
        <p:blipFill>
          <a:blip r:embed="rId1"/>
          <a:stretch/>
        </p:blipFill>
        <p:spPr>
          <a:xfrm>
            <a:off x="1581120" y="2919240"/>
            <a:ext cx="5761080" cy="3402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"/>
          <p:cNvPicPr/>
          <p:nvPr/>
        </p:nvPicPr>
        <p:blipFill>
          <a:blip r:embed="rId2"/>
          <a:stretch/>
        </p:blipFill>
        <p:spPr>
          <a:xfrm>
            <a:off x="1146240" y="1330200"/>
            <a:ext cx="68929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2" descr=""/>
          <p:cNvPicPr/>
          <p:nvPr/>
        </p:nvPicPr>
        <p:blipFill>
          <a:blip r:embed="rId1"/>
          <a:stretch/>
        </p:blipFill>
        <p:spPr>
          <a:xfrm>
            <a:off x="858960" y="1096920"/>
            <a:ext cx="7448400" cy="5680080"/>
          </a:xfrm>
          <a:prstGeom prst="rect">
            <a:avLst/>
          </a:prstGeom>
          <a:ln w="0">
            <a:noFill/>
          </a:ln>
        </p:spPr>
      </p:pic>
      <p:sp>
        <p:nvSpPr>
          <p:cNvPr id="390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E323-86C0-4944-8C2F-DF46EA3A4D85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Actividad Manufacturera en recup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54"/>
          <p:cNvSpPr/>
          <p:nvPr/>
        </p:nvSpPr>
        <p:spPr>
          <a:xfrm>
            <a:off x="1557360" y="6591240"/>
            <a:ext cx="71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 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2584440" y="971640"/>
            <a:ext cx="3940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Índices de compras de insumos fabr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8 CuadroTexto"/>
          <p:cNvSpPr/>
          <p:nvPr/>
        </p:nvSpPr>
        <p:spPr>
          <a:xfrm>
            <a:off x="5587920" y="1487520"/>
            <a:ext cx="187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Humanst521 BT"/>
              </a:rPr>
              <a:t>Compras se exp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10 CuadroTexto"/>
          <p:cNvSpPr/>
          <p:nvPr/>
        </p:nvSpPr>
        <p:spPr>
          <a:xfrm>
            <a:off x="2354400" y="378000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Humanst521 BT"/>
              </a:rPr>
              <a:t>Compras se contra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D305-E84C-40E0-A67C-A405921B436E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54"/>
          <p:cNvSpPr/>
          <p:nvPr/>
        </p:nvSpPr>
        <p:spPr>
          <a:xfrm>
            <a:off x="1557360" y="6591240"/>
            <a:ext cx="717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BEA y Reuters       Elaboración : Macroconsult. 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57120" y="1359000"/>
            <a:ext cx="3940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PBI Trime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 % Trimestral Anualizad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1"/>
          <a:stretch/>
        </p:blipFill>
        <p:spPr>
          <a:xfrm>
            <a:off x="166680" y="2025720"/>
            <a:ext cx="4621320" cy="35971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5027760" y="1328760"/>
            <a:ext cx="3940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99"/>
                </a:solidFill>
                <a:latin typeface="Humanst521 BT"/>
              </a:rPr>
              <a:t>Indicadores de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Humanst521 BT"/>
              </a:rPr>
              <a:t>(Var % Anua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4775040" y="1911240"/>
            <a:ext cx="4368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0" descr=""/>
          <p:cNvPicPr/>
          <p:nvPr/>
        </p:nvPicPr>
        <p:blipFill>
          <a:blip r:embed="rId1"/>
          <a:stretch/>
        </p:blipFill>
        <p:spPr>
          <a:xfrm>
            <a:off x="-55440" y="1900080"/>
            <a:ext cx="4883040" cy="4027680"/>
          </a:xfrm>
          <a:prstGeom prst="rect">
            <a:avLst/>
          </a:prstGeom>
          <a:ln w="0">
            <a:noFill/>
          </a:ln>
        </p:spPr>
      </p:pic>
      <p:sp>
        <p:nvSpPr>
          <p:cNvPr id="408" name="7 Rectángulo"/>
          <p:cNvSpPr/>
          <p:nvPr/>
        </p:nvSpPr>
        <p:spPr>
          <a:xfrm>
            <a:off x="3070080" y="4033800"/>
            <a:ext cx="2937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"/>
          <p:cNvSpPr/>
          <p:nvPr/>
        </p:nvSpPr>
        <p:spPr>
          <a:xfrm flipH="1">
            <a:off x="154080" y="665280"/>
            <a:ext cx="88358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9 Marcador de número de diapositiva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742-0FEC-443E-B2D4-58FBCF95A04A}" type="slidenum">
              <a:rPr b="1" lang="es-ES" sz="11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863720" y="101520"/>
            <a:ext cx="7157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78d63"/>
                </a:solidFill>
                <a:latin typeface="Humanst521 BT"/>
              </a:rPr>
              <a:t>Estados Uni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054"/>
          <p:cNvSpPr/>
          <p:nvPr/>
        </p:nvSpPr>
        <p:spPr>
          <a:xfrm>
            <a:off x="4272120" y="6554880"/>
            <a:ext cx="41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Humanst521 BT"/>
              </a:rPr>
              <a:t>Fuente: Reuters.        Elaboración : Macroconsul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262080" y="973080"/>
            <a:ext cx="37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Índice de Precio de Viviendas Case-Sh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8 CuadroTexto"/>
          <p:cNvSpPr/>
          <p:nvPr/>
        </p:nvSpPr>
        <p:spPr>
          <a:xfrm>
            <a:off x="3282840" y="4208400"/>
            <a:ext cx="123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Humanst521 BT"/>
              </a:rPr>
              <a:t>Cuatro meses de cr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5178600" y="1004760"/>
            <a:ext cx="35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Humanst521 BT"/>
              </a:rPr>
              <a:t>Purchasing Managers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2" descr=""/>
          <p:cNvPicPr/>
          <p:nvPr/>
        </p:nvPicPr>
        <p:blipFill>
          <a:blip r:embed="rId2"/>
          <a:stretch/>
        </p:blipFill>
        <p:spPr>
          <a:xfrm>
            <a:off x="4761000" y="1614600"/>
            <a:ext cx="4383000" cy="4251240"/>
          </a:xfrm>
          <a:prstGeom prst="rect">
            <a:avLst/>
          </a:prstGeom>
          <a:ln w="0">
            <a:noFill/>
          </a:ln>
        </p:spPr>
      </p:pic>
      <p:sp>
        <p:nvSpPr>
          <p:cNvPr id="417" name="13 Flecha derecha"/>
          <p:cNvSpPr/>
          <p:nvPr/>
        </p:nvSpPr>
        <p:spPr>
          <a:xfrm rot="18712200">
            <a:off x="3789000" y="3900240"/>
            <a:ext cx="528840" cy="1983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12 CuadroTexto"/>
          <p:cNvSpPr/>
          <p:nvPr/>
        </p:nvSpPr>
        <p:spPr>
          <a:xfrm>
            <a:off x="7175520" y="1994040"/>
            <a:ext cx="16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Humanst521 BT"/>
              </a:rPr>
              <a:t>Se expan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13 CuadroTexto"/>
          <p:cNvSpPr/>
          <p:nvPr/>
        </p:nvSpPr>
        <p:spPr>
          <a:xfrm>
            <a:off x="5549760" y="4064040"/>
            <a:ext cx="16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Humanst521 BT"/>
              </a:rPr>
              <a:t>Se contra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3:53:24Z</dcterms:created>
  <dc:creator>Juan Pablo Ramos</dc:creator>
  <dc:description/>
  <dc:language>en-US</dc:language>
  <cp:lastModifiedBy>Fernando Herrera</cp:lastModifiedBy>
  <cp:lastPrinted>2004-10-06T18:57:00Z</cp:lastPrinted>
  <dcterms:modified xsi:type="dcterms:W3CDTF">2009-12-06T00:45:52Z</dcterms:modified>
  <cp:revision>10713</cp:revision>
  <dc:subject/>
  <dc:title>Conversatorio de Macroconsu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unto">
    <vt:lpwstr>Relanzamiento</vt:lpwstr>
  </property>
  <property fmtid="{D5CDD505-2E9C-101B-9397-08002B2CF9AE}" pid="3" name="Comprobado por">
    <vt:lpwstr>MCOM</vt:lpwstr>
  </property>
  <property fmtid="{D5CDD505-2E9C-101B-9397-08002B2CF9AE}" pid="4" name="Editor">
    <vt:lpwstr>VRey Sánchez</vt:lpwstr>
  </property>
  <property fmtid="{D5CDD505-2E9C-101B-9397-08002B2CF9AE}" pid="5" name="Elaborado por">
    <vt:lpwstr>Dipanaque</vt:lpwstr>
  </property>
  <property fmtid="{D5CDD505-2E9C-101B-9397-08002B2CF9AE}" pid="6" name="Origen">
    <vt:lpwstr>Dpto. de publicaciones</vt:lpwstr>
  </property>
</Properties>
</file>