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Kittyclock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B6159-2229-4715-A532-FA8726B6B10E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A59AF-A370-4669-888D-CB2751C97136}" type="slidenum">
              <a:rPr b="0" lang="es-ES_trad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2DEC-5EBC-4CCE-A2D2-51CE5BE9D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B1E9-1ED2-4F50-A4CB-A3FD2EFC7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0E40-A823-461E-B905-BD1B6402F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C1EA-D543-4AC9-8B97-53CAF3447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0614-F3CA-4C6B-9FDE-C369CFEE5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B704-C7AA-4B24-A25C-E0AFD99B9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049B-2E9A-494E-96E0-AD03B6AEF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0E7F-2E31-46B0-81AA-F044D0A5A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597A-4121-4E4A-8D9A-5B0663DE1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7379-48F6-472F-8087-1FAE0CCB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3877-7497-4418-BBA3-DE6AADE7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23C2-AFE7-48A1-B51F-22BF7CDD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laboutiquedelpowerpoint.com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8C505-0CC4-4266-8BF9-7511026F5AB7}" type="slidenum">
              <a:rPr b="0" lang="es-ES_trad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6 Rectángulo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04120" y="5632560"/>
            <a:ext cx="2414520" cy="1225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Kittyclock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2 Imagen" descr="784px-Esposas_de_Matrimonio_1.jpg"/>
          <p:cNvPicPr/>
          <p:nvPr/>
        </p:nvPicPr>
        <p:blipFill>
          <a:blip r:embed="rId1"/>
          <a:stretch/>
        </p:blipFill>
        <p:spPr>
          <a:xfrm>
            <a:off x="1619280" y="1725480"/>
            <a:ext cx="6176880" cy="47278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8000" y="549000"/>
            <a:ext cx="9144000" cy="11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e5ffff"/>
                </a:solidFill>
                <a:latin typeface="Tahoma"/>
              </a:rPr>
              <a:t>El Matri-Moño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Ya hace 18 meses que no hablo con ella...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Y es que no me gusta interrumpirla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504360" y="1700280"/>
            <a:ext cx="788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Dos secretos para mantener vivo el matrimonio </a:t>
            </a:r>
            <a:br>
              <a:rPr sz="3200"/>
            </a:b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1. Cuando estés errado, admítelo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2. Cuando tengas la razón, cállate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Nash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87280" y="1500120"/>
            <a:ext cx="867744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Algunas personas nos preguntan el secreto de nuestro largo matrimoni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Nos reservamos tiempo para ir a un restaurant dos veces por seman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Luz de velas, cena, música suave y bail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Ella va los jueves y yo los viernes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Henny Youngman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13840" y="1981080"/>
            <a:ext cx="8929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La manera mas efectiva de recordar el cumpleaños de tu esposa es olvidarlo una sola vez</a:t>
            </a:r>
            <a:br>
              <a:rPr sz="3200"/>
            </a:b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Anónimo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Una buena esposa siempre perdona a su marido cuando está equivocada.</a:t>
            </a:r>
            <a:br>
              <a:rPr sz="3200"/>
            </a:b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Milton Berl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El matrimonio es una relación entre dos personas, en la que una siempre tiene razón,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Tahoma"/>
              </a:rPr>
              <a:t>y la otra es el marid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Las ex-esposas te trataran el resto de tus días como si aun lo fueran</a:t>
            </a:r>
            <a:br>
              <a:rPr sz="3200"/>
            </a:b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Oscar Said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Siempre que salimos mi mujer y yo, caminamos tomados de la mano...</a:t>
            </a:r>
            <a:br>
              <a:rPr sz="3200"/>
            </a:b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Si la suelto, se pone a comprar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Ella tiene una batidora eléctrica, una tostadora eléctrica, una máquina de hacer pan eléctrica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Un día me dijo: "Caramba, tenemos un montón de aparatos eléctricos y no tenemos nada para sentarnos..."</a:t>
            </a:r>
            <a:br>
              <a:rPr sz="3200"/>
            </a:b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Pensé comprar una SILLA ELÉCTRICA, desgraciadamente me contuve..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85480" y="1981080"/>
            <a:ext cx="8643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Mi esposa y yo fuimos felices por veinte año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Después nos conocimos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Rodney Dangerfield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Por todos los medios, cásate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Si tu mujer es buena, serás feliz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Si tu mujer es mala, serás un filósofo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Sócrate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Cuando un hombre te roba tu muje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no hay mejor venganza que dejar que se la quede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Sacha Guitry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Tengo que admitir que nuestra última discusión fue culpa mía. Cuando ella me preguntó: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-"Que estás viendo en la tele...?"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Yo le contesté: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-"Bastante polvo. Deberías limpiar"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0" y="929880"/>
            <a:ext cx="9144000" cy="566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Un día se estropeó nuestra cortadora de césped (eléctrica).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Mi mujer me colmaba la paciencia dándome a entender que yo debería arreglarla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Por mi parte, siempre acababa teniendo otras cosas mas importantes que hacer, tipo: lavar el coche, hacer un informe, en fin, lo que para mi parecía más important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Un día ella encontró un muy sutil modo de convencerme: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uando llegué a casa, me la encontré agachada en el césped, que estaba muy alto, recortándolo con su tijerita de costura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141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Eso me llegó al alma, me emocioné y decidí entrar en la casa y volví después de unos minutos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llevándole su cepillo de diente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Se lo entregué, y se me ocurrió decirle: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"Cuando termines con el césped, podrías también barrer el patio“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Después de aquello, no me acuerdo de nada. Estoy en blanco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Los médicos dicen que volveré a andar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pero que cojearé el resto de mi vida!!!</a:t>
            </a: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La gran pregunta... que no he podido responder es…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¿Qué quiere una mujer?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Sigmund Freud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6 CuadroTexto"/>
          <p:cNvSpPr/>
          <p:nvPr/>
        </p:nvSpPr>
        <p:spPr>
          <a:xfrm rot="21141600">
            <a:off x="1344960" y="1452600"/>
            <a:ext cx="7202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MANDALE ESTO A TODAS LAS MUJERES  PARA QUE SE RIAN MUCHO......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Y A AQUELLOS HOMBRES CON SENTIDO DEL HUMOR QUE PUEDAN MANEJARLO!!!!!!!</a:t>
            </a:r>
            <a:br>
              <a:rPr sz="3600"/>
            </a:b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Yo me casé con doña "Tengo Razón".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Solo que no sabía que su apellido era "Siempre"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¿Sabes qué hice antes de casarme?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lo que quería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Henny Youngman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Después del casamiento, marido y mujer se vuelven caras de una misma moneda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no pueden verse, pero siguen juntos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Hemant Joshi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13840" y="1981080"/>
            <a:ext cx="8929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Las mujeres nos inspiran grandes cosas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y no nos dejan conseguirlas.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Duma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Recientemente leí que el amor es una cuestión de química. </a:t>
            </a:r>
            <a:br>
              <a:rPr sz="3200"/>
            </a:b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Debe ser por eso que mi esposa me trata como si fuera un desecho tóxico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David Bissonett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13840" y="1981080"/>
            <a:ext cx="8929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Crucé unas palabras con mi mujer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y ella cruzó unos párrafos conmigo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Anónimo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No me preocupa el terrorismo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stuve casado por diez año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Sam Kinis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16:21:15Z</dcterms:created>
  <dc:creator>L´etor MDQ</dc:creator>
  <dc:description/>
  <dc:language>en-US</dc:language>
  <cp:lastModifiedBy>Default</cp:lastModifiedBy>
  <dcterms:modified xsi:type="dcterms:W3CDTF">2010-10-23T16:09:43Z</dcterms:modified>
  <cp:revision>25</cp:revision>
  <dc:subject/>
  <dc:title>El Matri-Moño</dc:title>
</cp:coreProperties>
</file>