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Kittyclock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5DDA-DEA1-4831-9E1A-998C67392C4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EC9B-D6B8-4D4E-A51F-B9158A70FB7B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6DA-CF56-4ACB-8561-2EEC0D0B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C1C-B1BD-4270-8583-0F50E445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A12-AD3B-455B-A635-AA00DFDA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2E2-9CD4-4F28-9BBB-99A97E38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C2F-D9A4-4426-8187-76FC1AE7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E99-5AFF-4E5C-A241-A674C623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5C7-FEB7-4E68-90CB-D370609C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AE2-7ABC-4CA0-816A-223137F4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A90-8471-4CB0-A776-7A561B5D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9F1-BD51-4F34-BD24-82526BE1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063-0A45-4453-BF21-9366FBEC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C52-DC37-4DD7-A549-890D2F7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laboutiquedelpowerpoint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F6CA-5DBB-4515-A436-E34B8E2C538A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6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04120" y="5632560"/>
            <a:ext cx="2414520" cy="12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Kittyclo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 Imagen" descr="784px-Esposas_de_Matrimonio_1.jpg"/>
          <p:cNvPicPr/>
          <p:nvPr/>
        </p:nvPicPr>
        <p:blipFill>
          <a:blip r:embed="rId1"/>
          <a:stretch/>
        </p:blipFill>
        <p:spPr>
          <a:xfrm>
            <a:off x="1619280" y="1725480"/>
            <a:ext cx="6176880" cy="472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91440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ffff"/>
                </a:solidFill>
                <a:latin typeface="Tahoma"/>
              </a:rPr>
              <a:t>El Matri-Moño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a hace 18 meses que no hablo con ella..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 es que no me gusta interrumpirl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4360" y="1700280"/>
            <a:ext cx="788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os secretos para mantener vivo el matrimonio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1. Cuando estés errado, admítelo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2. Cuando tengas la razón, cállat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as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7280" y="1500120"/>
            <a:ext cx="867744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lgunas personas nos preguntan el secreto de nuestro largo matrimoni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s reservamos tiempo para ir a un restaurant dos veces por sema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uz de velas, cena, música suave y bai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la va los jueves y yo los vierne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nny Youngma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 manera mas efectiva de recordar el cumpleaños de tu esposa es olvidarlo una sola vez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nónimo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Una buena esposa siempre perdona a su marido cuando está equivocada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Milton Ber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 matrimonio es una relación entre dos personas, en la que una siempre tiene razón,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y la otra es el mar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s ex-esposas te trataran el resto de tus días como si aun lo fueran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Oscar Said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empre que salimos mi mujer y yo, caminamos tomados de la mano..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 la suelto, se pone a comprar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la tiene una batidora eléctrica, una tostadora eléctrica, una máquina de hacer pan eléctrica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Un día me dijo: "Caramba, tenemos un montón de aparatos eléctricos y no tenemos nada para sentarnos..."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Pensé comprar una SILLA ELÉCTRICA, desgraciadamente me contuve..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85480" y="198108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Mi esposa y yo fuimos felices por veinte añ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spués nos conocimo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Rodney Dangerfiel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r todos los medios, cásat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i tu mujer es buena, serás feliz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i tu mujer es mala, serás un filósofo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ócrat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Cuando un hombre te roba tu muj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 hay mejor venganza que dejar que se la qued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acha Guitry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Tengo que admitir que nuestra última discusión fue culpa mía. Cuando ella me preguntó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-"Que estás viendo en la tele...?"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o le contesté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-"Bastante polvo. Deberías limpiar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929880"/>
            <a:ext cx="91440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n día se estropeó nuestra cortadora de césped (eléctrica)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Mi mujer me colmaba la paciencia dándome a entender que yo debería arreglarl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or mi parte, siempre acababa teniendo otras cosas mas importantes que hacer, tipo: lavar el coche, hacer un informe, en fin, lo que para mi parecía más importa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n día ella encontró un muy sutil modo de convencerme: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ando llegué a casa, me la encontré agachada en el césped, que estaba muy alto, recortándolo con su tijerita de costur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so me llegó al alma, me emocioné y decidí entrar en la casa y volví después de unos minuto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evándole su cepillo de dient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e lo entregué, y se me ocurrió decirle: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"Cuando termines con el césped, podrías también barrer el patio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espués de aquello, no me acuerdo de nada. Estoy en blan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os médicos dicen que volveré a andar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ero que cojearé el resto de mi vida!!!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 gran pregunta... que no he podido responder es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¿Qué quiere una mujer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gmund Freu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6 CuadroTexto"/>
          <p:cNvSpPr/>
          <p:nvPr/>
        </p:nvSpPr>
        <p:spPr>
          <a:xfrm rot="21141600">
            <a:off x="1344960" y="1452600"/>
            <a:ext cx="720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MANDALE ESTO A TODAS LAS MUJERES  PARA QUE SE RIAN MUCHO....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Y A AQUELLOS HOMBRES CON SENTIDO DEL HUMOR QUE PUEDAN MANEJARLO!!!!!!!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o me casé con doña "Tengo Razón"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olo que no sabía que su apellido era "Siempre"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¿Sabes qué hice antes de casarme?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o que querí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nny Youngma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spués del casamiento, marido y mujer se vuelven caras de una misma moned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 pueden verse, pero siguen junto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mant Joshi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Las mujeres nos inspiran grandes cosas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y no nos dejan conseguirlas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Duma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Recientemente leí que el amor es una cuestión de química.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be ser por eso que mi esposa me trata como si fuera un desecho tóxico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avid Bissonett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Crucé unas palabras con mi mujer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y ella cruzó unos párrafos conmigo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Anónim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No me preocupa el terrorism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uve casado por diez añ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am Kinis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6:21:15Z</dcterms:created>
  <dc:creator>L´etor MDQ</dc:creator>
  <dc:description/>
  <dc:language>en-US</dc:language>
  <cp:lastModifiedBy>Default</cp:lastModifiedBy>
  <dcterms:modified xsi:type="dcterms:W3CDTF">2010-10-23T16:09:43Z</dcterms:modified>
  <cp:revision>25</cp:revision>
  <dc:subject/>
  <dc:title>El Matri-Moño</dc:title>
</cp:coreProperties>
</file>