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Unchained%20melody.wav" ContentType="audio/x-wav"/>
  <Override PartName="/ppt/media/image25.jpeg" ContentType="image/jpeg"/>
  <Override PartName="/ppt/media/image3.jpeg" ContentType="image/jpeg"/>
  <Override PartName="/ppt/media/image37.jpeg" ContentType="image/jpeg"/>
  <Override PartName="/ppt/media/image24.jpeg" ContentType="image/jpeg"/>
  <Override PartName="/ppt/media/image59.png" ContentType="image/png"/>
  <Override PartName="/ppt/media/image7.jpeg" ContentType="image/jpeg"/>
  <Override PartName="/ppt/media/image38.jpeg" ContentType="image/jpeg"/>
  <Override PartName="/ppt/media/image6.jpeg" ContentType="image/jpeg"/>
  <Override PartName="/ppt/media/image18.png" ContentType="image/png"/>
  <Override PartName="/ppt/media/image42.jpeg" ContentType="image/jpeg"/>
  <Override PartName="/ppt/media/image19.jpeg" ContentType="image/jpeg"/>
  <Override PartName="/ppt/media/image50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40.jpeg" ContentType="image/jpeg"/>
  <Override PartName="/ppt/media/image1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1.jpeg" ContentType="image/jpeg"/>
  <Override PartName="/ppt/media/image51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28.jpeg" ContentType="image/jpeg"/>
  <Override PartName="/ppt/media/image1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30.jpeg" ContentType="image/jpeg"/>
  <Override PartName="/ppt/media/image2.jpeg" ContentType="image/jpeg"/>
  <Override PartName="/ppt/media/image31.png" ContentType="image/png"/>
  <Override PartName="/ppt/media/image32.jpeg" ContentType="image/jpeg"/>
  <Override PartName="/ppt/media/image33.jpeg" ContentType="image/jpeg"/>
  <Override PartName="/ppt/media/image34.jpeg" ContentType="image/jpeg"/>
  <Override PartName="/ppt/media/image35.png" ContentType="image/png"/>
  <Override PartName="/ppt/media/image43.jpeg" ContentType="image/jpeg"/>
  <Override PartName="/ppt/media/image9.jpeg" ContentType="image/jpeg"/>
  <Override PartName="/ppt/media/image36.png" ContentType="image/pn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BE91-29E9-440E-99A7-233C00018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E339-E1F2-4F3C-B2E8-0D4007C3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26AD-B424-4B70-8FF6-E773E2371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8F6A-7046-48BA-9CE0-19D38B6AD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5278-29B9-44AF-9351-EEBD9706E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98CD-8FA1-4908-BDE8-AA4D05D7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5224-FF3E-4902-BAA7-EF19F1D7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CD3C0-4840-405F-A64B-268A488B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76B8-2736-433F-A7F3-DF02C07F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B4BE-77FC-469C-B59A-0EE7B18A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F5EC3-FB27-410C-AE5B-2F3893A1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04D6-AE64-4925-A2E5-1E9FB900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C1F5-B495-4307-B409-AACF9DDD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4EA0-2C72-477C-9E25-6C1E1F5F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8F88-D9E0-4906-A1EE-29C58E8F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4C8F-15BD-410C-90DB-C4C86B37E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5D85-37A0-4A36-B0D5-B101C0B40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2615-BE46-49C7-96CA-8252FBEA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F127-284E-4A4F-B409-22EED6AA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9765-C7B7-49EC-9A90-21F0E818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5827-BFC8-4A0A-AAC9-0898EB7D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0086-F118-4B17-9145-15169900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792F-A6B1-406A-8664-0165638F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0282-1A05-427F-BD71-80F4A9D1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B4EC-746A-40D4-97B1-FA8CBE5A3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55E2-37C3-4BF3-B897-1A218027B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Unchained%20melody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bp0.blogger.com/_n_awoWAwYeA/Rsn3-R0Mi2I/AAAAAAAAAIw/8EOqaxCAsks/s1600-h/King+Kong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8000" spc="-1" strike="noStrike">
                <a:solidFill>
                  <a:srgbClr val="000066"/>
                </a:solidFill>
                <a:latin typeface="Times New Roman"/>
              </a:rPr>
              <a:t>Te </a:t>
            </a:r>
            <a:r>
              <a:rPr b="1" i="1" lang="es-MX" sz="8000" spc="-1" strike="noStrike">
                <a:solidFill>
                  <a:srgbClr val="ffff00"/>
                </a:solidFill>
                <a:latin typeface="Times New Roman"/>
              </a:rPr>
              <a:t>acuerdas de…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  <p:sndAc>
      <p:stSnd>
        <p:snd r:embed="rId2" name="Unchained%20melody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90720" y="301680"/>
            <a:ext cx="7086600" cy="63198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15840" y="0"/>
            <a:ext cx="9217080" cy="69087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4665600" cy="66294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5283360" cy="68914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411280" y="-23760"/>
            <a:ext cx="3970440" cy="68817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477720"/>
            <a:ext cx="8915400" cy="6093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4956480" cy="68914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341440" y="228600"/>
            <a:ext cx="4457880" cy="64008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916360" y="0"/>
            <a:ext cx="2504880" cy="69152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300400" y="228600"/>
            <a:ext cx="4543200" cy="6400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286000" y="228600"/>
            <a:ext cx="4543560" cy="64008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4332240" cy="3249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4760640" cy="3159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396200" cy="68817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311560" y="254160"/>
            <a:ext cx="4520880" cy="6349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465280" y="228600"/>
            <a:ext cx="4614840" cy="63244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333520" y="219240"/>
            <a:ext cx="4772160" cy="63338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79640" y="-44280"/>
            <a:ext cx="5373720" cy="69022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5146560" cy="68929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9640" y="2637000"/>
            <a:ext cx="8305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encil"/>
                <a:ea typeface="Courier New"/>
              </a:rPr>
              <a:t>Quién no quisiera regresar a aquel tiempo en el qu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27432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Stencil"/>
                <a:ea typeface="Courier New"/>
              </a:rPr>
              <a:t>El peor castigo y condena era que te hicieran escribir cien veces "No debo...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27432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oper Black"/>
                <a:ea typeface="Courier New"/>
              </a:rPr>
              <a:t>Las discusiones terminaban con "piedra, papel o tijera"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27432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oper Black"/>
                <a:ea typeface="Courier New"/>
              </a:rPr>
              <a:t>No era raro que tuvieras dos o tres "mejores" amigos/as.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788000" y="1125360"/>
            <a:ext cx="3163680" cy="4689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826920" y="549360"/>
            <a:ext cx="3757680" cy="53355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666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oper Black"/>
                <a:ea typeface="Courier New"/>
              </a:rPr>
              <a:t>No había nada que fuera mas lindo y "prohibido" que jugar en la cal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25146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oper Black"/>
                <a:ea typeface="Courier New"/>
              </a:rPr>
              <a:t>"Ladrones y Policías" era sólo un juego y  mucho mas divertido ser ladrón que policí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27432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  <a:ea typeface="Courier New"/>
              </a:rPr>
              <a:t>Para viajar desde la tierra al cielo, solo tenias que jugar a que eras "astronauta o superhéroe"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25146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  <a:ea typeface="Courier New"/>
              </a:rPr>
              <a:t>Era fácil jugar un partido de voleibol sin red o de football sin arco y las reglas no importaban demasiad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259092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oper Black"/>
                <a:ea typeface="Courier New"/>
              </a:rPr>
              <a:t>Lo peor que te podía ocurrir con el sexo opuesto era, que te rechazaran si jugaban con "autitos" o a la "comidita"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48428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Cooper Black"/>
                <a:ea typeface="Courier New"/>
              </a:rPr>
              <a:t>Nunca faltaba la moneda debajo de la almohada, que te dejaba El "Ratoncito Perez" a cambio de tus dientes de lech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25909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oper Black"/>
                <a:ea typeface="Courier New"/>
              </a:rPr>
              <a:t>Descubrías tus nuevas capacidades y habilidades a causa de un “A que tu no puedes?"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9890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oper Black"/>
                <a:ea typeface="Courier New"/>
              </a:rPr>
              <a:t>Los "globos de agua" eran la más moderna, eficiente y poderosa "arma" que se había inventad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266688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  <a:ea typeface="Courier New"/>
              </a:rPr>
              <a:t>Para transformar tu "bici" en una poderosa "moto" solo había que colocarle un globo o bomba entre los radios de la rued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16000" y="-47520"/>
            <a:ext cx="6797520" cy="6905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3519360" cy="41068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859280" y="1989000"/>
            <a:ext cx="3317760" cy="33195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578200" cy="68770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348520" cy="68943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'Gigante' poster"/>
          <p:cNvPicPr/>
          <p:nvPr/>
        </p:nvPicPr>
        <p:blipFill>
          <a:blip r:embed="rId1"/>
          <a:stretch/>
        </p:blipFill>
        <p:spPr>
          <a:xfrm>
            <a:off x="2411280" y="0"/>
            <a:ext cx="4516560" cy="68673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484360" y="0"/>
            <a:ext cx="4505400" cy="68914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7035840" cy="6912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68360" y="-27000"/>
            <a:ext cx="5067360" cy="6885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195640" y="0"/>
            <a:ext cx="4516200" cy="68994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39600" y="0"/>
            <a:ext cx="9183600" cy="68882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343240" y="171360"/>
            <a:ext cx="4797360" cy="64580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5800" y="106668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Bold"/>
              </a:rPr>
              <a:t>¿ Cómo logramos sobrevivir 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3124080"/>
            <a:ext cx="7924680" cy="26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ffff"/>
                </a:solidFill>
                <a:latin typeface="Showcard Gothic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Showcard Gothic"/>
              </a:rPr>
              <a:t>Si vivis</a:t>
            </a:r>
            <a:r>
              <a:rPr b="0" lang="en-US" sz="2200" spc="-1" strike="noStrike">
                <a:solidFill>
                  <a:srgbClr val="000000"/>
                </a:solidFill>
                <a:latin typeface="Showcard Gothic"/>
              </a:rPr>
              <a:t>te de chico en los años 60, o 70... ¿Cómo hiciste para sobrevivir?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wcard Gothic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Showcard Gothic"/>
              </a:rPr>
              <a:t>Acaso eres una persona sobrenatural, o sencillamente todopoderosa. Aquí vas a ver las cosas peligrosas que tuvimos que pasar para llegar al siglo XXI. Realmente si uno lo piensa, se da cuenta que es un verdadero milagro </a:t>
            </a:r>
            <a:r>
              <a:rPr b="0" lang="en-US" sz="2200" spc="-1" strike="noStrike">
                <a:solidFill>
                  <a:srgbClr val="ffff00"/>
                </a:solidFill>
                <a:latin typeface="Showcard Gothic"/>
              </a:rPr>
              <a:t>seguir</a:t>
            </a:r>
            <a:r>
              <a:rPr b="0" lang="en-US" sz="2200" spc="-1" strike="noStrike">
                <a:solidFill>
                  <a:srgbClr val="000000"/>
                </a:solidFill>
                <a:latin typeface="Showcard Gothic"/>
              </a:rPr>
              <a:t> viviend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43000" y="324000"/>
            <a:ext cx="7162920" cy="6534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57200" y="762120"/>
            <a:ext cx="830592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Elepha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Elephant"/>
              </a:rPr>
              <a:t>Tomábamos agua de la manguera del jardín o de la llave del colegio y no de una botella de agua mine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Elephant"/>
              </a:rPr>
              <a:t>2.   Andábamos en autos que no tenían cinturon de seguridad ni bolsas de aire. Ir en la parte de atrás de una camioneta era un paseo especial, especialmente en carnavales y todavía lo recorda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Elephant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Elephant"/>
              </a:rPr>
              <a:t>Nuestras cunas estaban pintadas con brillantes colores de pintura a base de plo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Elephant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Elephant"/>
              </a:rPr>
              <a:t>Cuando andábamos en bicicleta no usábamos ca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6212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0920" y="144360"/>
            <a:ext cx="868680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Elephant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Elephant"/>
              </a:rPr>
              <a:t>Pasábamos horas y horas contruyendo carritos de chatarra y los que tenian suerte de tener calles inclinadas, los echaban a rodar calle abajo y, en la mitad, se acordaban que no tenían frenos. Después de varios choques con los postes aprendíamos a resolver el probl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Elephant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Elephant"/>
              </a:rPr>
              <a:t>Saliamos a jugar con la unica condición de regresar antes del anochec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Elephant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Elephant"/>
              </a:rPr>
              <a:t>El colegio duraba hasta el mediodia, llegabamos a  casa a almorzar y en la tarde en un horario ya determinado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Elephant"/>
              </a:rPr>
              <a:t>8.  No teniamos celular… asi que nadie podia ubicarnos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68580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9. Nos cortábamos, nos quebrábamos un hueso, perdíamos un diente, pero nunca hubo demanda por estos accidentes. Nadie tenía la culpa sino nosotros mism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205740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0.  Comíamos pan con mantequilla y dulce, tomábamos bebidas con azúcar  y nunca teníamos sobrepe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3124080"/>
            <a:ext cx="83818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1.  Compartíamos una bebida entre cuatro, tomando de la misma botella  y nadie se moría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por 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03848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2.  No teníamos Playstation, Nintendo 64, X boxes, Juegos de video, 99 canales de televisión en cable, videograbadoras, sonido surround, celulares personales, computadoras, fax y menos Internet. Solo teníamos AMIG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57150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3. ¡Ahi, afuera!, En el mundo cruel, sin guardián. ¿Cómo lo hacíamos?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500"/>
                            </p:stCondLst>
                            <p:childTnLst>
                              <p:par>
                                <p:cTn id="68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80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50920" y="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4</a:t>
            </a: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. 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Salíamos, nos subíamos a la bicicleta o caminabamos a la casa del vecino, tocábamos el timbre, o sencillamente entrábamos sin golpear y allí estaba nuestro amigo y salíamos a jug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1557360"/>
            <a:ext cx="8534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5. Jugábamos con una pelota de trapo o de medias robadas a nuestras mamás o de goma, que comprábamos con cuotas de todos. Formábamos dos equipos y no todos llegaban a ser elegidos, pero no nos agarraba ningún traum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3645000"/>
            <a:ext cx="84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6. Algunos estudiantes no éramos tan brillantes como otros y cuando perdías un año, lo repetías. Nadie te mandaba al psicólogo, nadie tenía dislexia, simplemente repetías y tenías una segunda oportun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30532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7. Si en una fiesta (que era en alguna casa),  se te pasaban unas pocas cervezas, tus amigos te dejaban en la puerta de tu casa, tocaban el timbre y salían corrie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3000"/>
                            </p:stCondLst>
                            <p:childTnLst>
                              <p:par>
                                <p:cTn id="91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68360" y="333360"/>
            <a:ext cx="777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18. Si por casualidad cometias alguna cagada y terminabas en cana, llegaba tu viejo y te sacaba la cresta. Nadie de Derechos Humanos presentaba un recurso de Amparo en tu favor y los pacos se mataban de la ri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304812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19.  Cuando tus viejos te retaban por alguna cosa, no los demandabas por violencia intrafamiliar; sencillamente te quedabas callado y pensabas “que cagadita me mande´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53737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20. Teníamos libertad, fracasos, éxitos y aprendimos a manejarl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3520" y="77796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¿TÚ ERES UNO DE ESA GENERAC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2133720"/>
            <a:ext cx="8686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 Black"/>
              </a:rPr>
              <a:t>Si lo eres, entonces envía este mensaje a tus conocidos de tu misma generación o a la gente más joven para que sepa como éramos 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191120"/>
            <a:ext cx="876312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 Black"/>
              </a:rPr>
              <a:t>Seguro que dirán que eramos aburridos,  pero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¡¡¡Puta que eramos felices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298600" y="0"/>
            <a:ext cx="4710240" cy="66294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8001000" cy="58957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3800" y="747720"/>
            <a:ext cx="7013520" cy="53625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669160" cy="55353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3:23:04Z</dcterms:created>
  <dc:creator>Nancy Maria del Pilar Gómez</dc:creator>
  <dc:description/>
  <dc:language>en-US</dc:language>
  <cp:lastModifiedBy>Usuario</cp:lastModifiedBy>
  <dcterms:modified xsi:type="dcterms:W3CDTF">2008-02-08T22:00:26Z</dcterms:modified>
  <cp:revision>47</cp:revision>
  <dc:subject/>
  <dc:title>Presentación de PowerPoint</dc:title>
</cp:coreProperties>
</file>