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Unchained%20melody.wav" ContentType="audio/x-wav"/>
  <Override PartName="/ppt/media/image25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59.png" ContentType="image/png"/>
  <Override PartName="/ppt/media/image7.jpeg" ContentType="image/jpeg"/>
  <Override PartName="/ppt/media/image38.jpeg" ContentType="image/jpeg"/>
  <Override PartName="/ppt/media/image6.jpeg" ContentType="image/jpeg"/>
  <Override PartName="/ppt/media/image18.png" ContentType="image/png"/>
  <Override PartName="/ppt/media/image42.jpeg" ContentType="image/jpeg"/>
  <Override PartName="/ppt/media/image19.jpeg" ContentType="image/jpeg"/>
  <Override PartName="/ppt/media/image50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40.jpeg" ContentType="image/jpeg"/>
  <Override PartName="/ppt/media/image1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9.jpeg" ContentType="image/jpeg"/>
  <Override PartName="/ppt/media/image36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E05-9DED-4BF4-A52C-A8A40E42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D5C-EB1F-4437-8C8E-EFF98510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908-B7DF-4828-84AC-86B6633B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777-77DF-4009-91EC-C30D9060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0270-552A-4133-8DB3-45FA8F11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C81C-55F7-494B-A6BF-116E29B4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A1A6-D4C7-411D-83E3-2B73CDDC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51EC-2630-4088-A010-7A45C1D4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9A75-2C14-4236-96F8-BA72C673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5FC9-E73B-4B1D-AA1F-9F6EF8BB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84EC-11B8-4532-91EA-04675638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0A3-37FD-4F87-8506-3CEDF6C4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4AA8-22F8-4FF4-B111-5D94A6B5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FA57-7B3D-4B9B-8C73-3065942C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088D-A3F6-4EE2-9856-D45EFA2E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FA1D-CEB5-445D-A5A5-38AC812C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18DA-85B0-4922-95C9-2089662F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552-CDEC-4782-B6C7-26831A5A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D15-17BD-48F0-BCB7-62476A1D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7D5-3F92-4039-B3DD-DD0A8D8A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A26-5DE0-451E-B05E-7F7D9794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EFD-858A-4D29-82BE-41558952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ABB-B423-495C-BDAB-152C6164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ACB-EDCC-4E35-8258-99106B83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6B67-F0B5-4C07-8545-C67C1AAA3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9C68-B055-4CB9-851C-BF78D30EA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Unchained%20melody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bp0.blogger.com/_n_awoWAwYeA/Rsn3-R0Mi2I/AAAAAAAAAIw/8EOqaxCAsks/s1600-h/King+Kong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0" spc="-1" strike="noStrike">
                <a:solidFill>
                  <a:srgbClr val="000066"/>
                </a:solidFill>
                <a:latin typeface="Times New Roman"/>
              </a:rPr>
              <a:t>Te </a:t>
            </a:r>
            <a:r>
              <a:rPr b="1" i="1" lang="es-MX" sz="8000" spc="-1" strike="noStrike">
                <a:solidFill>
                  <a:srgbClr val="ffff00"/>
                </a:solidFill>
                <a:latin typeface="Times New Roman"/>
              </a:rPr>
              <a:t>acuerdas de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Unchained%20melod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301680"/>
            <a:ext cx="7086600" cy="6319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9217080" cy="6908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665600" cy="6629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283360" cy="6891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11280" y="-23760"/>
            <a:ext cx="3970440" cy="6881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477720"/>
            <a:ext cx="8915400" cy="6093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956480" cy="6891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341440" y="228600"/>
            <a:ext cx="445788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2504880" cy="6915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00400" y="228600"/>
            <a:ext cx="4543200" cy="6400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0" y="228600"/>
            <a:ext cx="454356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332240" cy="3249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760640" cy="3159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396200" cy="6881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11560" y="254160"/>
            <a:ext cx="4520880" cy="6349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465280" y="228600"/>
            <a:ext cx="461484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33520" y="219240"/>
            <a:ext cx="4772160" cy="6333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-44280"/>
            <a:ext cx="5373720" cy="6902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146560" cy="6892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26370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encil"/>
                <a:ea typeface="Courier New"/>
              </a:rPr>
              <a:t>Quién no quisiera regresar a aquel tiempo en el qu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743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Stencil"/>
                <a:ea typeface="Courier New"/>
              </a:rPr>
              <a:t>El peor castigo y condena era que te hicieran escribir cien veces "No debo...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743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oper Black"/>
                <a:ea typeface="Courier New"/>
              </a:rPr>
              <a:t>Las discusiones terminaban con "piedra, papel o tijera"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743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oper Black"/>
                <a:ea typeface="Courier New"/>
              </a:rPr>
              <a:t>No era raro que tuvieras dos o tres "mejores" amigos/as.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3163680" cy="4689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3757680" cy="5335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66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oper Black"/>
                <a:ea typeface="Courier New"/>
              </a:rPr>
              <a:t>No había nada que fuera mas lindo y "prohibido" que jugar en la cal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5146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oper Black"/>
                <a:ea typeface="Courier New"/>
              </a:rPr>
              <a:t>"Ladrones y Policías" era sólo un juego y  mucho mas divertido ser ladrón que policí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7432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  <a:ea typeface="Courier New"/>
              </a:rPr>
              <a:t>Para viajar desde la tierra al cielo, solo tenias que jugar a que eras "astronauta o superhéroe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5146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  <a:ea typeface="Courier New"/>
              </a:rPr>
              <a:t>Era fácil jugar un partido de voleibol sin red o de football sin arco y las reglas no importaban demasia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5909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oper Black"/>
                <a:ea typeface="Courier New"/>
              </a:rPr>
              <a:t>Lo peor que te podía ocurrir con el sexo opuesto era, que te rechazaran si jugaban con "autitos" o a la "comidita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484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oper Black"/>
                <a:ea typeface="Courier New"/>
              </a:rPr>
              <a:t>Nunca faltaba la moneda debajo de la almohada, que te dejaba El "Ratoncito Perez" a cambio de tus dientes de lech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590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oper Black"/>
                <a:ea typeface="Courier New"/>
              </a:rPr>
              <a:t>Descubrías tus nuevas capacidades y habilidades a causa de un “A que tu no puedes?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989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oper Black"/>
                <a:ea typeface="Courier New"/>
              </a:rPr>
              <a:t>Los "globos de agua" eran la más moderna, eficiente y poderosa "arma" que se había inventa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6668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  <a:ea typeface="Courier New"/>
              </a:rPr>
              <a:t>Para transformar tu "bici" en una poderosa "moto" solo había que colocarle un globo o bomba entre los radios de la rue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-47520"/>
            <a:ext cx="6797520" cy="6905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519360" cy="4106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3317760" cy="3319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578200" cy="6877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348520" cy="6894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'Gigante' poster"/>
          <p:cNvPicPr/>
          <p:nvPr/>
        </p:nvPicPr>
        <p:blipFill>
          <a:blip r:embed="rId1"/>
          <a:stretch/>
        </p:blipFill>
        <p:spPr>
          <a:xfrm>
            <a:off x="2411280" y="0"/>
            <a:ext cx="4516560" cy="6867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505400" cy="6891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035840" cy="6912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68360" y="-27000"/>
            <a:ext cx="5067360" cy="6885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95640" y="0"/>
            <a:ext cx="4516200" cy="6899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88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343240" y="171360"/>
            <a:ext cx="4797360" cy="6458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0666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¿ Cómo logramos sobrevivir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79246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ff"/>
                </a:solidFill>
                <a:latin typeface="Showcard Gothic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Showcard Gothic"/>
              </a:rPr>
              <a:t>Si vivis</a:t>
            </a:r>
            <a:r>
              <a:rPr b="0" lang="en-US" sz="2200" spc="-1" strike="noStrike">
                <a:solidFill>
                  <a:srgbClr val="000000"/>
                </a:solidFill>
                <a:latin typeface="Showcard Gothic"/>
              </a:rPr>
              <a:t>te de chico en los años 60, o 70... ¿Cómo hiciste para sobrevivir?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wcard Gothic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Showcard Gothic"/>
              </a:rPr>
              <a:t>Acaso eres una persona sobrenatural, o sencillamente todopoderosa. Aquí vas a ver las cosas peligrosas que tuvimos que pasar para llegar al siglo XXI. Realmente si uno lo piensa, se da cuenta que es un verdadero milagro </a:t>
            </a:r>
            <a:r>
              <a:rPr b="0" lang="en-US" sz="2200" spc="-1" strike="noStrike">
                <a:solidFill>
                  <a:srgbClr val="ffff00"/>
                </a:solidFill>
                <a:latin typeface="Showcard Gothic"/>
              </a:rPr>
              <a:t>seguir</a:t>
            </a:r>
            <a:r>
              <a:rPr b="0" lang="en-US" sz="2200" spc="-1" strike="noStrike">
                <a:solidFill>
                  <a:srgbClr val="000000"/>
                </a:solidFill>
                <a:latin typeface="Showcard Gothic"/>
              </a:rPr>
              <a:t> vivien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324000"/>
            <a:ext cx="7162920" cy="6534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762120"/>
            <a:ext cx="83059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Elepha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Elephant"/>
              </a:rPr>
              <a:t>Tomábamos agua de la manguera del jardín o de la llave del colegio y no de una botella de agua mi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</a:rPr>
              <a:t>2.   Andábamos en autos que no tenían cinturon de seguridad ni bolsas de aire. Ir en la parte de atrás de una camioneta era un paseo especial, especialmente en carnavales y todavía lo recorda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Elephan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</a:rPr>
              <a:t>Nuestras cunas estaban pintadas con brillantes colores de pintura a base de plo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Elephan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Elephant"/>
              </a:rPr>
              <a:t>Cuando andábamos en bicicleta no usábamos ca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144360"/>
            <a:ext cx="86868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Elephan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Elephant"/>
              </a:rPr>
              <a:t>Pasábamos horas y horas contruyendo carritos de chatarra y los que tenian suerte de tener calles inclinadas, los echaban a rodar calle abajo y, en la mitad, se acordaban que no tenían frenos. Después de varios choques con los postes aprendíamos a resolver el probl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Elephant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Elephant"/>
              </a:rPr>
              <a:t>Saliamos a jugar con la unica condición de regresar antes del anochec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Elephan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Elephant"/>
              </a:rPr>
              <a:t>El colegio duraba hasta el mediodia, llegabamos a  casa a almorzar y en la tarde en un horario ya determinad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Elephant"/>
              </a:rPr>
              <a:t>8.  No teniamos celular… asi que nadie podia ubicarnos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6858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9. Nos cortábamos, nos quebrábamos un hueso, perdíamos un diente, pero nunca hubo demanda por estos accidentes. Nadie tenía la culpa sino nosotros mism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0574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0.  Comíamos pan con mantequilla y dulce, tomábamos bebidas con azúcar  y nunca teníamos sobrep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124080"/>
            <a:ext cx="8381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1.  Compartíamos una bebida entre cuatro, tomando de la misma botella  y nadie se morí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por 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0384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2.  No teníamos Playstation, Nintendo 64, X boxes, Juegos de video, 99 canales de televisión en cable, videograbadoras, sonido surround, celulares personales, computadoras, fax y menos Internet. Solo teníamos AMIG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5715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3. ¡Ahi, afuera!, En el mundo cruel, sin guardián. ¿Cómo lo hacíamos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alíamos, nos subíamos a la bicicleta o caminabamos a la casa del vecino, tocábamos el timbre, o sencillamente entrábamos sin golpear y allí estaba nuestro amigo y salíamos a jug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55736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5. Jugábamos con una pelota de trapo o de medias robadas a nuestras mamás o de goma, que comprábamos con cuotas de todos. Formábamos dos equipos y no todos llegaban a ser elegidos, pero no nos agarraba ningún trau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364500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6. Algunos estudiantes no éramos tan brillantes como otros y cuando perdías un año, lo repetías. Nadie te mandaba al psicólogo, nadie tenía dislexia, simplemente repetías y tenías una segunda oportun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30532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7. Si en una fiesta (que era en alguna casa),  se te pasaban unas pocas cervezas, tus amigos te dejaban en la puerta de tu casa, tocaban el timbre y salían corrie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33336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18. Si por casualidad cometias alguna cagada y terminabas en cana, llegaba tu viejo y te sacaba la cresta. Nadie de Derechos Humanos presentaba un recurso de Amparo en tu favor y los pacos se mataban de la ri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0481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19.  Cuando tus viejos te retaban por alguna cosa, no los demandabas por violencia intrafamiliar; sencillamente te quedabas callado y pensabas “que cagadita me mande´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537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20. Teníamos libertad, fracasos, éxitos y aprendimos a manejar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77796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¿TÚ ERES UNO DE ESA GENERAC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13372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Si lo eres, entonces envía este mensaje a tus conocidos de tu misma generación o a la gente más joven para que sepa como éramos 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191120"/>
            <a:ext cx="87631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Seguro que dirán que eramos aburridos,  pero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¡¡¡Puta que eramos felice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98600" y="0"/>
            <a:ext cx="4710240" cy="6629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001000" cy="5895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3800" y="747720"/>
            <a:ext cx="7013520" cy="5362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69160" cy="5535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3:23:04Z</dcterms:created>
  <dc:creator>Nancy Maria del Pilar Gómez</dc:creator>
  <dc:description/>
  <dc:language>en-US</dc:language>
  <cp:lastModifiedBy>Usuario</cp:lastModifiedBy>
  <dcterms:modified xsi:type="dcterms:W3CDTF">2008-02-08T22:00:26Z</dcterms:modified>
  <cp:revision>47</cp:revision>
  <dc:subject/>
  <dc:title>Presentación de PowerPoint</dc:title>
</cp:coreProperties>
</file>