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GURIDI%20Amorosa%20146%20kb.wav" ContentType="audio/x-wav"/>
  <Override PartName="/ppt/media/image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60FE-3B54-4F57-ACE3-34483F253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07E2-807F-433D-B9A3-975119D21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67FC-5E32-4CD4-88FC-CEC29C804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AB8D-47B9-4150-82D7-67BB0B841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2E34-EC76-42A0-8ED0-226633758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D049-8441-4C86-B1FE-A73EC51AF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BBAD-DA34-4737-9DB2-A4060DD94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A943-0D01-4E1B-9CE5-EC61EE64B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E6C3-1215-497C-AE28-EFDF781BF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08CA-21AF-4CF6-920E-1EF356EA3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F0F4-580B-4ABF-AC27-03C2503AE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BE5B-5B82-4AA9-B7DD-72A081CC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DC27A-CEB0-4A59-9FB2-3E3B1299AA9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GURIDI%20Amorosa%20146%20kb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María%20sinagoga.Zeffirelli%20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71629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odo lo que rodea a María irradia un perfume de humil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No es trueno, es susurr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No es capital, sino alde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No es templo, sino establ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No ricos vestidos, sino pañ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5486400"/>
            <a:ext cx="5345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Comic Sans MS"/>
              </a:rPr>
              <a:t>Lucas 1, 39-45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Comic Sans MS"/>
              </a:rPr>
              <a:t>4 domingo Adviento C / 20-12-09.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Comic Sans MS"/>
              </a:rPr>
              <a:t>Autora: Asun Gutiérre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Comic Sans MS"/>
              </a:rPr>
              <a:t>Música: Jesús Guridi. Díez melodías vascas: Amoros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2" name="GURIDI%20Amorosa%20146%20kb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3874" t="0" r="7015" b="0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685800"/>
            <a:ext cx="3657600" cy="1618560"/>
          </a:xfrm>
          <a:prstGeom prst="rect">
            <a:avLst/>
          </a:prstGeom>
          <a:solidFill>
            <a:srgbClr val="8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baseline="30000">
                <a:solidFill>
                  <a:srgbClr val="ffff00"/>
                </a:solidFill>
                <a:latin typeface="Georgia"/>
              </a:rPr>
              <a:t>39</a:t>
            </a:r>
            <a:r>
              <a:rPr b="0" lang="es-ES" sz="2000" spc="-1" strike="noStrike">
                <a:solidFill>
                  <a:srgbClr val="ffff00"/>
                </a:solidFill>
                <a:latin typeface="Georgia"/>
              </a:rPr>
              <a:t> Por aquellos días,</a:t>
            </a:r>
            <a:br>
              <a:rPr sz="2000"/>
            </a:br>
            <a:r>
              <a:rPr b="0" lang="es-ES" sz="2000" spc="-1" strike="noStrike">
                <a:solidFill>
                  <a:srgbClr val="ffff00"/>
                </a:solidFill>
                <a:latin typeface="Georgia"/>
              </a:rPr>
              <a:t>María se puso en camino</a:t>
            </a:r>
            <a:br>
              <a:rPr sz="2000"/>
            </a:br>
            <a:r>
              <a:rPr b="0" lang="es-ES" sz="2000" spc="-1" strike="noStrike">
                <a:solidFill>
                  <a:srgbClr val="ffff00"/>
                </a:solidFill>
                <a:latin typeface="Georgia"/>
              </a:rPr>
              <a:t> y se fue de prisa a la montaña, a una ciudad de Judá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5562720"/>
            <a:ext cx="8915400" cy="1191240"/>
          </a:xfrm>
          <a:prstGeom prst="rect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Jesús dirá de sí mismo que es el camino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ero todavía no es capaz de caminar solo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 su primer viaje es llevado por su joven madre, portadora de la Buena Notic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ría camina de prisa. El impulso del Espíritu no entiende de lentitud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Madre%20invita%20a%20Magdalena.RdeReye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28600" y="22860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ff9900"/>
                </a:solidFill>
                <a:latin typeface="Georgia"/>
              </a:rPr>
              <a:t>40</a:t>
            </a:r>
            <a:r>
              <a:rPr b="0" lang="en-US" sz="2000" spc="-1" strike="noStrike">
                <a:solidFill>
                  <a:srgbClr val="ff9900"/>
                </a:solidFill>
                <a:latin typeface="Georgia"/>
              </a:rPr>
              <a:t> Entró en casa de Zacarías y saludó a Isabel. </a:t>
            </a:r>
            <a:r>
              <a:rPr b="0" lang="en-US" sz="2000" spc="-1" strike="noStrike" baseline="30000">
                <a:solidFill>
                  <a:srgbClr val="ff9900"/>
                </a:solidFill>
                <a:latin typeface="Georgia"/>
              </a:rPr>
              <a:t>41</a:t>
            </a:r>
            <a:r>
              <a:rPr b="0" lang="en-US" sz="2000" spc="-1" strike="noStrike">
                <a:solidFill>
                  <a:srgbClr val="ff9900"/>
                </a:solidFill>
                <a:latin typeface="Georgia"/>
              </a:rPr>
              <a:t> Y cuando Isabel oyó el saludo de María, el niño empezó a dar saltos en su sen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809880"/>
            <a:ext cx="556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Nnosotr@s también vivimos la situación 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de María e Isabel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Puede ser que, como a Isabel,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 alguien nos visite, ponga en marcha la vida 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que cada un@ llevamos dentro 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y provoque en nosotr@s una reacción 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de inmensa alegrí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Puede ser que, como María, 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alguna de nuestras actitudes provoque alegría, esperanza, ganas de vivir ... en l@s demá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María%20Isabel%20embaraz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80880" y="0"/>
            <a:ext cx="8229600" cy="100872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ntonces Isabel, llena del Espíritu Santo,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eorgia"/>
              </a:rPr>
              <a:t>42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exclamó a grandes voces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–Bendita tú entre las mujeres y bendito el fruto de tu vientr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4800600"/>
            <a:ext cx="8915400" cy="2014200"/>
          </a:xfrm>
          <a:prstGeom prst="rect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Bendecir es hablar bien, ensalzar, alabar, glorificar. 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Ojalá estemos dispuest@s a bendecir con frecuencia, a decir bien a Dios, a las personas, a todas las criaturas.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Si tratamos de mirar con los ojos de Jesús, veremos la bondad de todo lo que recibimos y brotará en nosotr@s el deseo de bendeci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¿Se podría decir de cada un@ de nosotr@s que donde estamos, donde vamos, llevamos alegría, bendición, esperanza, Buena Notici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MANOS%20ACOGID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04920" y="228600"/>
            <a:ext cx="8839080" cy="100872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ffffff"/>
                </a:solidFill>
                <a:latin typeface="Georgia"/>
              </a:rPr>
              <a:t>43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Pero ¿cómo es posible que la madre de mi Señor venga a visitarme? </a:t>
            </a:r>
            <a:br>
              <a:rPr sz="2000"/>
            </a:br>
            <a:r>
              <a:rPr b="0" lang="en-US" sz="2000" spc="-1" strike="noStrike" baseline="30000">
                <a:solidFill>
                  <a:srgbClr val="ffffff"/>
                </a:solidFill>
                <a:latin typeface="Georgia"/>
              </a:rPr>
              <a:t>44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Porque en cuanto oí tu saludo, el niño empezó a dar saltos de alegría en mi sen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4191120"/>
            <a:ext cx="9144000" cy="283716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Todo el plan salvífico de Dios está en manos de dos sencillas mujeres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María quiere estar cerca de Isabel, quiere abrazar, captar el brillo de sus ojos,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los latidos de su corazón, escuchar su voz, ofrecer y aceptar ayuda, compartir los detalles sencillos y cotidianos: la mirada, la cercanía, el silencio, la escucha,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la palabra adecuada, el ánimo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El mismo Espíritu nos mueve hoy a hacer de nuestra vida un encuentro. ¿Con quié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¿Qué tipo de encuentros tengo con l@s demás? ¿Superficiales? ¿Interesados? ¿Profundos y humanos a nivel de amistad, de solidaridad, de fe? ¿Contagio alegría e ilusión a las personas con las que me encuentr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33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3520" y="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ffff00"/>
                </a:solidFill>
                <a:latin typeface="Georgia"/>
              </a:rPr>
              <a:t>45 </a:t>
            </a:r>
            <a:r>
              <a:rPr b="0" lang="en-US" sz="2000" spc="-1" strike="noStrike">
                <a:solidFill>
                  <a:srgbClr val="ffff00"/>
                </a:solidFill>
                <a:latin typeface="Georgia"/>
              </a:rPr>
              <a:t>¡Dichosa tú que has creído! Porque lo que te ha dicho el Señor se cumplirá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María%20Isabel.Hardwicke%202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8104320" cy="3657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50292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La fe siempre es motivo de alegría. Uno de los rasgos más característicos de ella es saber acudir junto a quien necesita nuestra presencia. Acompañar a vivir. Es el lenguaje que todo el mundo entiende: la fe traducida en disponibilidad, acogida, cercanía, servicio y solidarida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Dios cumple siempre sus promesas, contando con nosotr@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ORILLA%20ternura5rz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80880" y="762120"/>
            <a:ext cx="8763120" cy="586620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Hoy, Señor, queremos cantarte con nuestra voz humana,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con nuestras palabras torpes y libres y nuestro lenguaje de calle,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que tú tan bien entiendes, porque la comunicación es posi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Por tu presencia viva en esta aventura,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 te damos gracias con fuerza y ternura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Por todos los pequeños y grandes caminos de comunicación,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diálogo y encuentro:por la palabra y el gesto con la mano abierta,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por la sonrisa, el guiño, el beso y las lágrimas, por el abrazo redondo,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red de todas las comunicaciones,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te damos gracias con fuerza y ternu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Por los ojos que saben decir lo que llevan dentro,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 por los pies que nos acercan a los demás,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por el cuerpo que expresa nuestros sentimientos,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por los corazones que laten al unísono,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por quien con su amor nos comunica vida,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te damos gracias con fuerza y ternura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Porque nos hemos puesto en camino a toda prisa,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porque hemos entrado en casa del pobre, porque tú estás con nosotros siempre, como prenda y señal de toda comunicación,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te damos gracias con fuerza y ternura. </a:t>
            </a:r>
            <a:r>
              <a:rPr b="0" lang="es-ES" sz="1800" spc="-1" strike="noStrike">
                <a:solidFill>
                  <a:srgbClr val="000000"/>
                </a:solidFill>
                <a:latin typeface="Monotype Corsiva"/>
              </a:rPr>
              <a:t>(Ulibarri Fl.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600200" y="228600"/>
            <a:ext cx="33624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96633"/>
                    </a:gs>
                    <a:gs pos="100000">
                      <a:srgbClr val="ffcc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Con fuerza y ternura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96633"/>
                  </a:gs>
                  <a:gs pos="100000">
                    <a:srgbClr val="ffcc99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2T09:47:16Z</dcterms:created>
  <dc:creator> Asun Gutiérrez</dc:creator>
  <dc:description/>
  <dc:language>en-US</dc:language>
  <cp:lastModifiedBy>Usuario</cp:lastModifiedBy>
  <dcterms:modified xsi:type="dcterms:W3CDTF">2009-12-16T17:56:15Z</dcterms:modified>
  <cp:revision>21</cp:revision>
  <dc:subject>jeasam@gmail.com</dc:subject>
  <dc:title>Adviento 4 domingo C</dc:title>
</cp:coreProperties>
</file>