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EL%20PASTOR%20SOLITARIO.wav" ContentType="audio/x-wav"/>
  <Override PartName="/ppt/media/image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AEB9-87B4-489D-9655-836CB05CF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D14A-3EA0-43C6-A0ED-9D5FDACB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EB67-3516-471B-A595-3AE12B0C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650B-66F9-4B7D-B679-1E7F2298FE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E4542-5F23-4473-94E7-F4008B94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722AD-4685-4CC3-89FB-9F7DAD3E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AFAAF-E54A-4FC3-84C2-E405A80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B4CBF-4967-4751-BA06-B6A8B239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FD4CE-EECA-448D-8AEE-BD43B7D8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A776D-DE72-4728-9AB0-A65B0583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EBBD5-DE24-4F24-B177-413274A4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8FA1-8631-4F87-BBAF-4527A093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3F2C9-638A-46C1-ADA8-9DE74EA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1CC53-B263-4F39-AF50-6FD615ED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8C120-1730-454B-9593-85A59F7B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39ECC-3413-430D-B7C3-8F9FED23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A9CD7-7D71-45A7-BB6F-44401EA3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D996-9A78-40C5-AAA9-4D867FD0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6F30-173B-4BE3-B9AA-394B3E02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2BC6-9C2D-4571-BDB3-012CCDB2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DFEE-DEA7-46E8-8D86-BBE8DBA7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6CCF-483D-46FA-89CE-2B4FBD36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BA93-2B5B-4FE8-AC80-1142F51F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0C88-297D-46DF-A3C9-A1E33ADF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EBE1-C723-4436-88C6-30660249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6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3A80-0CA3-4310-BB59-905B385162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L%20PASTOR%20SOLITARI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33"/>
          <p:cNvSpPr/>
          <p:nvPr/>
        </p:nvSpPr>
        <p:spPr>
          <a:xfrm>
            <a:off x="0" y="380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ORACIÓN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QUE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CAUSÓ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CONTROVERSIA....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 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EL%20PASTOR%20SOLITARI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0880" y="1125360"/>
            <a:ext cx="3733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6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48769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826920" y="781560"/>
            <a:ext cx="37213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sta Iglesia recibe ahora peticiones del mundo entero, la India, África, Asia, para que el Padre Farinello ore por ellos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L Negro Gonzalez Oro famoso Conductor radial difundió esta oración en su emisión de radio y ha recibido una acogida mucho  más favorable por esta emisión, que por cualquier otr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80880" y="68580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3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1055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539640" y="1794960"/>
            <a:ext cx="36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 la ayuda de Dios, quisiéramos que esta oración se derrame sobre el mundo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y que nazca en nuestros corazones el deseo de llegar a ser una Tierr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bajo la mirada de Dios".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638680" y="692280"/>
            <a:ext cx="3505320" cy="5333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755640" y="3292560"/>
            <a:ext cx="468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55640" y="1863360"/>
            <a:ext cx="446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Si envías esta oración a tus amigos en un espacio de 30 días el mundo entero lo habrá  leíd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Si no tenemos el valor de mantenernos firmes en  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nuestras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convicciones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, entonces caeremos delante de  cualquier otro argumento, o enemigo.    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762120" y="449568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838080" y="5256720"/>
            <a:ext cx="75614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Oración polemica  </a:t>
            </a:r>
            <a:br>
              <a:rPr sz="2000"/>
            </a:b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Tal vez quieras leer esta oración que fue dich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 la apertura del 129 Período Ordinario de Sesiones del año 201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48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5029200" y="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uando se le pidió al religioso padre Luis Farinello que relizara la oración de apertura en el Senado de la Nacion, todo el mundo esperaba  una oración ordinaria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ero esto es lo que ellos escucharon: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733920" y="2602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289080"/>
            <a:ext cx="91440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"Señor, venimos delante de Ti este día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ara pedirte  perdón y para pedir tu dirección.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abemos que tu Palabra dice: 'Maldición a aquellos que  llaman "bien" lo que está "mal" y es exactamente lo que hemos hecho.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emos perdido el equilibrio espiritual y hemos cambiado nuestros valores.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438280" y="22860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048120" y="989640"/>
            <a:ext cx="58672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explotado al pobre y hemos llamado a eso ”distribucion de la riqueza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recompensado la pereza y la hemos llamado ”Planes  Sociales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matado a nuestros hijos que aun no han nacido y lo hemos llamado "la libre elección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dejado que maten y roben y lo hemos llamado ”derechos humanos"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09480" y="29988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477120" y="1600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611280" y="1337400"/>
            <a:ext cx="5761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12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sido negligentes al disciplinar a nuestros hijos y lo hemos llamado "desarrollar su autoestima".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sido corruptos y abusado del poder y hemos llamado a eso: "Política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codiciado los bienes de nuestro vecino y a eso lo hemos llamado "tener ambición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contaminado las ondas de radio y televisión con  mucha grosería y pornografía y lo  hemos llamado "libertad de expresión"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62120" y="838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400960" y="14479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52g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772400" y="2819520"/>
            <a:ext cx="743040" cy="76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52g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7010280" y="3200400"/>
            <a:ext cx="74304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52g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6172200" y="36576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755640" y="1850400"/>
            <a:ext cx="4248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ridiculizado los valores establecidos desde hace mucho tiempo por nuestros ancestros y a esto lo hemos llamado "obsoleto y pasado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¡Oh Dios!, mira en lo profundo de nuestros corazones; purifícanos y líbranos de nuestros  pecados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Amén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62120" y="1219320"/>
            <a:ext cx="44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077320" y="685800"/>
            <a:ext cx="74268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52g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391520" y="25146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h52g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6705720" y="32004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52g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5943600" y="38862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539640" y="2469600"/>
            <a:ext cx="4103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La reacción fue inmediat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Un Senador abandonó la sala durante la oración. Tres más criticaron la oración del Padre calificando la oración como 'un mensaje de intolerancia'‘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1066680" y="914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52g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95480" y="533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52g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304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h52g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858000" y="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1187280" y="4417560"/>
            <a:ext cx="7488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urante las semanas siguientes, la Iglesia  donde trabaja el Padre Farinello recibió más de 5,000 llamadas telefónicas, de las cuales sólo 7 fueron desfavorabl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20:53:53Z</dcterms:created>
  <dc:creator>pfizer</dc:creator>
  <dc:description/>
  <dc:language>en-US</dc:language>
  <cp:lastModifiedBy>JOSE SANTOS E</cp:lastModifiedBy>
  <dcterms:modified xsi:type="dcterms:W3CDTF">2011-05-14T11:42:42Z</dcterms:modified>
  <cp:revision>16</cp:revision>
  <dc:subject/>
  <dc:title>Slide 1</dc:title>
</cp:coreProperties>
</file>