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A31-73AF-4967-864E-2864AB6A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D4D-429B-40D6-A4CF-09318309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052-6E37-43C2-A820-A356A4CE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020-4DB7-4492-B790-8FC3D1D4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F54-5F0E-4EF8-86DE-1EA5EC5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E3A-BD2C-456F-AFB8-4B4ABA17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9DA-562C-47CB-BC3B-21F8887D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314-9C0F-4B53-B874-2E69E722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489-EEC4-44A2-9CAC-81DFD825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0E7-CE15-4893-A639-2984F5A5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38B-F2A7-4D5C-BA1F-1E281632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279-CDFC-4A40-B5AB-8444319D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7805-56A4-49F8-B033-C087A6C7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67160" y="422100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ביום שישי הייתי בכותל עם המצלמה הדיגיטלית המשוכללת של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0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 viernes estuve en el Kotel llevando mi 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á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quina fotog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ca digi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372600" cy="692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95040" y="2924280"/>
            <a:ext cx="43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3399ff"/>
                </a:solidFill>
                <a:latin typeface="Times New Roman"/>
              </a:rPr>
              <a:t>"</a:t>
            </a:r>
            <a:r>
              <a:rPr b="0" lang="he-IL" sz="6000" spc="-1" strike="noStrike">
                <a:solidFill>
                  <a:srgbClr val="3399ff"/>
                </a:solidFill>
                <a:latin typeface="Times New Roman"/>
              </a:rPr>
              <a:t>שיהיה שלום</a:t>
            </a:r>
            <a:r>
              <a:rPr b="0" lang="he-IL" sz="6000" spc="-1" strike="noStrike">
                <a:solidFill>
                  <a:srgbClr val="3399ff"/>
                </a:solidFill>
                <a:latin typeface="Times New Roman"/>
              </a:rPr>
              <a:t>"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41497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"QUE HAYA PAZ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43200" y="1341360"/>
            <a:ext cx="179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ffff"/>
                </a:solidFill>
                <a:latin typeface="Times New Roman"/>
              </a:rPr>
              <a:t>אמ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500280"/>
            <a:ext cx="35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MÉ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1440" y="3851280"/>
            <a:ext cx="60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בשלב מסוים הגיע אבא עם שני ילדיו לאזור בו היית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ראיתי שהילדים מתרגשי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אביהם נתן להם דפים וכלי כתיבה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 un momento determinado llegó un padre con sus dos hijos a la zona cercana donde me encontraba. Observé que los chicos estaban emocionados. El padre les entregó una hoja y elementos para escribir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06480" y="385128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הילד הקטן כרע לידי על הארץ והחל לכתוב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1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iño mas pequeño se inclinó en el piso y comenzó a escribi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89480" y="385128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שאלתי את אביו אם אפשר לצלם את הסצינה 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הוא הסכים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gunté al padre si podía fotografiar la escena. Y él aceptó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27200" y="1844640"/>
            <a:ext cx="71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...לא הצלחתי להתאפק והסתכלתי מקרוב על הפתק שצול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00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logré visualizar lo que escribía y utilicé el zoom de la máqu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78680" y="198900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הנה זה מה שמצאתי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429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ésto es con lo que me encontré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0:32:10Z</dcterms:created>
  <dc:creator>a</dc:creator>
  <dc:description/>
  <dc:language>en-US</dc:language>
  <cp:lastModifiedBy>a</cp:lastModifiedBy>
  <dcterms:modified xsi:type="dcterms:W3CDTF">2007-07-24T10:35:42Z</dcterms:modified>
  <cp:revision>1</cp:revision>
  <dc:subject/>
  <dc:title>Diapositiva 1</dc:title>
</cp:coreProperties>
</file>