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95D4-FC04-4DA5-8525-F252E2CD0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9A54-251B-4ECE-8324-F408E538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66F2-050D-4EBA-BC26-DE620EAAD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22CF-850A-4882-81B6-7EDF83ABC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B147-A9E8-4171-8857-C5AA0F54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EDE1-0B02-4928-8FA2-25E791D9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D130-69AF-4075-A535-E76C43D1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8550-BCDB-45F3-8776-101D2D1C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C65F-62A0-49DA-AD10-C34FD504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883E-87A3-4987-ACBD-9E37364A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E786-EA37-457B-86DB-6C6B591D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926A-C878-4E81-BCF8-C4D96872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C344-85E8-4E77-BBC4-8A53A0D7C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67160" y="4221000"/>
            <a:ext cx="74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Times New Roman"/>
              </a:rPr>
              <a:t>ביום שישי הייתי בכותל עם המצלמה הדיגיטלית המשוכללת של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300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l viernes estuve en el Kotel llevando mi m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Tahoma"/>
              </a:rPr>
              <a:t>á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quina fotog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á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ica digita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-34920"/>
            <a:ext cx="9372600" cy="6929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95040" y="2924280"/>
            <a:ext cx="43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3399ff"/>
                </a:solidFill>
                <a:latin typeface="Times New Roman"/>
              </a:rPr>
              <a:t>"</a:t>
            </a:r>
            <a:r>
              <a:rPr b="0" lang="he-IL" sz="6000" spc="-1" strike="noStrike">
                <a:solidFill>
                  <a:srgbClr val="3399ff"/>
                </a:solidFill>
                <a:latin typeface="Times New Roman"/>
              </a:rPr>
              <a:t>שיהיה שלום</a:t>
            </a:r>
            <a:r>
              <a:rPr b="0" lang="he-IL" sz="6000" spc="-1" strike="noStrike">
                <a:solidFill>
                  <a:srgbClr val="3399ff"/>
                </a:solidFill>
                <a:latin typeface="Times New Roman"/>
              </a:rPr>
              <a:t>"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43280" y="4149720"/>
            <a:ext cx="56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Tahoma"/>
              </a:rPr>
              <a:t>"QUE HAYA PAZ"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643200" y="1341360"/>
            <a:ext cx="179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ffffff"/>
                </a:solidFill>
                <a:latin typeface="Times New Roman"/>
              </a:rPr>
              <a:t>אמן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500280"/>
            <a:ext cx="352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AMÉ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881440" y="3851280"/>
            <a:ext cx="60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Times New Roman"/>
              </a:rPr>
              <a:t>בשלב מסוים הגיע אבא עם שני ילדיו לאזור בו הייתי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Times New Roman"/>
              </a:rPr>
              <a:t>ראיתי שהילדים מתרגשי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Times New Roman"/>
              </a:rPr>
              <a:t>אביהם נתן להם דפים וכלי כתיבה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25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n un momento determinado llegó un padre con sus dos hijos a la zona cercana donde me encontraba. Observé que los chicos estaban emocionados. El padre les entregó una hoja y elementos para escribir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06480" y="385128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Times New Roman"/>
              </a:rPr>
              <a:t>הילד הקטן כרע לידי על הארץ והחל לכתוב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013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 niño mas pequeño se inclinó en el piso y comenzó a escribi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689480" y="385128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imes New Roman"/>
              </a:rPr>
              <a:t>שאלתי את אביו אם אפשר לצלם את הסצינה 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e-IL" sz="2400" spc="-1" strike="noStrike">
                <a:solidFill>
                  <a:srgbClr val="ffffff"/>
                </a:solidFill>
                <a:latin typeface="Times New Roman"/>
              </a:rPr>
              <a:t>הוא הסכים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445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gunté al padre si podía fotografiar la escena. Y él aceptó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627200" y="1844640"/>
            <a:ext cx="71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...לא הצלחתי להתאפק והסתכלתי מקרוב על הפתק שצול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5002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o logré visualizar lo que escribía y utilicé el zoom de la máquin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278680" y="1989000"/>
            <a:ext cx="28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Times New Roman"/>
              </a:rPr>
              <a:t>הנה זה מה שמצאתי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42900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Y ésto es con lo que me encontré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4T10:32:10Z</dcterms:created>
  <dc:creator>a</dc:creator>
  <dc:description/>
  <dc:language>en-US</dc:language>
  <cp:lastModifiedBy>a</cp:lastModifiedBy>
  <dcterms:modified xsi:type="dcterms:W3CDTF">2007-07-24T10:35:42Z</dcterms:modified>
  <cp:revision>1</cp:revision>
  <dc:subject/>
  <dc:title>Diapositiva 1</dc:title>
</cp:coreProperties>
</file>