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366-BCAA-4AB2-B7B4-624321B8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582-C202-4A5E-904D-7A14CB0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BEF-0AFD-4448-BFB5-06A02EC4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A22-5C3A-42DC-8B11-9258FCC0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1D7-01B2-46B6-A417-FD007D0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B19-6ACF-4AB4-810B-DBC1299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B39-0AD9-467A-8A4E-4C0E169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D77-CD41-438C-B26D-4DBE1FE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6F5-358A-4D32-A14D-31CFD37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641-B289-4F96-B4EA-3621A65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23C-704F-4336-B089-323880A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1A5-C41C-4BDF-8CCE-D7F4615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1FD2-1B63-47A8-ADD4-B9C9F809B8A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3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5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4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6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7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8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9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2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3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4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5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6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9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3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0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3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4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7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8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4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0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41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2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5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8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9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5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6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7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8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9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MARIPILI</cp:lastModifiedBy>
  <dcterms:modified xsi:type="dcterms:W3CDTF">2010-05-03T14:09:46Z</dcterms:modified>
  <cp:revision>2</cp:revision>
  <dc:subject/>
  <dc:title>Diapositiva 1</dc:title>
</cp:coreProperties>
</file>