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deRosyEnioMoriconeGabrielsOboe.wav" ContentType="audio/x-wav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693C-F456-400B-9AFA-1517CAB9C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D16E-EF73-4D29-AC12-17A30E49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E80C-47A8-4058-BF73-4C07D8C48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E1B2-DF7B-40F4-B5E4-2BD54CC17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1D8E-C69C-4BDD-B44D-3D417878F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4FBB-3E6B-4B62-ACFD-EA10FB9E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B3E9-0D15-47B7-82E8-41EC347E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62717-84A1-402F-A286-82F45525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390B-A5D3-4022-8B45-936275FD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2679-E121-428C-852B-E9170A53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0D91-F8E3-4849-8C6C-9B5B0530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519D-0F82-48C2-A7B0-274FDF02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FDC3-EB7E-4337-84D2-C29362F9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EE22-FB96-4BA7-A933-E4929495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987B-BA42-4CBA-AEA6-71F031BC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04A0-22A7-498A-88A1-C9526FD50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B324-1887-4225-8FB6-019CCDB0F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BE35-BED3-45CC-A79C-A970D7EA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9A8E-93AC-4461-AA2D-A1CEFFC8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DFED-0DB3-40AC-8B0E-72CECBB1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4E6E-4E9A-4BA7-9C15-076E36DF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7B5F-4791-456E-BC0D-FAFD3120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3C00-F129-4F7B-81D4-9DABAB8E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6A35-74D4-4389-A421-81E62869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B4D8-F5DB-4177-9577-FB730F32FB9C}" type="slidenum"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5D7D-D38C-45CE-B45C-092940CEFAB0}" type="slidenum"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eRosyEnioMoriconeGabrielsOboe.wav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66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68360" y="476280"/>
            <a:ext cx="4464360" cy="3744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286000" y="450864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a50021"/>
                </a:solidFill>
                <a:latin typeface="Palatino Linotype"/>
              </a:rPr>
              <a:t>UN DEFECTO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a50021"/>
                </a:solidFill>
                <a:latin typeface="Palatino Linotype"/>
              </a:rPr>
              <a:t>EN LA MUJ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zoom dir="out"/>
    <p:sndAc>
      <p:stSnd>
        <p:snd r:embed="rId2" name="deRosyEnioMoriconeGabrielsObo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66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Luchan por lo que cre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Se enfrentan a la  injustic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No aceptan "no" por respuesta cuand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ellas creen que hay una solución mejo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Se privan para que su familia pueda ten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Van al médico con una amig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que tiene miedo de i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Aman incondicionalme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66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88748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Lloran cuando sus hijos triunfa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y se alegran cuando sus amistad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consiguen premio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Son  felices cuando escucha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sobre un nacimiento o una bod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66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Su corazón se rompe cuando muere una amig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Sufren con la pérdida de un ser querido, si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embargo son fuertes cuando piensan que ya n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hay más fuerz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Saben que un beso y un abraz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pueden ayudar a curar un corazón rot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66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635280" y="1413000"/>
            <a:ext cx="5508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100800"/>
                </a:solidFill>
                <a:latin typeface="Palatino Linotype"/>
              </a:rPr>
              <a:t>Sin embargo, hay un defec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100800"/>
                </a:solidFill>
                <a:latin typeface="Palatino Linotype"/>
              </a:rPr>
              <a:t> </a:t>
            </a:r>
            <a:r>
              <a:rPr b="0" lang="es-MX" sz="3200" spc="-1" strike="noStrike">
                <a:solidFill>
                  <a:srgbClr val="100800"/>
                </a:solidFill>
                <a:latin typeface="Palatino Linotype"/>
              </a:rPr>
              <a:t>en la mujer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403848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Palatino Linotype"/>
              </a:rPr>
              <a:t>¡¡ que se le olvida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Palatino Linotype"/>
              </a:rPr>
              <a:t>lo muchísimo que vale !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292428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66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3628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Mándales esto a tus amiga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para recordarles lo maravillosas que s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Y también mándaselo a tus amig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porque a veces los hombres necesitam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que se nos recuerde el incalculable valo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que tienen las criaturas más bella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y más esenciales de la tierr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66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80880" y="5715000"/>
            <a:ext cx="274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a50021"/>
                </a:solidFill>
                <a:latin typeface="Palatino Linotype"/>
              </a:rPr>
              <a:t>GRACIAS!</a:t>
            </a:r>
            <a:r>
              <a:rPr b="1" lang="es-ES" sz="3200" spc="-1" strike="noStrike">
                <a:solidFill>
                  <a:srgbClr val="a50021"/>
                </a:solidFill>
                <a:latin typeface="Palatino Linotyp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4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4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4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4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66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539640" y="1939680"/>
            <a:ext cx="792000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Dios hizo a la mujer el sexto día. Fue una jornada muy intensa de duro trabajo y de horas extras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Un ángel apareció y le dijo: "Por qué le dedicas tanto tiempo a la creación de esta criatura 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800"/>
                </a:solidFill>
                <a:latin typeface="Times New Roman"/>
              </a:rPr>
              <a:t>Y El Señor contestó: ¿ Has leído mi proyecto de lo que quiero conseguir con esta obra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66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497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Debe ser completamente lavable, pero no ser 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plástico, tener más de 200 piezas movibles, toda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cambiables y ser capaz de funcionar con una diet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de sobras o de cualquier cosa, tener un regazo qu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pueda acomodar cuatro niños al mismo tiempo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tener un beso que pueda curar desde una rodill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raspada hasta un corazón roto y lo hará todo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solamente con dos manos y un solo corazón."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66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El ángel se maravilló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de aquel proyecto...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"Solamente dos manos....Imposible!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¡¡Y este es solamente el modelo estándar...!!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Es demasiado trabajo para un día, Señ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Mejor espera hasta mañana para terminarla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66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835200"/>
            <a:ext cx="9144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100800"/>
                </a:solidFill>
                <a:latin typeface="Times New Roman"/>
              </a:rPr>
              <a:t>No, no esperaré, protestó el Seño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100800"/>
                </a:solidFill>
                <a:latin typeface="Times New Roman"/>
              </a:rPr>
              <a:t>Estoy ya muy cerca de terminar esta obra que es la creación favorita de mi corazó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100800"/>
                </a:solidFill>
                <a:latin typeface="Times New Roman"/>
              </a:rPr>
              <a:t>Ella se cura sola cuando está enferma, 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100800"/>
                </a:solidFill>
                <a:latin typeface="Times New Roman"/>
              </a:rPr>
              <a:t>puede trabajar 18 horas al dí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1008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a50021"/>
                </a:solidFill>
                <a:latin typeface="Times New Roman"/>
              </a:rPr>
              <a:t>El ángel se acercó más y tocó a la muj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66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Palatino Linotype"/>
              </a:rPr>
              <a:t>¡¡ Pero la has hecho tan suave, Señor... !!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800"/>
                </a:solidFill>
                <a:latin typeface="Times New Roman"/>
              </a:rPr>
              <a:t>"Es suave, dijo Dios, pero la he hecho tambié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800"/>
                </a:solidFill>
                <a:latin typeface="Times New Roman"/>
              </a:rPr>
              <a:t>fuerte. No tienes idea de lo que puede aguantar ni de lo que es capaz de lograr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"Será capaz de pensar?" preguntó el ángel.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800"/>
                </a:solidFill>
                <a:latin typeface="Times New Roman"/>
              </a:rPr>
              <a:t>Dios contestó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800"/>
                </a:solidFill>
                <a:latin typeface="Times New Roman"/>
              </a:rPr>
              <a:t>"No solamente será capaz  de pensar sino también de razonar, de entender y de perdonar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66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6560" y="1052280"/>
            <a:ext cx="828216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Palatino Linotype"/>
              </a:rPr>
              <a:t>El ángel entonces notó algo y alargando la man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Palatino Linotype"/>
              </a:rPr>
              <a:t>tocó la mejilla de la mujer.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Palatino Linotype"/>
              </a:rPr>
              <a:t>"Señor, parece que este modelo tiene una fuga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Palatino Linotype"/>
              </a:rPr>
              <a:t>Te dije que estabas tratando de pon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Palatino Linotype"/>
              </a:rPr>
              <a:t>demasiadas  cosas en  ella"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800"/>
                </a:solidFill>
                <a:latin typeface="Palatino Linotype"/>
              </a:rPr>
              <a:t>"Eso no es ninguna fuga... es una lágrima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800"/>
                </a:solidFill>
                <a:latin typeface="Palatino Linotype"/>
              </a:rPr>
              <a:t>  </a:t>
            </a:r>
            <a:r>
              <a:rPr b="0" lang="en-US" sz="2800" spc="-1" strike="noStrike">
                <a:solidFill>
                  <a:srgbClr val="100800"/>
                </a:solidFill>
                <a:latin typeface="Palatino Linotype"/>
              </a:rPr>
              <a:t>lo corrigió El Seño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Palatino Linotype"/>
              </a:rPr>
              <a:t>¿ Para qué es la lágrima ? preguntó el áng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66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Y Dios dijo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"Las lágrimas son su manera 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expresar su dicha, su pena, su desengaño, s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amor, su soledad, su sufrimiento, y su orgullo."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Esto impresionó mucho al ángel "Eres un genio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eñor, pensaste en todo. La mujer e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verdaderamente maravillosa"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66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¡Lo es!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La mujer tiene fuerza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que maravillan a los hombr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Aguantan dificultades, llevan  grandes cargas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pero tienen felicidad,  amor y  dich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Sonríen cuando quieren gritar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Cantan  cuando quieren llor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Lloran cuando están  fel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100800"/>
                </a:solidFill>
                <a:latin typeface="Times New Roman"/>
              </a:rPr>
              <a:t>y ríen cuando están nervios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9T15:36:13Z</dcterms:created>
  <dc:creator>Granada</dc:creator>
  <dc:description/>
  <dc:language>en-US</dc:language>
  <cp:lastModifiedBy>maldana</cp:lastModifiedBy>
  <dcterms:modified xsi:type="dcterms:W3CDTF">2008-02-19T16:48:00Z</dcterms:modified>
  <cp:revision>40</cp:revision>
  <dc:subject/>
  <dc:title>UN DEFECTO EN LA MUJER </dc:title>
</cp:coreProperties>
</file>