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deRosyEnioMoriconeGabrielsOboe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A15-AF8A-44B1-ACAB-23489CE1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0808-2198-49C3-A9F1-3804ACEB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944B-D54F-4DF4-9F94-5D0C919E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9EF-DEC8-40BE-8819-46671BDC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FAE6-E7B6-4DC9-A071-2AD59C45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F253-0702-4C33-9EF8-A4615CC7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7BEF-5643-4ECA-B7A1-F62E22C3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F920-5CE0-44B7-A273-925083DD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6811-09FD-4C08-A3F9-C6622900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1F7C-100B-4429-B8AD-DFCF88EF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7E1F-02CD-4162-BFDA-EF92231B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C994-0E2C-40E8-974C-F005B110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4032-EC1E-463B-B752-3FE5A067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3A1C-5319-45A7-A82E-DBE779E8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50CE-994E-4047-8C95-7CC9F8EC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5EFE-9127-437E-877D-5DAE1F6C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30B4-D0FE-4D57-95BA-D67193AD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6AA5-A698-4614-AD78-0452B2FF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B366-460A-444E-A4E5-08EBA5FD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692-ED6D-44CE-919F-D509E7CB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231E-788F-40FF-9554-146680E9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AF75-0906-4478-BC7E-A9026028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627F-E0DE-429C-B2FB-6DBABD5E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7EB-13F5-47B2-8E5C-0F0ECDC3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8081-CF8E-4611-9189-A404B06C0E93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C932-EE8E-4BFE-85DB-18AE41DE8FC5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eRosyEnioMoriconeGabrielsOboe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464360" cy="3744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0" y="45086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a50021"/>
                </a:solidFill>
                <a:latin typeface="Palatino Linotype"/>
              </a:rPr>
              <a:t>UN DEFECTO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a50021"/>
                </a:solidFill>
                <a:latin typeface="Palatino Linotype"/>
              </a:rPr>
              <a:t>EN LA MUJ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zoom dir="out"/>
    <p:sndAc>
      <p:stSnd>
        <p:snd r:embed="rId2" name="deRosyEnioMoriconeGabrielsObo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Luchan por lo que cr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Se enfrentan a la  injusti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No aceptan "no" por respuesta cuan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ellas creen que hay una solución mej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Se privan para que su familia pueda ten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Van al médico con una amig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que tiene miedo de i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Aman incondicionalm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88748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Lloran cuando sus hijos triunfa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y se alegran cuando sus amistad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consiguen premio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Son  felices cuando escucha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sobre un nacimiento o una bod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Su corazón se rompe cuando muere una amig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Sufren con la pérdida de un ser querido, s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embargo son fuertes cuando piensan que ya 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hay más fuerz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Saben que un beso y un abraz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pueden ayudar a curar un corazón ro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635280" y="1413000"/>
            <a:ext cx="550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00800"/>
                </a:solidFill>
                <a:latin typeface="Palatino Linotype"/>
              </a:rPr>
              <a:t>Sin embargo, hay un defe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00800"/>
                </a:solidFill>
                <a:latin typeface="Palatino Linotype"/>
              </a:rPr>
              <a:t> </a:t>
            </a:r>
            <a:r>
              <a:rPr b="0" lang="es-MX" sz="3200" spc="-1" strike="noStrike">
                <a:solidFill>
                  <a:srgbClr val="100800"/>
                </a:solidFill>
                <a:latin typeface="Palatino Linotype"/>
              </a:rPr>
              <a:t>en la mujer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403848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Palatino Linotype"/>
              </a:rPr>
              <a:t>¡¡ que se le olvida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Palatino Linotype"/>
              </a:rPr>
              <a:t>lo muchísimo que vale 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29242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362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Mándales esto a tus amig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para recordarles lo maravillosas que s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Y también mándaselo a tus ami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porque a veces los hombres necesita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que se nos recuerde el incalculable val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que tienen las criaturas más bell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y más esenciales de la tierr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80880" y="5715000"/>
            <a:ext cx="27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a50021"/>
                </a:solidFill>
                <a:latin typeface="Palatino Linotype"/>
              </a:rPr>
              <a:t>GRACIAS!</a:t>
            </a:r>
            <a:r>
              <a:rPr b="1" lang="es-ES" sz="3200" spc="-1" strike="noStrike">
                <a:solidFill>
                  <a:srgbClr val="a50021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4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4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39640" y="1939680"/>
            <a:ext cx="79200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ios hizo a la mujer el sexto día. Fue una jornada muy intensa de duro trabajo y de horas extras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Un ángel apareció y le dijo: "Por qué le dedicas tanto tiempo a la creación de esta criatura 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00"/>
                </a:solidFill>
                <a:latin typeface="Times New Roman"/>
              </a:rPr>
              <a:t>Y El Señor contestó: ¿ Has leído mi proyecto de lo que quiero conseguir con esta obra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497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Debe ser completamente lavable, pero no ser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plástico, tener más de 200 piezas movibles, tod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cambiables y ser capaz de funcionar con una die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de sobras o de cualquier cosa, tener un regazo qu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pueda acomodar cuatro niños al mismo tiempo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tener un beso que pueda curar desde una rodill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raspada hasta un corazón roto y lo hará todo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solamente con dos manos y un solo corazón.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El ángel se maravilló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e aquel proyecto...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"Solamente dos manos....Imposible!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¡¡Y este es solamente el modelo estándar...!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s demasiado trabajo para un día, Señ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Mejor espera hasta mañana para terminarl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835200"/>
            <a:ext cx="9144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00800"/>
                </a:solidFill>
                <a:latin typeface="Times New Roman"/>
              </a:rPr>
              <a:t>No, no esperaré, protestó el Señ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00800"/>
                </a:solidFill>
                <a:latin typeface="Times New Roman"/>
              </a:rPr>
              <a:t>Estoy ya muy cerca de terminar esta obra que es la creación favorita de mi corazó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00800"/>
                </a:solidFill>
                <a:latin typeface="Times New Roman"/>
              </a:rPr>
              <a:t>Ella se cura sola cuando está enferma,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00800"/>
                </a:solidFill>
                <a:latin typeface="Times New Roman"/>
              </a:rPr>
              <a:t>puede trabajar 18 horas al d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008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a50021"/>
                </a:solidFill>
                <a:latin typeface="Times New Roman"/>
              </a:rPr>
              <a:t>El ángel se acercó más y tocó a la muj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Palatino Linotype"/>
              </a:rPr>
              <a:t>¡¡ Pero la has hecho tan suave, Señor... !!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00"/>
                </a:solidFill>
                <a:latin typeface="Times New Roman"/>
              </a:rPr>
              <a:t>"Es suave, dijo Dios, pero la he hecho tambié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00"/>
                </a:solidFill>
                <a:latin typeface="Times New Roman"/>
              </a:rPr>
              <a:t>fuerte. No tienes idea de lo que puede aguantar ni de lo que es capaz de logra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"Será capaz de pensar?" preguntó el ángel.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00"/>
                </a:solidFill>
                <a:latin typeface="Times New Roman"/>
              </a:rPr>
              <a:t>Dios contestó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00"/>
                </a:solidFill>
                <a:latin typeface="Times New Roman"/>
              </a:rPr>
              <a:t>"No solamente será capaz  de pensar sino también de razonar, de entender y de perdona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6560" y="1052280"/>
            <a:ext cx="828216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Palatino Linotype"/>
              </a:rPr>
              <a:t>El ángel entonces notó algo y alargando la man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Palatino Linotype"/>
              </a:rPr>
              <a:t>tocó la mejilla de la mujer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Palatino Linotype"/>
              </a:rPr>
              <a:t>"Señor, parece que este modelo tiene una fuga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Palatino Linotype"/>
              </a:rPr>
              <a:t>Te dije que estabas tratando de pon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Palatino Linotype"/>
              </a:rPr>
              <a:t>demasiadas  cosas en  ella"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00"/>
                </a:solidFill>
                <a:latin typeface="Palatino Linotype"/>
              </a:rPr>
              <a:t>"Eso no es ninguna fuga... es una lágrima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00"/>
                </a:solidFill>
                <a:latin typeface="Palatino Linotype"/>
              </a:rPr>
              <a:t>  </a:t>
            </a:r>
            <a:r>
              <a:rPr b="0" lang="en-US" sz="2800" spc="-1" strike="noStrike">
                <a:solidFill>
                  <a:srgbClr val="100800"/>
                </a:solidFill>
                <a:latin typeface="Palatino Linotype"/>
              </a:rPr>
              <a:t>lo corrigió El Seño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Palatino Linotype"/>
              </a:rPr>
              <a:t>¿ Para qué es la lágrima ? preguntó el áng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Y Dios dij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"Las lágrimas son su manera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expresar su dicha, su pena, su desengaño, s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amor, su soledad, su sufrimiento, y su orgullo.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sto impresionó mucho al ángel "Eres un genio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ñor, pensaste en todo. La mujer e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verdaderamente maravillosa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¡Lo es!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La mujer tiene fuerz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que maravillan a los hombr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Aguantan dificultades, llevan  grandes carga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pero tienen felicidad,  amor y  dich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Sonríen cuando quieren gritar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Cantan  cuando quieren llor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Lloran cuando están  fel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y ríen cuando están nervios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9T15:36:13Z</dcterms:created>
  <dc:creator>Granada</dc:creator>
  <dc:description/>
  <dc:language>en-US</dc:language>
  <cp:lastModifiedBy>maldana</cp:lastModifiedBy>
  <dcterms:modified xsi:type="dcterms:W3CDTF">2008-02-19T16:48:00Z</dcterms:modified>
  <cp:revision>40</cp:revision>
  <dc:subject/>
  <dc:title>UN DEFECTO EN LA MUJER </dc:title>
</cp:coreProperties>
</file>