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B14-4589-4E99-9AA3-6E84BC2B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394-7D6B-4C5C-B21E-B7934430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770-6CBB-42FF-969F-59EA6BD1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3F5-5CA0-4C5A-BFEE-754B0F61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E12-3022-4378-BCA7-7EEDD69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168-FC66-47E8-A753-9E0AA6F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8FC-BC18-4279-8EFB-F53CB7D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51F-96FA-48A8-A34F-1459C848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86D-CECB-4EB0-B9BC-CE3D8F8D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DFE-42DA-4605-8FDC-CF93959B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D4B-E7C8-4BA3-BDC2-D0F2EAF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A9E-54A9-4984-A992-F5CF669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B4C2-D8A1-46D4-9C10-6F4696141A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Qué harías si me muri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9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Sí que 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8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Entonces sí que te volverías a ca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28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(carraspea) Creo que después de haberte guardado luto durante el tiempo suficiente y mi vida volviese a tener sentido, sí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También dormirías con ella en nuestra ca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9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Es de suponer,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Reemplazarías mi foto por la de ella en la mesilla de noch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Pondría las dos f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88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También tendrías sexo con ella? ¿En nuestra ca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(bebiendo un sorbo de café) Seguramente llegaríamos a eso. Supong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28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Jugarías también al golf con el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Te guardaría lu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Sí, lo ha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Le darías mis palos de gol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No, es zur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¿¿Cómo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Mierda...!!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fun_12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11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67640" y="5867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SUGERENCIA:</a:t>
            </a:r>
            <a:br>
              <a:rPr sz="4400"/>
            </a:b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Jamás te sometas al interrogatorio de una Mujer.</a:t>
            </a:r>
            <a:br>
              <a:rPr sz="4400"/>
            </a:b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No tenemos resistencia, ni inteligencia para ello.</a:t>
            </a:r>
            <a:br>
              <a:rPr sz="4400"/>
            </a:b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¡</a:t>
            </a:r>
            <a:r>
              <a:rPr b="1" lang="es-ES" sz="5400" spc="-1" strike="noStrike" u="sng" baseline="30000">
                <a:solidFill>
                  <a:srgbClr val="6600cc"/>
                </a:solidFill>
                <a:uFillTx/>
                <a:latin typeface="Arial"/>
              </a:rPr>
              <a:t>NO</a:t>
            </a:r>
            <a:r>
              <a:rPr b="1" lang="es-ES" sz="4400" spc="-1" strike="noStrike" u="sng">
                <a:solidFill>
                  <a:srgbClr val="6600cc"/>
                </a:solidFill>
                <a:uFillTx/>
                <a:latin typeface="Arial"/>
              </a:rPr>
              <a:t> CONVIERTAS TU VIDA EN UN INFIERNO! </a:t>
            </a:r>
            <a:br>
              <a:rPr sz="4400"/>
            </a:br>
            <a:br>
              <a:rPr sz="4400"/>
            </a:br>
            <a:r>
              <a:rPr b="1" lang="es-ES" sz="4400" spc="-1" strike="noStrike" u="sng">
                <a:solidFill>
                  <a:srgbClr val="6600cc"/>
                </a:solidFill>
                <a:uFillTx/>
                <a:latin typeface="Arial"/>
              </a:rPr>
              <a:t>Te Defiendes Mejor CALLADO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Durante mucho tiemp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9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Muchísimo tiemp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4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588000" y="5373720"/>
            <a:ext cx="2160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ww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beac7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boutiquedelpowerpoint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beac7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                                 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beac7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Por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(serio) Porque te quiero y tu pérdida sería dolorosa para mí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(con una sonrisa). Qué bonito. ¿Volverías a casarte con ot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8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(con expresión dolida) ¿Por qué no? ¿No te gusta estar casa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27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17:27:32Z</dcterms:created>
  <dc:creator/>
  <dc:description/>
  <dc:language>en-US</dc:language>
  <cp:lastModifiedBy>Jaime Correa</cp:lastModifiedBy>
  <dcterms:modified xsi:type="dcterms:W3CDTF">2008-08-13T07:08:06Z</dcterms:modified>
  <cp:revision>6</cp:revision>
  <dc:subject>www.laboutiquedelpowerpoint.com</dc:subject>
  <dc:title>Ella: ¿Qué harías si me muriese?</dc:title>
</cp:coreProperties>
</file>