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719-DBE0-424D-9311-5316D6E5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89E-0504-489D-82D5-DF0389AD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FA7-BAE1-43D3-9614-773CABFD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7FA-197C-460C-86BD-499ED2E6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D51-009C-49D4-A4B3-E2E22D56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DD8-9CBB-4B09-BFD4-893099DA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ABB-BAE7-4DE7-B366-BA8F555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586-5281-414D-B123-3092EDF3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F76-760D-4D4F-B3A4-B65A9F28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046-C8AA-4C0C-B704-B84E35D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8B8-70DD-44B7-B5BE-3951833A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8B4-D03E-4080-BA78-03EA41D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8D4-F48B-4987-97FD-BCA87FB2E1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Qué harías si me muri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Sí que me g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84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Entonces sí que te volverías a ca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28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carraspea) Creo que después de haberte guardado luto durante el tiempo suficiente y mi vida volviese a tener sentido, s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También dormirías con ella en nuestra ca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Es de suponer,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Reemplazarías mi foto por la de ella en la mesilla de noch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Pondría las dos f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88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También tendrías sexo con ella? ¿En nuestra ca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bebiendo un sorbo de café) Seguramente llegaríamos a eso. Supong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28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Jugarías también al golf con ell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Te guardaría lu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Sí, lo ha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Le darías mis palos de gol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No, es zur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¿¿Cómo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Mierda...!!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un_12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67640" y="5867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SUGERENCIA: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Jamás te sometas al interrogatorio de una Mujer.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No tenemos resistencia, ni inteligencia para ello.</a:t>
            </a:r>
            <a:br>
              <a:rPr sz="4400"/>
            </a:br>
            <a:r>
              <a:rPr b="1" lang="es-ES" sz="4400" spc="-1" strike="noStrike" u="sng" baseline="30000">
                <a:solidFill>
                  <a:srgbClr val="6600cc"/>
                </a:solidFill>
                <a:uFillTx/>
                <a:latin typeface="Arial"/>
              </a:rPr>
              <a:t>¡</a:t>
            </a:r>
            <a:r>
              <a:rPr b="1" lang="es-ES" sz="5400" spc="-1" strike="noStrike" u="sng" baseline="30000">
                <a:solidFill>
                  <a:srgbClr val="6600cc"/>
                </a:solidFill>
                <a:uFillTx/>
                <a:latin typeface="Arial"/>
              </a:rPr>
              <a:t>NO</a:t>
            </a:r>
            <a:r>
              <a:rPr b="1" lang="es-ES" sz="4400" spc="-1" strike="noStrike" u="sng">
                <a:solidFill>
                  <a:srgbClr val="6600cc"/>
                </a:solidFill>
                <a:uFillTx/>
                <a:latin typeface="Arial"/>
              </a:rPr>
              <a:t> CONVIERTAS TU VIDA EN UN INFIERNO! </a:t>
            </a:r>
            <a:br>
              <a:rPr sz="4400"/>
            </a:br>
            <a:br>
              <a:rPr sz="4400"/>
            </a:br>
            <a:r>
              <a:rPr b="1" lang="es-ES" sz="4400" spc="-1" strike="noStrike" u="sng">
                <a:solidFill>
                  <a:srgbClr val="6600cc"/>
                </a:solidFill>
                <a:uFillTx/>
                <a:latin typeface="Arial"/>
              </a:rPr>
              <a:t>Te Defiendes Mejor CALLAD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Durante mucho tiemp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9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Muchísimo tiemp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4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6588000" y="5373720"/>
            <a:ext cx="2160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ww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boutiquedelpowerpoint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                                        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beac7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beac7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84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(serio) Porque te quiero y tu pérdida sería dolorosa para mí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(con una sonrisa). Qué bonito. ¿Volverías a casarte con ot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9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Él: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8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la: (con expresión dolida) ¿Por qué no? ¿No te gusta estar cas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7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7:27:32Z</dcterms:created>
  <dc:creator/>
  <dc:description/>
  <dc:language>en-US</dc:language>
  <cp:lastModifiedBy>Jaime Correa</cp:lastModifiedBy>
  <dcterms:modified xsi:type="dcterms:W3CDTF">2008-08-13T07:08:06Z</dcterms:modified>
  <cp:revision>6</cp:revision>
  <dc:subject>www.laboutiquedelpowerpoint.com</dc:subject>
  <dc:title>Ella: ¿Qué harías si me muriese?</dc:title>
</cp:coreProperties>
</file>