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FE6-6B79-4C45-BD9B-46767852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4E6-5732-4AE2-8279-5BBFB4E7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3F3-A906-4B27-A99E-CBB261B4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245-816E-42A7-B6F1-6BE47B4C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484-DA0A-4A05-80AA-ED066630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BD6-86B4-4294-B6AA-A3F28CF5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818-BE88-4BB6-B3E0-1942FBA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FBF-4A8B-4E83-BECE-AB4F7D2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ABA-7180-494E-AB58-CFFE1D91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1FB-B98F-4FB2-8915-61A779C4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8CB-5153-4636-BBFF-546451DC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28D-A734-4AE9-B194-3A06815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F4FF-66B6-471D-8E20-1100C5E39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</a:rPr>
              <a:t>Wat Pha Luang Ta Bua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omic Sans MS"/>
              </a:rPr>
              <a:t>El templo de los tig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En 1999, los habitantes de un pueblecito de la provincia de Kanchanaburi en Thailandia encontraron en el bosque dos tigres bebés heridos a cuyos padres habían matado los cazadores</a:t>
            </a:r>
            <a:r>
              <a:rPr b="0" lang="fr-FR" sz="24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hat%20Cool" descr=""/>
          <p:cNvPicPr/>
          <p:nvPr/>
        </p:nvPicPr>
        <p:blipFill>
          <a:blip r:embed="rId1"/>
          <a:stretch/>
        </p:blipFill>
        <p:spPr>
          <a:xfrm>
            <a:off x="8220240" y="6230880"/>
            <a:ext cx="590400" cy="45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6400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Cliqu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79649_HAS1YERII5OBU7LPFCUAVOTJY3TWOL_178218_reg1xhhevz6rfinjwu77177cjd1cgd_tigre625_1__h17532_H210926_L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17082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Dsc0457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260904_706ff846af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grestemple4yv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60480" cy="579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2438280"/>
            <a:ext cx="4495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Es un lugar considerado comúnmente como santuario de animales y preservación de los m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G_158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292482808381it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922560" cy="586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00600" y="17524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El templo está abierto al turism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800px-Tourists_tiger_temple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1907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10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571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os empleados mantienen a los tigres bajo control, y están siempre preparados para intervenir si éstos llegaran a agitarse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724280" cy="2706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os visitantes pueden dejar un donativo si quieren hacerse fotos con los tig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age1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3504960" cy="2751120"/>
          </a:xfrm>
          <a:prstGeom prst="rect">
            <a:avLst/>
          </a:prstGeom>
          <a:ln w="0">
            <a:noFill/>
          </a:ln>
        </p:spPr>
      </p:pic>
      <p:pic>
        <p:nvPicPr>
          <p:cNvPr id="75" name="image7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31953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sc06016-600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1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483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8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00440" cy="4572000"/>
          </a:xfrm>
          <a:prstGeom prst="rect">
            <a:avLst/>
          </a:prstGeom>
          <a:ln w="0">
            <a:noFill/>
          </a:ln>
        </p:spPr>
      </p:pic>
      <p:pic>
        <p:nvPicPr>
          <p:cNvPr id="80" name="image9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0957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No sabiendo qué hacer con ellos, les llevaron al templo budista Wat Pha Luang donde fueron recogidos y cuidados por los monjes. Le "Temple des tigres" acababa de nacer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ub3-cc-yodels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4449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a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6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572000" cy="3578040"/>
          </a:xfrm>
          <a:prstGeom prst="rect">
            <a:avLst/>
          </a:prstGeom>
          <a:ln w="0">
            <a:noFill/>
          </a:ln>
        </p:spPr>
      </p:pic>
      <p:pic>
        <p:nvPicPr>
          <p:cNvPr id="83" name="img_blog2b_net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6483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¡Es el único lugar del mundo donde es posible acariciar a un tigre en libert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gertemple" descr=""/>
          <p:cNvPicPr/>
          <p:nvPr/>
        </p:nvPicPr>
        <p:blipFill>
          <a:blip r:embed="rId1"/>
          <a:stretch/>
        </p:blipFill>
        <p:spPr>
          <a:xfrm>
            <a:off x="571680" y="760320"/>
            <a:ext cx="8001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hai%20Monk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rw_1055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riendshipbyvid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067280" cy="6095880"/>
          </a:xfrm>
          <a:prstGeom prst="rect">
            <a:avLst/>
          </a:prstGeom>
          <a:ln w="0">
            <a:noFill/>
          </a:ln>
        </p:spPr>
      </p:pic>
      <p:pic>
        <p:nvPicPr>
          <p:cNvPr id="89" name="petit_oiseau_022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600120" cy="428760"/>
          </a:xfrm>
          <a:prstGeom prst="rect">
            <a:avLst/>
          </a:prstGeom>
          <a:ln w="0">
            <a:noFill/>
          </a:ln>
        </p:spPr>
      </p:pic>
      <p:pic>
        <p:nvPicPr>
          <p:cNvPr id="90" name="Sans%20titre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3657600" cy="272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81680" y="63244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ccff"/>
                </a:solidFill>
                <a:latin typeface="Comic Sans MS"/>
              </a:rPr>
              <a:t>EMC, 15- Octubre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A raíz de ésto, numerosos bebés tigres sin papás fueron llevados a este templo y cuidados por los monjes y resid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179649_HAS1YERII5OBU7LPFCUAVOTJY3TWOL_178218_reg1xhhevz6rfinjwu77177cjd1cgd_b_b__tigres_mimi_1_H210618_L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50" name="179649_HAS1YERII5OBU7LPFCUAVOTJY3TWOL_tigre_H185932_L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319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mpletiger8vm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5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gres_40_9217" descr=""/>
          <p:cNvPicPr/>
          <p:nvPr/>
        </p:nvPicPr>
        <p:blipFill>
          <a:blip r:embed="rId1"/>
          <a:stretch/>
        </p:blipFill>
        <p:spPr>
          <a:xfrm>
            <a:off x="152280" y="0"/>
            <a:ext cx="4505400" cy="6667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0060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371600"/>
            <a:ext cx="4419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os tigres son amaestrados y habituados a no comer más que carne cocida, con el fin de evitar el desarrollo del gusto por la sangre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Son tratados como miembros de la familia del t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hra%20Acham%20phusit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5740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43680" y="304812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hra Acham Phu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gres_43_9281b" descr=""/>
          <p:cNvPicPr/>
          <p:nvPr/>
        </p:nvPicPr>
        <p:blipFill>
          <a:blip r:embed="rId1"/>
          <a:stretch/>
        </p:blipFill>
        <p:spPr>
          <a:xfrm>
            <a:off x="571680" y="433440"/>
            <a:ext cx="8001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54818661_cb1ba354f2" descr=""/>
          <p:cNvPicPr/>
          <p:nvPr/>
        </p:nvPicPr>
        <p:blipFill>
          <a:blip r:embed="rId1"/>
          <a:stretch/>
        </p:blipFill>
        <p:spPr>
          <a:xfrm>
            <a:off x="457200" y="736560"/>
            <a:ext cx="830592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Dsc0455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48:36Z</dcterms:created>
  <dc:creator>Haussy Jean-Marc</dc:creator>
  <dc:description/>
  <dc:language>en-US</dc:language>
  <cp:lastModifiedBy>ayto</cp:lastModifiedBy>
  <dcterms:modified xsi:type="dcterms:W3CDTF">2008-10-15T12:01:21Z</dcterms:modified>
  <cp:revision>6</cp:revision>
  <dc:subject/>
  <dc:title>Présentation PowerPoint</dc:title>
</cp:coreProperties>
</file>