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A9A7-ECFD-4660-B358-D8A5B8F264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B061-E9A1-4B4E-B87A-CE8848CA60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8D9A-EAF2-44E9-8B3D-2B7A8B6645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9A1-7B70-46E4-B1F8-C8C7D6E6D6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1ACD-CF55-42B0-A370-15783C96F43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7E36-6F9D-4BA1-B69B-BAF036D020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5904-2F2D-4CA1-93D3-5D551E26F1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35C9-6405-45AB-BC83-F940C1FACC5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911-F897-4872-A9F8-59736D13689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8744-8BAA-44A7-8C57-7ACD9DD9C7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A914-737B-4A8C-ADE3-6036BE3F31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26B9-DE5F-4C65-BD22-D75610FF04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6CB8-66EF-4C56-AEEB-7B811D59849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B5E5-074E-4B89-8401-9D6740CA8C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7EA2-BC04-46D5-A8A4-1C3AE27BDD5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E3BD-AB86-4544-87D5-E1F32B654C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39FD-7602-4DE4-AF2F-11F5EE6B01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277D-8C21-4A42-89C3-D55B27A1D2C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92AF-8BB5-4CC8-A225-B986BE343B4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58D-A471-4FE6-B113-E513D417F9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720E-5982-4554-9A59-0B57DBE9F72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248E-AE0B-43E6-81FF-7F79A3AF76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1078-AB47-44EE-BF51-561441FC280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2D27-B371-470C-AC28-E12A87D964B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35DA-A8AE-4C95-BB13-95B10C13C8C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F271-A4B2-4BC1-BB65-3E1705E3BF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7366-22D7-4B5B-8678-B9156F7D6D1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F4E2-0AF9-4720-8F1C-FFB4151C246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6555-8930-48F6-9E68-8CE543375D8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7731-9B0B-472C-817A-C9B17169D9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6967-0361-4EB7-807F-4B4BA4376F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30AD-2662-49A8-94E6-254588345A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4475-DF70-4FA5-87CF-2A8CDA9B873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BFB8-AEED-4311-90E9-F32180A50A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9BE1-897E-4D5F-A0C2-B898743DF3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5CCC-4219-44FA-8AD3-145B2E1AE34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E5FF-9E2A-4A4D-85D9-68E5E3B8393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B578-0DC8-4C18-9B45-33B10538E65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B1E6-E85B-4A18-A7AD-99100D4C3E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5565-3D85-403B-BD48-10D6C201F8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41B-E360-40A0-8DD1-7951CD971E0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40A9-16F9-4E7B-AD42-67BC2AAC06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9467-3EF9-433A-9061-030FB3C6F6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9D45-DA5F-40C9-A325-5B463F74808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99FE-167E-4E0B-AEB9-B62270F85CD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E62D-6ED4-4B50-9F0E-720CD0D3ED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97BF-2CB4-4267-A480-5E4F87E43A9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8F84-BADF-4610-9FA0-BD77038C937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DE0C-9074-4397-AC5A-2C8F4B2D6F8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E5BF-40A8-4F15-851F-CA51C37A85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8AE9-4A10-4F11-966F-C53196CDE15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4853-A726-40BD-B519-EE277FDA99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10B-8EFB-4AB6-A79E-10ED1D1E192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3844-F59E-4C6A-AB35-1D3895651D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BE28-D165-41C1-9771-B0E3A770A5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F634-970A-447F-AE38-AF9FD9F340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CA48-0FFE-415C-9E30-50EF7D9E34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8DB-E4AA-4827-A9BE-CBEA6DA1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C11-DA53-4EDF-8C25-A778ED55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887-F99A-4625-95F5-979C29E1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51B-113D-4EC0-BB2D-C58C7A3F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0C1-D83B-4CDF-859C-A55EC82C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F9B-BC22-4462-A889-97C7C76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188-204D-4755-B653-7C03B32A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443-3347-4CE2-A007-00B78FE0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822-31D4-4862-B439-85B15764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5B2-31CD-4138-BA12-E2F1E80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DB6-44AF-42C9-972C-6D79AB4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D72-A367-4CC0-9F8E-60390A0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19D4-AFB2-4C4B-B108-20448BFA25F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Polinésia Francesa-Bora-Bora (5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Polinésia Francesa-Bora-Bora (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Polinésia Francesa-Bora-Bora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Polinésia Francesa-Bora-Bora (1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Polinésia Francesa-Bora-Bora (1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Polinésia Francesa-Bora-Bora (1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Polinésia Francesa-Bora-Bora (1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Polinésia Francesa-Bora-Bora (1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Polinésia Francesa-Bora-Bora (1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Polinésia Francesa-Bora-Bora (1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Polinésia Francesa-Bora-Bora (1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Polinésia Francesa-Bora-Bora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1" descr="Polinésia Francesa-Bora-Bora (1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Polinésia Francesa-Bora-Bora (2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m 1" descr="Polinésia Francesa-Bora-Bora (2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Polinésia Francesa-Bora-Bora (2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1" descr="Polinésia Francesa-Bora-Bora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Polinésia Francesa-Bora-Bora (2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1" descr="Polinésia Francesa-Bora-Bora (2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Polinésia Francesa-Bora-Bora (2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" descr="Polinésia Francesa-Bora-Bora (2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Polinésia Francesa-Bora-Bora (2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Polinésia Francesa-Bora-Bora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" descr="Polinésia Francesa-Bora-Bora (2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Polinésia Francesa-Bora-Bora (3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1" descr="Polinésia Francesa-Bora-Bora (3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Polinésia Francesa-Bora-Bora (3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1" descr="Polinésia Francesa-Bora-Bora (3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Polinésia Francesa-Bora-Bora (3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1" descr="Polinésia Francesa-Bora-Bora (3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Polinésia Francesa-Bora-Bora (3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m 1" descr="Polinésia Francesa-Bora-Bora (3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Polinésia Francesa-Bora-Bora (4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Polinésia Francesa-Bora-Bora 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1" descr="Polinésia Francesa-Bora-Bora (4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Polinésia Francesa-Bora-Bora (4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1" descr="Polinésia Francesa-Bora-Bora (4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Polinésia Francesa-Bora-Bora (4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1" descr="Polinésia Francesa-Bora-Bora (4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Polinésia Francesa-Bora-Bora (4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1" descr="Polinésia Francesa-Bora-Bora (4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Polinésia Francesa-Bora-Bora (4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Polinésia Francesa-Bora-Bora (49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Polinésia Francesa-Bora-Bora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Polinésia Francesa-Bora-Bora (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m 1" descr="Polinésia Francesa-Bora-Bora (5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m 1" descr="Polinésia Francesa-Bora-Bora (5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m 1" descr="Polinésia Francesa-Bora-Bora (5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m 1" descr="Polinésia Francesa-Bora-Bora (54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m 1" descr="Polinésia Francesa-Bora-Bora (5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m 1" descr="Polinésia Francesa-Bora-Bo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m 1" descr="Polinésia Francesa-Bora-Bora (3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Polinésia Francesa-Bora-Bora (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Polinésia Francesa-Bora-Bora (6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Polinésia Francesa-Bora-Bora (7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Polinésia Francesa-Bora-Bora (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4:20:48Z</dcterms:created>
  <dc:creator> </dc:creator>
  <dc:description/>
  <dc:language>en-US</dc:language>
  <cp:lastModifiedBy> </cp:lastModifiedBy>
  <dcterms:modified xsi:type="dcterms:W3CDTF">2007-04-26T04:31:03Z</dcterms:modified>
  <cp:revision>1</cp:revision>
  <dc:subject/>
  <dc:title>Slide 1</dc:title>
</cp:coreProperties>
</file>