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A2EA-529F-437E-ABF5-5D15B0C74CD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F307-9446-44D0-B666-818E682B611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6D62-9644-4C00-B4A4-B4862A2538D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3861-53BC-40CD-A8E7-EC2BE600BE0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2EF1-7A2C-4B9A-A407-622B1398E62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6CEC-0752-4B45-920E-9CE2011B44A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5CF1-FA21-4695-9E00-4F7760995F0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F542-890D-4220-9D3B-0C596126AC2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8FF7-1EE2-4039-851F-EE72497513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D49F-3D43-48DA-A4A0-D8E59A7332D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8763-AD0F-4131-8AFC-74F8EDE56BD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4C24-3107-4525-8514-7AA6077F3BB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63E8-3FB0-4679-822A-738DEE4D0E5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1DE1-A2B4-4253-9EA5-FE979A6A08A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27BB-2468-4615-BAAB-BF70488599B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BABF-5ECB-4C0F-AED4-D2DAF0CEEB8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0926-F7D0-4DC1-96D5-153F5538FE2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D4D9-E028-407E-9700-F25E3AAD4D7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4ABA-F0BB-4514-B2F9-418255EBAD1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7F05-C994-4BB3-88FB-0CF605B8A06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3AFA-C631-45BF-9480-2D18861A38C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982B-336D-410E-AC68-3B30300C864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94F8-47FE-494F-B02A-F62F3EE77BE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6521-1125-4244-8065-23E3C176F40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5BC2-0639-4519-844B-75D245C9072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F5F9-377E-4DB2-A0AE-819510590F3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0F77-A99B-4940-A458-7F62B0C8D9E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D615-384C-4A28-A7C2-AF3E396F9B8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76B9-6468-4374-944C-BE65673E4A6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0149-804E-42EB-B1FD-44EF671FC57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6B81-3B3C-421C-B233-F2D129168A0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C7A3-C177-4509-A54C-64E8A52497F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FCD3-9B32-41A5-B439-D9797571084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06D2-EFC7-468C-A314-A817BEC4C99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E668-DBEB-46B0-BC7C-F597BD7A61D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FBCF-928C-4954-9B86-503F2D573FA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351D-93CA-4429-AA46-2959A6D7CD0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4F36-73EA-4E1C-8292-B06AF99E9E6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226B-3D71-4071-A550-C05070DB841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BF87-3B18-4432-BD0B-37FA8FD13BF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1037-4437-4201-8CE4-26577991761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2C5C-24C7-4807-B429-67E39E213DF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7EA6-FDC1-4389-ACA9-842C3973D6E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288C-0389-48E4-9335-9CA1D5E40CB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A916-9E4C-41A7-97AC-11A13E3A8B4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BE0F-6803-449D-BF9C-2F1F3E85E84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64E6-421C-4C5B-8FDB-51EC4AD716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361F-3BCF-4E58-8E37-AF78762B093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3A1A-0D32-4B9C-BB71-0225257C7D7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51C0-EFB0-45A5-90CD-4DF73F91F8C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B7E9-C686-4A0A-8205-E60EC6C5BEC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F4BA-A0ED-436D-A13C-B54E07B3630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6C40-85C6-4F21-9D69-AE89F64CF36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DD29-139C-4828-8EF6-413C566FB81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1DC6-E3AA-4567-A867-000CB2042D9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F861-88D5-4953-8984-1AE7E26A5E7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0187-B03D-4571-A5DF-E13A5B4F58F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FDA-89A8-4948-A99F-77FBD69B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379-E15B-4636-991B-27CBE1A4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6E5-4269-4AD1-8BA6-AB8EED4D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8D6-33F9-44D3-AE02-BAE62E02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F59-3415-4EA9-888E-F7ED2129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DEE-E3C0-434E-9DDB-C4A65496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59C-8D0E-4441-9C62-F9B3B2C7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B97-B2F6-42C4-BAE5-7596553F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6D8-5E3C-4F25-93F8-E3BCD930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E9F-C4A1-415A-B7C3-5C90DE45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8DD-112A-4FF6-9368-4AF71D3E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F5E0-0F51-48CB-9A83-1E1BA2FF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63F4-0579-4354-AD50-8B282545256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" descr="Polinésia Francesa-Bora-Bora (5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1" descr="Polinésia Francesa-Bora-Bora (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1" descr="Polinésia Francesa-Bora-Bora (1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1" descr="Polinésia Francesa-Bora-Bora (1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Polinésia Francesa-Bora-Bora (1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1" descr="Polinésia Francesa-Bora-Bora (1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Polinésia Francesa-Bora-Bora (1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m 1" descr="Polinésia Francesa-Bora-Bora (1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Polinésia Francesa-Bora-Bora (1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Polinésia Francesa-Bora-Bora (1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Polinésia Francesa-Bora-Bora (18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1" descr="Polinésia Francesa-Bora-Bora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1" descr="Polinésia Francesa-Bora-Bora (1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1" descr="Polinésia Francesa-Bora-Bora (2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m 1" descr="Polinésia Francesa-Bora-Bora (2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1" descr="Polinésia Francesa-Bora-Bora (2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m 1" descr="Polinésia Francesa-Bora-Bora (2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m 1" descr="Polinésia Francesa-Bora-Bora (2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m 1" descr="Polinésia Francesa-Bora-Bora (2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1" descr="Polinésia Francesa-Bora-Bora (2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m 1" descr="Polinésia Francesa-Bora-Bora (2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1" descr="Polinésia Francesa-Bora-Bora (28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1" descr="Polinésia Francesa-Bora-Bora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1" descr="Polinésia Francesa-Bora-Bora (2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m 1" descr="Polinésia Francesa-Bora-Bora (3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m 1" descr="Polinésia Francesa-Bora-Bora (3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m 1" descr="Polinésia Francesa-Bora-Bora (3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1" descr="Polinésia Francesa-Bora-Bora (3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1" descr="Polinésia Francesa-Bora-Bora (3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m 1" descr="Polinésia Francesa-Bora-Bora (3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1" descr="Polinésia Francesa-Bora-Bora (38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m 1" descr="Polinésia Francesa-Bora-Bora (3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1" descr="Polinésia Francesa-Bora-Bora (4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1" descr="Polinésia Francesa-Bora-Bora 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m 1" descr="Polinésia Francesa-Bora-Bora (4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m 1" descr="Polinésia Francesa-Bora-Bora (4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m 1" descr="Polinésia Francesa-Bora-Bora (4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m 1" descr="Polinésia Francesa-Bora-Bora (4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m 1" descr="Polinésia Francesa-Bora-Bora (4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1" descr="Polinésia Francesa-Bora-Bora (4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m 1" descr="Polinésia Francesa-Bora-Bora (4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m 1" descr="Polinésia Francesa-Bora-Bora (48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m 1" descr="Polinésia Francesa-Bora-Bora (4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1" descr="Polinésia Francesa-Bora-Bora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Polinésia Francesa-Bora-Bora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m 1" descr="Polinésia Francesa-Bora-Bora (5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m 1" descr="Polinésia Francesa-Bora-Bora (5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m 1" descr="Polinésia Francesa-Bora-Bora (5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m 1" descr="Polinésia Francesa-Bora-Bora (5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m 1" descr="Polinésia Francesa-Bora-Bora (5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m 1" descr="Polinésia Francesa-Bora-Bo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m 1" descr="Polinésia Francesa-Bora-Bora (3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m 1" descr="Polinésia Francesa-Bora-Bora (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Polinésia Francesa-Bora-Bora (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1" descr="Polinésia Francesa-Bora-Bora (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" descr="Polinésia Francesa-Bora-Bora (8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4:20:48Z</dcterms:created>
  <dc:creator> </dc:creator>
  <dc:description/>
  <dc:language>en-US</dc:language>
  <cp:lastModifiedBy> </cp:lastModifiedBy>
  <dcterms:modified xsi:type="dcterms:W3CDTF">2007-04-26T04:31:03Z</dcterms:modified>
  <cp:revision>1</cp:revision>
  <dc:subject/>
  <dc:title>Slide 1</dc:title>
</cp:coreProperties>
</file>