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E6B-1D36-4682-985D-D6C4FE1D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A0B-2DFD-4EBC-8D5D-73C3364D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497-CE0A-4DC5-A48C-14FD1316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22E-B6AF-48D9-B2CB-B2C84484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354-5480-4715-AC0E-AF1E0D5A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B55-DDF7-48B2-B59F-5D489116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9BE-E436-473C-83A8-8D2EB79D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CF3-0EB8-460B-AB25-68A9987E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BCF-792E-4B47-B669-C5ED147C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7C5-83F2-43C0-B261-DCD5B2A9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91D-A340-408A-B148-A1B41CD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635-9EBD-4B0E-8C49-5C922BA6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8318-0257-4B3F-8E74-3AFDAF588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hilenosabusivos.blogspot.com/" TargetMode="External"/><Relationship Id="rId2" Type="http://schemas.openxmlformats.org/officeDocument/2006/relationships/hyperlink" Target="mailto:perurail_abusivos@yahoo.es" TargetMode="External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erurail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468720" y="0"/>
            <a:ext cx="7272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MACHU PICCH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5516640"/>
            <a:ext cx="72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PE" sz="8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PE" sz="8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s-PE" sz="8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452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PERU RAIL (Chile)</a:t>
            </a:r>
            <a:r>
              <a:rPr b="0" lang="es-PE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; tiene el deber de dar boletos a los escolares peruanos al precio de 30 soles, en tren de ida y vuelta </a:t>
            </a:r>
            <a:br>
              <a:rPr sz="4000"/>
            </a:b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En el mes de  Setiembre y lo que va de Octubre, Perú Rail (Chile)</a:t>
            </a:r>
            <a:r>
              <a:rPr b="0" lang="es-PE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, dejó sin visitar a mas de 14800 alumnos, por que no le dio la gana de darles boletos con ese precio, esos lugares se los dieron a turistas extranjeros</a:t>
            </a:r>
            <a:br>
              <a:rPr sz="4000"/>
            </a:b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que les cobraron en dó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Si eres peruano no te dan boletos indicando que ya no hay espacios</a:t>
            </a:r>
            <a:br>
              <a:rPr sz="4000"/>
            </a:b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 Pero si eres Chileno, te llevan hasta en helicóptero.</a:t>
            </a:r>
            <a:br>
              <a:rPr sz="4000"/>
            </a:br>
            <a:r>
              <a:rPr b="1" lang="es-PE" sz="4000" spc="-1" strike="noStrike">
                <a:solidFill>
                  <a:srgbClr val="ffff66"/>
                </a:solidFill>
                <a:latin typeface="Arial"/>
              </a:rPr>
              <a:t>   Es hora de parar todo estos abusos de esta empresa Chilena que maltrata hasta los propios Cusqueños, herederos de Machu Picchu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800" spc="-1" strike="noStrike">
                <a:solidFill>
                  <a:srgbClr val="ffff66"/>
                </a:solidFill>
                <a:latin typeface="Arial"/>
              </a:rPr>
              <a:t>Este grupo de estudiantes protesto en la vía de Ollantaytambo por que no los dejaron abordar el tren a Machu Picch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333399"/>
                </a:solidFill>
                <a:latin typeface="Arial"/>
              </a:rPr>
              <a:t>Perú Rail </a:t>
            </a:r>
            <a:r>
              <a:rPr b="1" lang="es-PE" sz="4000" spc="-1" strike="noStrike">
                <a:solidFill>
                  <a:srgbClr val="ff3300"/>
                </a:solidFill>
                <a:latin typeface="Arial"/>
              </a:rPr>
              <a:t>(Chile)</a:t>
            </a:r>
            <a:r>
              <a:rPr b="1" lang="es-PE" sz="4000" spc="-1" strike="noStrike">
                <a:solidFill>
                  <a:srgbClr val="333399"/>
                </a:solidFill>
                <a:latin typeface="Arial"/>
              </a:rPr>
              <a:t> , busca desacreditar a Machu Picchu como una Maravilla del Mundo</a:t>
            </a:r>
            <a:br>
              <a:rPr sz="4000"/>
            </a:br>
            <a:br>
              <a:rPr sz="4000"/>
            </a:br>
            <a:r>
              <a:rPr b="1" lang="es-PE" sz="4000" spc="-1" strike="noStrike">
                <a:solidFill>
                  <a:srgbClr val="333399"/>
                </a:solidFill>
                <a:latin typeface="Arial"/>
              </a:rPr>
              <a:t>Ante los ojos del Mundo, el Perú esta siendo visto como el peor país en turismo, todo gracias a los Chileno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800" spc="-1" strike="noStrike">
                <a:solidFill>
                  <a:srgbClr val="333399"/>
                </a:solidFill>
                <a:latin typeface="Arial"/>
              </a:rPr>
              <a:t>Son muchas las quejas que se encuentran en la Web referente a turistas que vivieron una pésima experiencia cuando visitaron Machu Picch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es-PE" sz="6000" spc="-1" strike="noStrike">
                <a:solidFill>
                  <a:srgbClr val="ff3300"/>
                </a:solidFill>
                <a:latin typeface="Arial"/>
              </a:rPr>
              <a:t>Es hora de hacer algo por Machu Picchu</a:t>
            </a:r>
            <a:br>
              <a:rPr sz="6000"/>
            </a:br>
            <a:r>
              <a:rPr b="1" lang="es-PE" sz="6000" spc="-1" strike="noStrike">
                <a:solidFill>
                  <a:srgbClr val="ff3300"/>
                </a:solidFill>
                <a:latin typeface="Arial"/>
              </a:rPr>
              <a:t>No permitamos que los Chilenos destruyan lo que tanto nos costo a los peruanos .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800" spc="-1" strike="noStrike">
                <a:solidFill>
                  <a:srgbClr val="333399"/>
                </a:solidFill>
                <a:latin typeface="Arial"/>
              </a:rPr>
              <a:t>Circula este mail a todos tus contactos y si han sido victimas de abuso de Perú Rail </a:t>
            </a: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(Chile) </a:t>
            </a:r>
            <a:r>
              <a:rPr b="1" lang="es-PE" sz="4800" spc="-1" strike="noStrike">
                <a:solidFill>
                  <a:srgbClr val="333399"/>
                </a:solidFill>
                <a:latin typeface="Arial"/>
              </a:rPr>
              <a:t>haz llegar tu queja aquí:</a:t>
            </a:r>
            <a:br>
              <a:rPr sz="4800"/>
            </a:br>
            <a:br>
              <a:rPr sz="4800"/>
            </a:b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hilenosabusivos.blogspot.com/</a:t>
            </a:r>
            <a:br>
              <a:rPr sz="2800"/>
            </a:br>
            <a:r>
              <a:rPr b="0" lang="es-P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urail_abusivos@yahoo.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FUJIMORI Y MONTESINOS CEDIO LA EMPRESA DE PERU RAIL A LOS CHILENOS POR MAS DE 35 AÑOS Y AUN LE QUEDA 20 AÑOS MAS, PARA SEGUIR MALTRANTANDO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400" spc="-1" strike="noStrike">
                <a:solidFill>
                  <a:srgbClr val="ff3300"/>
                </a:solidFill>
                <a:latin typeface="Arial"/>
              </a:rPr>
              <a:t>NO LO PERMITAMOS</a:t>
            </a:r>
            <a:br>
              <a:rPr sz="5400"/>
            </a:br>
            <a:r>
              <a:rPr b="1" lang="es-PE" sz="5400" spc="-1" strike="noStrike">
                <a:solidFill>
                  <a:srgbClr val="ff3300"/>
                </a:solidFill>
                <a:latin typeface="Arial"/>
              </a:rPr>
              <a:t>SI ERES UN VERDADERO PERUANO</a:t>
            </a:r>
            <a:br>
              <a:rPr sz="5400"/>
            </a:br>
            <a:r>
              <a:rPr b="1" lang="es-PE" sz="5400" spc="-1" strike="noStrike">
                <a:solidFill>
                  <a:srgbClr val="ff3300"/>
                </a:solidFill>
                <a:latin typeface="Arial"/>
              </a:rPr>
              <a:t>ES HORA DE ACABAR CON TODO ESTO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3300"/>
                </a:solidFill>
                <a:latin typeface="Arial"/>
              </a:rPr>
              <a:t>LA DEFENSORIA DEL PUEBLO NECESITA TENER LA MAYOR CANTIDAD DE  DENUNCIAS PARA ASI PEDIR AL ESTADO LA OBSERVACION DEL  CONTRATO QUE FIRMO FUJIMORI CON LOS CHILE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400" spc="-1" strike="noStrike">
                <a:solidFill>
                  <a:srgbClr val="ff3300"/>
                </a:solidFill>
                <a:latin typeface="Arial"/>
              </a:rPr>
              <a:t>ISLAS DE PASCU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365720"/>
            <a:ext cx="822960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6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s-PE" sz="9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s-PE" sz="9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PE" sz="96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lang="es-PE" sz="96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400" spc="-1" strike="noStrike">
                <a:solidFill>
                  <a:srgbClr val="333399"/>
                </a:solidFill>
                <a:latin typeface="Arial"/>
              </a:rPr>
              <a:t>NO LO PERMITAS …</a:t>
            </a:r>
            <a:br>
              <a:rPr sz="5400"/>
            </a:br>
            <a:r>
              <a:rPr b="1" lang="es-PE" sz="5400" spc="-1" strike="noStrike">
                <a:solidFill>
                  <a:srgbClr val="333399"/>
                </a:solidFill>
                <a:latin typeface="Arial"/>
              </a:rPr>
              <a:t>BASTA YA DE LOS CHILENOS  </a:t>
            </a:r>
            <a:br>
              <a:rPr sz="5400"/>
            </a:br>
            <a:r>
              <a:rPr b="1" lang="es-PE" sz="5400" spc="-1" strike="noStrike">
                <a:solidFill>
                  <a:srgbClr val="333399"/>
                </a:solidFill>
                <a:latin typeface="Arial"/>
              </a:rPr>
              <a:t>DE PERU RAIL QUE MANEJAN EL TURISMO DE NUESTRO PAIS</a:t>
            </a:r>
            <a:r>
              <a:rPr b="0" lang="es-PE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HAGAMOS QUE LA MAJESTUOSIDAD DE MACHUPICCHU Y SUS RUTAS FERROVIARIAS , ESTEN OTRA VEZ EN MANOS DE LOS PERUANO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6840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20500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400" spc="-1" strike="noStrike">
                <a:solidFill>
                  <a:srgbClr val="ffffff"/>
                </a:solidFill>
                <a:latin typeface="Arial"/>
              </a:rPr>
              <a:t>Machu Picchu Maravilla del mundo… le duela a quien le due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Machu Picchu </a:t>
            </a:r>
            <a:br>
              <a:rPr sz="4400"/>
            </a:b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SI</a:t>
            </a:r>
            <a:r>
              <a:rPr b="1" lang="es-PE" sz="4400" spc="-1" strike="noStrike">
                <a:solidFill>
                  <a:srgbClr val="000000"/>
                </a:solidFill>
                <a:latin typeface="Arial"/>
              </a:rPr>
              <a:t> fue elegida una de las 07 Maravillas del Mundo y es del Per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357336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La Isla de Pascua</a:t>
            </a:r>
            <a:br>
              <a:rPr sz="4400"/>
            </a:b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No </a:t>
            </a:r>
            <a:r>
              <a:rPr b="1" lang="es-PE" sz="4400" spc="-1" strike="noStrike">
                <a:solidFill>
                  <a:srgbClr val="000000"/>
                </a:solidFill>
                <a:latin typeface="Arial"/>
              </a:rPr>
              <a:t>fue elegida una de las 07 Maravillas del Mundo y es de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47280" y="259920"/>
            <a:ext cx="8496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66"/>
                </a:solidFill>
                <a:latin typeface="Arial"/>
              </a:rPr>
              <a:t>La única vía de transportarse a la ciudadela de Machu Picchu es vía t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66"/>
                </a:solidFill>
                <a:latin typeface="Arial"/>
              </a:rPr>
              <a:t>Perú Rail, es la única operadora ferroviaria que se encarga de trasladar a todos los turistas nacionales y extranjeros a Machu Picchu.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66"/>
                </a:solidFill>
                <a:latin typeface="Arial"/>
              </a:rPr>
              <a:t>PERU RAIL, fue vendida por Fujimori y Montesinos a los CHIL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549360"/>
            <a:ext cx="8569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AHORA LOS CHILENOS, ESTAN TIRANDO AL  PISO LA ATRACCION TURISTICA MAS IMPORTANTE DEL PERU, QUE ES MACHUPICCHU , CON TODOS SUS MALTRATOS A LOS TURISTAS QUE VIENEN AL PE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260280"/>
            <a:ext cx="8748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333399"/>
                </a:solidFill>
                <a:latin typeface="Arial"/>
              </a:rPr>
              <a:t>PERU RAIL </a:t>
            </a:r>
            <a:r>
              <a:rPr b="1" lang="es-PE" sz="4000" spc="-1" strike="noStrike">
                <a:solidFill>
                  <a:srgbClr val="ff3300"/>
                </a:solidFill>
                <a:latin typeface="Arial"/>
              </a:rPr>
              <a:t>(Chile)</a:t>
            </a:r>
            <a:r>
              <a:rPr b="1" lang="es-PE" sz="4000" spc="-1" strike="noStrike">
                <a:solidFill>
                  <a:srgbClr val="333399"/>
                </a:solidFill>
                <a:latin typeface="Arial"/>
              </a:rPr>
              <a:t> ABUSA CONSTANTEMENTE DE LOS TURISTAS, CANCELAN SALIDAS CUANDO LES DA LA GANA, SUBE SUS PRECIOS SIN AVISAR A NADIE SIN INTERESARLES QUE HAY TURISTAS QUE NO PODRAN REGRESAR OTRA VEZ AL PERU CAUSANDO LA MOLESTIA Y EL RECLAMO DE LOS TURISTA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LOS TURISTAS NO SABEN QUE PERU RAIL ES UNA EMPRESA CHILENA. </a:t>
            </a:r>
            <a:br>
              <a:rPr sz="4400"/>
            </a:br>
            <a:br>
              <a:rPr sz="4400"/>
            </a:b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ELLOS DICEN; ESTOS PERUANOS NOS TRATARON MAL SON UNOS LADRONES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0028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PERU RAIL </a:t>
            </a:r>
            <a:r>
              <a:rPr b="1" lang="es-PE" sz="3200" spc="-1" strike="noStrike">
                <a:solidFill>
                  <a:srgbClr val="ff3300"/>
                </a:solidFill>
                <a:latin typeface="Arial"/>
              </a:rPr>
              <a:t>(Chile)</a:t>
            </a:r>
            <a:r>
              <a:rPr b="1" lang="es-PE" sz="4400" spc="-1" strike="noStrike">
                <a:solidFill>
                  <a:srgbClr val="333399"/>
                </a:solidFill>
                <a:latin typeface="Arial"/>
              </a:rPr>
              <a:t> cobra una tarifa escalofriante, para el pésimo servicio que da; en su pagina Web puedes comprobarlo : </a:t>
            </a:r>
            <a:r>
              <a:rPr b="0" lang="es-P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erurai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541440" y="-387360"/>
            <a:ext cx="6697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3300"/>
                </a:solidFill>
                <a:latin typeface="Arial"/>
              </a:rPr>
              <a:t>Estas son sus tarif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147160" cy="4525920"/>
        </p:xfrm>
        <a:graphic>
          <a:graphicData uri="http://schemas.openxmlformats.org/drawingml/2006/table">
            <a:tbl>
              <a:tblPr/>
              <a:tblGrid>
                <a:gridCol w="2716200"/>
                <a:gridCol w="2714760"/>
                <a:gridCol w="2716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A Y VU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A O VUE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iram Bingh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54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325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istadome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kpack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113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7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66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4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istadome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ckpack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77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5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S$ 46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5:31:59Z</dcterms:created>
  <dc:creator>ODorado</dc:creator>
  <dc:description/>
  <dc:language>en-US</dc:language>
  <cp:lastModifiedBy>NMRCD</cp:lastModifiedBy>
  <dcterms:modified xsi:type="dcterms:W3CDTF">2009-07-22T03:13:25Z</dcterms:modified>
  <cp:revision>10</cp:revision>
  <dc:subject/>
  <dc:title>Machupicchu  SI fue elegida una de las 07 Maravillas del Mundo y es del Perú</dc:title>
</cp:coreProperties>
</file>