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F8E3-33BE-470C-AA18-CAB441424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4388-8CA7-4DAB-BD7F-BD3925C5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6DF4-78AE-4FFE-85D3-2949E2118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8F1B-82BE-4923-92F5-9B25CF69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7DED-094E-419E-AFE8-A4BB877F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4216-FA88-4FB7-9971-F7914EBB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B4E1-4A3E-4BDA-83B4-418D8D0E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4ADA-8616-429B-8DFF-059A258A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8176-EE2B-4CF2-B8A0-6B70C034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1840-27EE-43EF-BAAA-E319472E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D7E8-F8F4-459D-8724-37A48145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8D4A-0846-4E33-9F43-A0DB88E6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93AC-C777-4473-8608-88658132C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hilenosabusivos.blogspot.com/" TargetMode="External"/><Relationship Id="rId2" Type="http://schemas.openxmlformats.org/officeDocument/2006/relationships/hyperlink" Target="mailto:perurail_abusivos@yahoo.es" TargetMode="External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erurail.com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468720" y="0"/>
            <a:ext cx="7272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ff3300"/>
                </a:solidFill>
                <a:latin typeface="Arial"/>
              </a:rPr>
              <a:t>MACHU PICCH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5516640"/>
            <a:ext cx="727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s-PE" sz="8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s-PE" sz="8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s-PE" sz="80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4452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ffff66"/>
                </a:solidFill>
                <a:latin typeface="Arial"/>
              </a:rPr>
              <a:t>PERU RAIL (Chile)</a:t>
            </a:r>
            <a:r>
              <a:rPr b="0" lang="es-PE" sz="4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s-PE" sz="4000" spc="-1" strike="noStrike">
                <a:solidFill>
                  <a:srgbClr val="ffff66"/>
                </a:solidFill>
                <a:latin typeface="Arial"/>
              </a:rPr>
              <a:t>; tiene el deber de dar boletos a los escolares peruanos al precio de 30 soles, en tren de ida y vuelta </a:t>
            </a:r>
            <a:br>
              <a:rPr sz="4000"/>
            </a:br>
            <a:r>
              <a:rPr b="1" lang="es-PE" sz="4000" spc="-1" strike="noStrike">
                <a:solidFill>
                  <a:srgbClr val="ffff66"/>
                </a:solidFill>
                <a:latin typeface="Arial"/>
              </a:rPr>
              <a:t>En el mes de  Setiembre y lo que va de Octubre, Perú Rail (Chile)</a:t>
            </a:r>
            <a:r>
              <a:rPr b="0" lang="es-PE" sz="4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s-PE" sz="4000" spc="-1" strike="noStrike">
                <a:solidFill>
                  <a:srgbClr val="ffff66"/>
                </a:solidFill>
                <a:latin typeface="Arial"/>
              </a:rPr>
              <a:t>, dejó sin visitar a mas de 14800 alumnos, por que no le dio la gana de darles boletos con ese precio, esos lugares se los dieron a turistas extranjeros</a:t>
            </a:r>
            <a:br>
              <a:rPr sz="4000"/>
            </a:br>
            <a:r>
              <a:rPr b="1" lang="es-PE" sz="4000" spc="-1" strike="noStrike">
                <a:solidFill>
                  <a:srgbClr val="ffff66"/>
                </a:solidFill>
                <a:latin typeface="Arial"/>
              </a:rPr>
              <a:t>que les cobraron en dó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ffff66"/>
                </a:solidFill>
                <a:latin typeface="Arial"/>
              </a:rPr>
              <a:t>Si eres peruano no te dan boletos indicando que ya no hay espacios</a:t>
            </a:r>
            <a:br>
              <a:rPr sz="4000"/>
            </a:br>
            <a:r>
              <a:rPr b="1" lang="es-PE" sz="4000" spc="-1" strike="noStrike">
                <a:solidFill>
                  <a:srgbClr val="ffff66"/>
                </a:solidFill>
                <a:latin typeface="Arial"/>
              </a:rPr>
              <a:t> Pero si eres Chileno, te llevan hasta en helicóptero.</a:t>
            </a:r>
            <a:br>
              <a:rPr sz="4000"/>
            </a:br>
            <a:r>
              <a:rPr b="1" lang="es-PE" sz="4000" spc="-1" strike="noStrike">
                <a:solidFill>
                  <a:srgbClr val="ffff66"/>
                </a:solidFill>
                <a:latin typeface="Arial"/>
              </a:rPr>
              <a:t>   Es hora de parar todo estos abusos de esta empresa Chilena que maltrata hasta los propios Cusqueños, herederos de Machu Picchu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98280"/>
            <a:ext cx="9144000" cy="6759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800" spc="-1" strike="noStrike">
                <a:solidFill>
                  <a:srgbClr val="ffff66"/>
                </a:solidFill>
                <a:latin typeface="Arial"/>
              </a:rPr>
              <a:t>Este grupo de estudiantes protesto en la vía de Ollantaytambo por que no los dejaron abordar el tren a Machu Picch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333399"/>
                </a:solidFill>
                <a:latin typeface="Arial"/>
              </a:rPr>
              <a:t>Perú Rail </a:t>
            </a:r>
            <a:r>
              <a:rPr b="1" lang="es-PE" sz="4000" spc="-1" strike="noStrike">
                <a:solidFill>
                  <a:srgbClr val="ff3300"/>
                </a:solidFill>
                <a:latin typeface="Arial"/>
              </a:rPr>
              <a:t>(Chile)</a:t>
            </a:r>
            <a:r>
              <a:rPr b="1" lang="es-PE" sz="4000" spc="-1" strike="noStrike">
                <a:solidFill>
                  <a:srgbClr val="333399"/>
                </a:solidFill>
                <a:latin typeface="Arial"/>
              </a:rPr>
              <a:t> , busca desacreditar a Machu Picchu como una Maravilla del Mundo</a:t>
            </a:r>
            <a:br>
              <a:rPr sz="4000"/>
            </a:br>
            <a:br>
              <a:rPr sz="4000"/>
            </a:br>
            <a:r>
              <a:rPr b="1" lang="es-PE" sz="4000" spc="-1" strike="noStrike">
                <a:solidFill>
                  <a:srgbClr val="333399"/>
                </a:solidFill>
                <a:latin typeface="Arial"/>
              </a:rPr>
              <a:t>Ante los ojos del Mundo, el Perú esta siendo visto como el peor país en turismo, todo gracias a los Chileno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800" spc="-1" strike="noStrike">
                <a:solidFill>
                  <a:srgbClr val="333399"/>
                </a:solidFill>
                <a:latin typeface="Arial"/>
              </a:rPr>
              <a:t>Son muchas las quejas que se encuentran en la Web referente a turistas que vivieron una pésima experiencia cuando visitaron Machu Picch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r>
              <a:rPr b="1" lang="es-PE" sz="6000" spc="-1" strike="noStrike">
                <a:solidFill>
                  <a:srgbClr val="ff3300"/>
                </a:solidFill>
                <a:latin typeface="Arial"/>
              </a:rPr>
              <a:t>Es hora de hacer algo por Machu Picchu</a:t>
            </a:r>
            <a:br>
              <a:rPr sz="6000"/>
            </a:br>
            <a:r>
              <a:rPr b="1" lang="es-PE" sz="6000" spc="-1" strike="noStrike">
                <a:solidFill>
                  <a:srgbClr val="ff3300"/>
                </a:solidFill>
                <a:latin typeface="Arial"/>
              </a:rPr>
              <a:t>No permitamos que los Chilenos destruyan lo que tanto nos costo a los peruanos .</a:t>
            </a:r>
            <a:br>
              <a:rPr sz="6000"/>
            </a:br>
            <a:br>
              <a:rPr sz="6000"/>
            </a:br>
            <a:br>
              <a:rPr sz="4000"/>
            </a:b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800" spc="-1" strike="noStrike">
                <a:solidFill>
                  <a:srgbClr val="333399"/>
                </a:solidFill>
                <a:latin typeface="Arial"/>
              </a:rPr>
              <a:t>Circula este mail a todos tus contactos y si han sido victimas de abuso de Perú Rail </a:t>
            </a:r>
            <a:r>
              <a:rPr b="1" lang="es-PE" sz="4400" spc="-1" strike="noStrike">
                <a:solidFill>
                  <a:srgbClr val="ff3300"/>
                </a:solidFill>
                <a:latin typeface="Arial"/>
              </a:rPr>
              <a:t>(Chile) </a:t>
            </a:r>
            <a:r>
              <a:rPr b="1" lang="es-PE" sz="4800" spc="-1" strike="noStrike">
                <a:solidFill>
                  <a:srgbClr val="333399"/>
                </a:solidFill>
                <a:latin typeface="Arial"/>
              </a:rPr>
              <a:t>haz llegar tu queja aquí:</a:t>
            </a:r>
            <a:br>
              <a:rPr sz="4800"/>
            </a:br>
            <a:br>
              <a:rPr sz="4800"/>
            </a:br>
            <a:r>
              <a:rPr b="0" lang="es-PE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hilenosabusivos.blogspot.com/</a:t>
            </a:r>
            <a:br>
              <a:rPr sz="2800"/>
            </a:br>
            <a:r>
              <a:rPr b="0" lang="es-PE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erurail_abusivos@yahoo.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333399"/>
                </a:solidFill>
                <a:latin typeface="Arial"/>
              </a:rPr>
              <a:t>FUJIMORI Y MONTESINOS CEDIO LA EMPRESA DE PERU RAIL A LOS CHILENOS POR MAS DE 35 AÑOS Y AUN LE QUEDA 20 AÑOS MAS, PARA SEGUIR MALTRANTANDO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400" spc="-1" strike="noStrike">
                <a:solidFill>
                  <a:srgbClr val="ff3300"/>
                </a:solidFill>
                <a:latin typeface="Arial"/>
              </a:rPr>
              <a:t>NO LO PERMITAMOS</a:t>
            </a:r>
            <a:br>
              <a:rPr sz="5400"/>
            </a:br>
            <a:r>
              <a:rPr b="1" lang="es-PE" sz="5400" spc="-1" strike="noStrike">
                <a:solidFill>
                  <a:srgbClr val="ff3300"/>
                </a:solidFill>
                <a:latin typeface="Arial"/>
              </a:rPr>
              <a:t>SI ERES UN VERDADERO PERUANO</a:t>
            </a:r>
            <a:br>
              <a:rPr sz="5400"/>
            </a:br>
            <a:r>
              <a:rPr b="1" lang="es-PE" sz="5400" spc="-1" strike="noStrike">
                <a:solidFill>
                  <a:srgbClr val="ff3300"/>
                </a:solidFill>
                <a:latin typeface="Arial"/>
              </a:rPr>
              <a:t>ES HORA DE ACABAR CON TODO ESTO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ff3300"/>
                </a:solidFill>
                <a:latin typeface="Arial"/>
              </a:rPr>
              <a:t>LA DEFENSORIA DEL PUEBLO NECESITA TENER LA MAYOR CANTIDAD DE  DENUNCIAS PARA ASI PEDIR AL ESTADO LA OBSERVACION DEL  CONTRATO QUE FIRMO FUJIMORI CON LOS CHILE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400" spc="-1" strike="noStrike">
                <a:solidFill>
                  <a:srgbClr val="ff3300"/>
                </a:solidFill>
                <a:latin typeface="Arial"/>
              </a:rPr>
              <a:t>ISLAS DE PASCU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4365720"/>
            <a:ext cx="822960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6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es-PE" sz="96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s-PE" sz="9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s-PE" sz="9600" spc="-1" strike="noStrike">
                <a:solidFill>
                  <a:srgbClr val="ff3300"/>
                </a:solidFill>
                <a:latin typeface="Arial"/>
              </a:rPr>
              <a:t>L</a:t>
            </a:r>
            <a:r>
              <a:rPr b="1" lang="es-PE" sz="96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400" spc="-1" strike="noStrike">
                <a:solidFill>
                  <a:srgbClr val="333399"/>
                </a:solidFill>
                <a:latin typeface="Arial"/>
              </a:rPr>
              <a:t>NO LO PERMITAS …</a:t>
            </a:r>
            <a:br>
              <a:rPr sz="5400"/>
            </a:br>
            <a:r>
              <a:rPr b="1" lang="es-PE" sz="5400" spc="-1" strike="noStrike">
                <a:solidFill>
                  <a:srgbClr val="333399"/>
                </a:solidFill>
                <a:latin typeface="Arial"/>
              </a:rPr>
              <a:t>BASTA YA DE LOS CHILENOS  </a:t>
            </a:r>
            <a:br>
              <a:rPr sz="5400"/>
            </a:br>
            <a:r>
              <a:rPr b="1" lang="es-PE" sz="5400" spc="-1" strike="noStrike">
                <a:solidFill>
                  <a:srgbClr val="333399"/>
                </a:solidFill>
                <a:latin typeface="Arial"/>
              </a:rPr>
              <a:t>DE PERU RAIL QUE MANEJAN EL TURISMO DE NUESTRO PAIS</a:t>
            </a:r>
            <a:r>
              <a:rPr b="0" lang="es-PE" sz="5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ff3300"/>
                </a:solidFill>
                <a:latin typeface="Arial"/>
              </a:rPr>
              <a:t>HAGAMOS QUE LA MAJESTUOSIDAD DE MACHUPICCHU Y SUS RUTAS FERROVIARIAS , ESTEN OTRA VEZ EN MANOS DE LOS PERUANOS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60000" cy="6840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20500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400" spc="-1" strike="noStrike">
                <a:solidFill>
                  <a:srgbClr val="ffffff"/>
                </a:solidFill>
                <a:latin typeface="Arial"/>
              </a:rPr>
              <a:t>Machu Picchu Maravilla del mundo… le duela a quien le duela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ff3300"/>
                </a:solidFill>
                <a:latin typeface="Arial"/>
              </a:rPr>
              <a:t>Machu Picchu </a:t>
            </a:r>
            <a:br>
              <a:rPr sz="4400"/>
            </a:br>
            <a:r>
              <a:rPr b="1" lang="es-PE" sz="4400" spc="-1" strike="noStrike">
                <a:solidFill>
                  <a:srgbClr val="ff3300"/>
                </a:solidFill>
                <a:latin typeface="Arial"/>
              </a:rPr>
              <a:t>SI</a:t>
            </a:r>
            <a:r>
              <a:rPr b="1" lang="es-PE" sz="4400" spc="-1" strike="noStrike">
                <a:solidFill>
                  <a:srgbClr val="000000"/>
                </a:solidFill>
                <a:latin typeface="Arial"/>
              </a:rPr>
              <a:t> fue elegida una de las 07 Maravillas del Mundo y es del Per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3573360"/>
            <a:ext cx="7772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ff3300"/>
                </a:solidFill>
                <a:latin typeface="Arial"/>
              </a:rPr>
              <a:t>La Isla de Pascua</a:t>
            </a:r>
            <a:br>
              <a:rPr sz="4400"/>
            </a:br>
            <a:r>
              <a:rPr b="1" lang="es-PE" sz="4400" spc="-1" strike="noStrike">
                <a:solidFill>
                  <a:srgbClr val="333399"/>
                </a:solidFill>
                <a:latin typeface="Arial"/>
              </a:rPr>
              <a:t>No </a:t>
            </a:r>
            <a:r>
              <a:rPr b="1" lang="es-PE" sz="4400" spc="-1" strike="noStrike">
                <a:solidFill>
                  <a:srgbClr val="000000"/>
                </a:solidFill>
                <a:latin typeface="Arial"/>
              </a:rPr>
              <a:t>fue elegida una de las 07 Maravillas del Mundo y es de 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47280" y="259920"/>
            <a:ext cx="84963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ffff66"/>
                </a:solidFill>
                <a:latin typeface="Arial"/>
              </a:rPr>
              <a:t>La única vía de transportarse a la ciudadela de Machu Picchu es vía t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ffff66"/>
                </a:solidFill>
                <a:latin typeface="Arial"/>
              </a:rPr>
              <a:t>Perú Rail, es la única operadora ferroviaria que se encarga de trasladar a todos los turistas nacionales y extranjeros a Machu Picchu.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ffff66"/>
                </a:solidFill>
                <a:latin typeface="Arial"/>
              </a:rPr>
              <a:t>PERU RAIL, fue vendida por Fujimori y Montesinos a los CHILE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5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7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549360"/>
            <a:ext cx="85690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333399"/>
                </a:solidFill>
                <a:latin typeface="Arial"/>
              </a:rPr>
              <a:t>AHORA LOS CHILENOS, ESTAN TIRANDO AL  PISO LA ATRACCION TURISTICA MAS IMPORTANTE DEL PERU, QUE ES MACHUPICCHU , CON TODOS SUS MALTRATOS A LOS TURISTAS QUE VIENEN AL PE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5280" y="260280"/>
            <a:ext cx="8748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333399"/>
                </a:solidFill>
                <a:latin typeface="Arial"/>
              </a:rPr>
              <a:t>PERU RAIL </a:t>
            </a:r>
            <a:r>
              <a:rPr b="1" lang="es-PE" sz="4000" spc="-1" strike="noStrike">
                <a:solidFill>
                  <a:srgbClr val="ff3300"/>
                </a:solidFill>
                <a:latin typeface="Arial"/>
              </a:rPr>
              <a:t>(Chile)</a:t>
            </a:r>
            <a:r>
              <a:rPr b="1" lang="es-PE" sz="4000" spc="-1" strike="noStrike">
                <a:solidFill>
                  <a:srgbClr val="333399"/>
                </a:solidFill>
                <a:latin typeface="Arial"/>
              </a:rPr>
              <a:t> ABUSA CONSTANTEMENTE DE LOS TURISTAS, CANCELAN SALIDAS CUANDO LES DA LA GANA, SUBE SUS PRECIOS SIN AVISAR A NADIE SIN INTERESARLES QUE HAY TURISTAS QUE NO PODRAN REGRESAR OTRA VEZ AL PERU CAUSANDO LA MOLESTIA Y EL RECLAMO DE LOS TURIST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333399"/>
                </a:solidFill>
                <a:latin typeface="Arial"/>
              </a:rPr>
              <a:t>LOS TURISTAS NO SABEN QUE PERU RAIL ES UNA EMPRESA CHILENA. </a:t>
            </a:r>
            <a:br>
              <a:rPr sz="4400"/>
            </a:br>
            <a:br>
              <a:rPr sz="4400"/>
            </a:br>
            <a:r>
              <a:rPr b="1" lang="es-PE" sz="4400" spc="-1" strike="noStrike">
                <a:solidFill>
                  <a:srgbClr val="333399"/>
                </a:solidFill>
                <a:latin typeface="Arial"/>
              </a:rPr>
              <a:t>ELLOS DICEN; ESTOS PERUANOS NOS TRATARON MAL SON UNOS LADRONES</a:t>
            </a:r>
            <a:r>
              <a:rPr b="0" lang="es-PE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700280"/>
            <a:ext cx="7993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333399"/>
                </a:solidFill>
                <a:latin typeface="Arial"/>
              </a:rPr>
              <a:t>PERU RAIL </a:t>
            </a:r>
            <a:r>
              <a:rPr b="1" lang="es-PE" sz="3200" spc="-1" strike="noStrike">
                <a:solidFill>
                  <a:srgbClr val="ff3300"/>
                </a:solidFill>
                <a:latin typeface="Arial"/>
              </a:rPr>
              <a:t>(Chile)</a:t>
            </a:r>
            <a:r>
              <a:rPr b="1" lang="es-PE" sz="4400" spc="-1" strike="noStrike">
                <a:solidFill>
                  <a:srgbClr val="333399"/>
                </a:solidFill>
                <a:latin typeface="Arial"/>
              </a:rPr>
              <a:t> cobra una tarifa escalofriante, para el pésimo servicio que da; en su pagina Web puedes comprobarlo : </a:t>
            </a:r>
            <a:r>
              <a:rPr b="0" lang="es-PE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erurail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-541440" y="-387360"/>
            <a:ext cx="66978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ff3300"/>
                </a:solidFill>
                <a:latin typeface="Arial"/>
              </a:rPr>
              <a:t>Estas son sus tarif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147160" cy="4525920"/>
        </p:xfrm>
        <a:graphic>
          <a:graphicData uri="http://schemas.openxmlformats.org/drawingml/2006/table">
            <a:tbl>
              <a:tblPr/>
              <a:tblGrid>
                <a:gridCol w="2716200"/>
                <a:gridCol w="2714760"/>
                <a:gridCol w="27162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A Y VUE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A O VUE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Hiram Bingham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US$ 54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US$ 325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istadome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ackpack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US$ 113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US$ 7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US$ 66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US$ 46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istadome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ackpack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US$ 77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US$ 5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US$ 46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-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5:31:59Z</dcterms:created>
  <dc:creator>ODorado</dc:creator>
  <dc:description/>
  <dc:language>en-US</dc:language>
  <cp:lastModifiedBy>NMRCD</cp:lastModifiedBy>
  <dcterms:modified xsi:type="dcterms:W3CDTF">2009-07-22T03:13:25Z</dcterms:modified>
  <cp:revision>10</cp:revision>
  <dc:subject/>
  <dc:title>Machupicchu  SI fue elegida una de las 07 Maravillas del Mundo y es del Perú</dc:title>
</cp:coreProperties>
</file>