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Kothbiro%20-%20El%20jardinero%20fiel.wav" ContentType="audio/x-wav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E77-5FFA-4DE1-A91C-23A61137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0D4-3496-40F5-ADEC-D195C2C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CD3-9F7A-4E87-9D9F-37E3138A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27A-E8D3-4729-830A-AF926964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FA7-547C-4AC1-9E26-4CEA4889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F59-B696-41BC-930E-A48E5B1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AFE-042B-4BA7-AD09-33514C4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DB6-A86E-4319-87C6-3561FB6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F99-A0E2-4A62-B546-16EC160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7E2-FF2C-483B-8858-DE2BA37A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659-39AC-4B8E-8DDC-C272E15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95D-1EE1-4F02-9152-F42F980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7F0-612B-48A9-A0DB-95837887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othbiro%20-%20El%20jardinero%20fi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¡Me declaro viv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17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47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913160" y="5943600"/>
            <a:ext cx="10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Avanz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o AvPá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97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hamalú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Indio Quech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ab5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izás solamente teníamos que ser human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33920" y="1980720"/>
            <a:ext cx="76176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143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215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365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que tú no veas los átomos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significa que no existan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838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8120" y="838080"/>
            <a:ext cx="76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q16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5716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7d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Por eso es muy importante que sea el Amor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o único que inspire tus act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720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ás1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0866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86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in Amor nada tiene sentido, sin Amor estamos perdidos,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in Amor corremos el riesgo de estar de nuevo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transitando de espaldas a la luz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5840" y="1981080"/>
            <a:ext cx="609480" cy="1067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5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05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516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5028840"/>
            <a:ext cx="3733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n realidad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sólo hablo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para recordarte 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importancia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del silen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209320"/>
            <a:ext cx="457200" cy="83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0120" y="2514240"/>
            <a:ext cx="457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ORUGA_MG_6813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31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50000">
              <a:srgbClr val="ccff99"/>
            </a:gs>
            <a:gs pos="100000">
              <a:srgbClr val="ffff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Anhelo que descubras el mensaje que se encuentra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detrás de las palabras; no soy un sabio,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ólo un enamorado de la v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14800" y="1980720"/>
            <a:ext cx="3808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68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aharaji10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17220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43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silencio es la clav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simplicidad es la puert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deja fuera a los imbé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160" y="1981080"/>
            <a:ext cx="53316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914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22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78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gente feliz no es rentable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con lucidez no hay necesidades innecesarias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980720"/>
            <a:ext cx="609840" cy="838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48360" y="2133360"/>
            <a:ext cx="152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roqueta-de-polen" descr=""/>
          <p:cNvPicPr/>
          <p:nvPr/>
        </p:nvPicPr>
        <p:blipFill>
          <a:blip r:embed="rId3"/>
          <a:stretch/>
        </p:blipFill>
        <p:spPr>
          <a:xfrm>
            <a:off x="914400" y="457200"/>
            <a:ext cx="72388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es suficiente querer despertar, sino despert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1980720"/>
            <a:ext cx="30456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14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51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1451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jor forma de despertar es hacerl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preocuparse porque nuestros act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incomoden a quienes duermen al lado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360" y="1980720"/>
            <a:ext cx="759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aracol" descr=""/>
          <p:cNvPicPr/>
          <p:nvPr/>
        </p:nvPicPr>
        <p:blipFill>
          <a:blip r:embed="rId3"/>
          <a:stretch/>
        </p:blipFill>
        <p:spPr>
          <a:xfrm>
            <a:off x="1447920" y="533520"/>
            <a:ext cx="639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aboreo cada acto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2951280"/>
            <a:ext cx="64764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288144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0051_Nomeolvides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43f"/>
            </a:gs>
            <a:gs pos="100000">
              <a:srgbClr val="ffff6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Recuerda que el deseo de hacerlo bien será una interferencia.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s más importante amar lo que hacemo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disfrutar de todo el trayect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040" y="1981080"/>
            <a:ext cx="15228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52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71" descr=""/>
          <p:cNvPicPr/>
          <p:nvPr/>
        </p:nvPicPr>
        <p:blipFill>
          <a:blip r:embed="rId2"/>
          <a:stretch/>
        </p:blipFill>
        <p:spPr>
          <a:xfrm>
            <a:off x="2057400" y="762120"/>
            <a:ext cx="525780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ta no existe, el camino y la meta son lo mismo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tenemos que correr hacia ninguna part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ólo saber dar cada paso plen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80880" cy="609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elusaverde1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70866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50000">
              <a:srgbClr val="ffffa1"/>
            </a:gs>
            <a:gs pos="100000">
              <a:srgbClr val="ffff6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No, no te resistas, ríndete a la vida.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Quien acepta lo que e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se habilita para hacer lo que puede,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ncarna las utopía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lo imposible se pone a disposi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761760" cy="1218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1371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SC_6434800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7012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32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jor manera de ser feliz es: 'ser feliz’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ye tu raíz y saborea la vid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20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934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omos como peces de mares profundos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 salimos a la superficie reventam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24000" y="2951280"/>
            <a:ext cx="64764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00360" y="281304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barracudas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156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b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frivolidad y la intrascendenci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ondenan la vida a la muert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41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4022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2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Cuando somos más grandes que lo que hacemos, 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nada puede desequilibrarnos.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Pero cuando permitimos que las cosas sean más grandes 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que nosotros, nuestro desequilibrio está garantizado. 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10280" y="1980720"/>
            <a:ext cx="1447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6720" y="1980720"/>
            <a:ext cx="2286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_AGU8700-2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69343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corazón está en emergencia por falta de amor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ay que volver a conquistar la vida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amorarnos otra vez de ell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380880" cy="76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52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35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60958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e00"/>
            </a:gs>
            <a:gs pos="100000">
              <a:srgbClr val="005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uestro potencial interior aflora espontáneament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ndo nos dejamos en pa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1640" y="76176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76760" y="1980720"/>
            <a:ext cx="1981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ecinos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1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izá sólo seamos agua fluyendo;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camino nos lo tenemos que hacer nosotros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160" y="1981080"/>
            <a:ext cx="533160" cy="106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044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516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ntes cuidaba que los demás no hablaran mal de mí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tonces me portaba como los demás quería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mi conciencia me censuraba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36720" y="3642840"/>
            <a:ext cx="93492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280" y="3505320"/>
            <a:ext cx="1152360" cy="1342800"/>
          </a:xfrm>
          <a:prstGeom prst="rect">
            <a:avLst/>
          </a:prstGeom>
          <a:ln w="0">
            <a:noFill/>
          </a:ln>
        </p:spPr>
      </p:pic>
      <p:pic>
        <p:nvPicPr>
          <p:cNvPr id="52" name="100_1981_-_Flor_en_el_cielo_-_Reducida" descr=""/>
          <p:cNvPicPr/>
          <p:nvPr/>
        </p:nvPicPr>
        <p:blipFill>
          <a:blip r:embed="rId2"/>
          <a:stretch/>
        </p:blipFill>
        <p:spPr>
          <a:xfrm>
            <a:off x="1752480" y="838080"/>
            <a:ext cx="555336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ás no permitas que el cauce esclavice al rí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sea que en vez de un camino tengas una cárc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rio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1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5f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infelicidad no es un problema técnic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l resultado de haber tomado el camino equivo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4840" y="198108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º45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Amo mi locura que me vacuna contra la estupidez.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Amo el  amor que me inmuniza ante la infelicidad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que pulula por doquier, infectando almas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y atrofiando corazone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1980720"/>
            <a:ext cx="1447920" cy="381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01000" y="198072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_DSC9597-copia-1024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72388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l amor es, a nivel sutil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esencia de nuestra instancia inmunológica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43040" y="1981080"/>
            <a:ext cx="15228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761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Maharaji2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183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700"/>
            </a:gs>
            <a:gs pos="100000">
              <a:srgbClr val="79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acostumbrada a complicarse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rechaza de antemano la simplicidad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85840" y="198072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06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2" descr=""/>
          <p:cNvPicPr/>
          <p:nvPr/>
        </p:nvPicPr>
        <p:blipFill>
          <a:blip r:embed="rId2"/>
          <a:stretch/>
        </p:blipFill>
        <p:spPr>
          <a:xfrm>
            <a:off x="1295280" y="68580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5a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acostumbrada a ser infeliz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la sensación de felicidad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es resulta sospechos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91120" y="1980720"/>
            <a:ext cx="30456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apuchino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reprimida, que la espontánea ternur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e incomoda y el amor le inspira desconfi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8480" y="198072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arbolppt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40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bff"/>
            </a:gs>
            <a:gs pos="50000">
              <a:srgbClr val="ffc9a5"/>
            </a:gs>
            <a:gs pos="100000">
              <a:srgbClr val="ffd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Hay cosas que son muy razonables, objetivas y... apest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9520" y="1981080"/>
            <a:ext cx="685800" cy="1524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r13PAJAROSCIELO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21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a no podemos perder el tiemp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seguir aprendiendo técnicas espirituales cuando aún estamos vacíos de am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95680" y="1904760"/>
            <a:ext cx="152640" cy="759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28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º9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21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5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Quienes no están preparados para escuchar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tienen la recompensa de no enterarse de n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038480" y="198072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57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r17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086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enos mal que a pesar de mi esforzad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buena educación siempre había alguien difamándome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¡Cuánto agradezco a esa gente que me enseñó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la vida no es un escenario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sde entonces me atreví a ser como soy.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720" y="5998680"/>
            <a:ext cx="7128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280" y="2397240"/>
            <a:ext cx="1366920" cy="1412640"/>
          </a:xfrm>
          <a:prstGeom prst="rect">
            <a:avLst/>
          </a:prstGeom>
          <a:ln w="0">
            <a:noFill/>
          </a:ln>
        </p:spPr>
      </p:pic>
      <p:pic>
        <p:nvPicPr>
          <p:cNvPr id="56" name="_DSC634302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1064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cc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Disfruta de lo que tienes, recibe lo que venga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crea e inventa lo que necesites, haz sólo lo que puedas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fundamentalmente celebra lo que teng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52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r36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1786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50000">
              <a:srgbClr val="ffffa5"/>
            </a:gs>
            <a:gs pos="100000">
              <a:srgbClr val="ffff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vida es un canto a la belleza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una convocatoria a la transpar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q22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40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ndo esto lo descubras desde la vivenci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viento volverá a ser tu amig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árbol se tornará en maestr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el amanecer en ritual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266720" y="1981080"/>
            <a:ext cx="228600" cy="609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0063-_Mariquita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705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noche se vestirá de colores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estrellas hablarán el idioma del corazón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el espíritu de la tierra reposará otra vez tranqui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1120" y="914040"/>
            <a:ext cx="304560" cy="1143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76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estrellas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4022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800" spc="-1" strike="noStrike">
                <a:solidFill>
                  <a:srgbClr val="000032"/>
                </a:solidFill>
                <a:latin typeface="Verdana"/>
              </a:rPr>
              <a:t>¡Me </a:t>
            </a:r>
            <a:r>
              <a:rPr b="0" lang="es-E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es-ES" sz="2800" spc="-1" strike="noStrike">
                <a:solidFill>
                  <a:srgbClr val="000032"/>
                </a:solidFill>
                <a:latin typeface="Verdana"/>
              </a:rPr>
              <a:t>eclaro vivo!</a:t>
            </a:r>
            <a:br>
              <a:rPr sz="2800"/>
            </a:br>
            <a:br>
              <a:rPr sz="1000"/>
            </a:br>
            <a:r>
              <a:rPr b="0" lang="es-E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32"/>
                </a:solidFill>
                <a:latin typeface="Verdana"/>
              </a:rPr>
              <a:t>Chamalú.</a:t>
            </a:r>
            <a:br>
              <a:rPr sz="2000"/>
            </a:br>
            <a:r>
              <a:rPr b="0" lang="es-ES" sz="2000" spc="-1" strike="noStrike">
                <a:solidFill>
                  <a:srgbClr val="000032"/>
                </a:solidFill>
                <a:latin typeface="Verdana"/>
              </a:rPr>
              <a:t> Indio Quechu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r11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620760" y="5943600"/>
            <a:ext cx="21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32"/>
                </a:solidFill>
                <a:latin typeface="Verdana"/>
              </a:rPr>
              <a:t>Música: Kothb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32"/>
                </a:solidFill>
                <a:latin typeface="Verdana"/>
              </a:rPr>
              <a:t>El jardinero f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74b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 viajado por todo el mundo, tengo amigos de todas las religiones; conozco gente extraña: católicos, religiosos pecando y asistiend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 misa puntualmente, pregonando lo que no son, personas que devoran al prójimo con su lengua e intolerancia, médicos que están peor que sus pacientes, gente millonaria pero infeliz, seres que se pasan el día quejándose, que se reúnen con familia o amigos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s domingos para quejarse por turnos, gente que ha hech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 la estupidez su manera de viv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7640" y="1980720"/>
            <a:ext cx="1600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belula_2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6019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árbol anciano me enseñó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que todos somos lo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14800" y="19807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arboll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ontaña es mi punto de referencia: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r invulnerable, que cada uno diga lo que quier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o sigo caminando indeten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38480" y="1980720"/>
            <a:ext cx="457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10280" y="198072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353"/>
            </a:gs>
            <a:gs pos="50000">
              <a:srgbClr val="ff714f"/>
            </a:gs>
            <a:gs pos="100000">
              <a:srgbClr val="ff53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oy guerrero: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espada es el am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escudo el hum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hogar la coherenci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texto la libertad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120" y="3276360"/>
            <a:ext cx="838440" cy="99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1828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21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980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04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516720" cy="448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18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 mi felicidad resulta insoportable, discúlpenm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hice de la cordura mi opción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fiero la imaginación a lo ind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decir inocencia incl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32:18Z</dcterms:created>
  <dc:creator>Narina</dc:creator>
  <dc:description/>
  <dc:language>en-US</dc:language>
  <cp:lastModifiedBy>manuel+dineke</cp:lastModifiedBy>
  <dcterms:modified xsi:type="dcterms:W3CDTF">2009-01-16T18:53:54Z</dcterms:modified>
  <cp:revision>82</cp:revision>
  <dc:subject/>
  <dc:title>Sin título de diapositiva</dc:title>
</cp:coreProperties>
</file>