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216-7761-4462-914F-7D454297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C10-74E9-4A52-B2E9-C0365A28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721-79BC-4FBD-A879-F217DEFF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ECC-4D96-46B8-9F13-5363B8A3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445B-6563-4EAA-949A-70206BF8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A16A-F86C-4C0D-9BCD-A5FFDA71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5725-05AE-4B39-B247-70933DA3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1BEE-4296-4DD6-92E5-5FCF0149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56E4-3F0D-4EF6-ABB8-36380196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1058-FA10-4447-9823-4AD3CA30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8EB5-54CB-4825-A50A-A81D1226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338-2C20-4E96-8E49-F079A36A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596C-0C67-488B-86D4-5E7D0FED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7CEB-D02F-4EE2-9A9D-69F45280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FA3C-3111-42F1-BC1B-F97BB4F2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AA7F-78F2-4043-B052-8C6805A5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2421-1527-4314-9CF6-354CB20D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9EC-E2DC-4AD2-87D7-85F84B36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3F3-5B5A-4595-AC14-14DF2A07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5BF-4F19-4C0D-8F0F-646EE799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2ED-A547-473A-84A5-14EBA960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60F-377D-4EA5-B761-58ABBE64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F24-DA83-413D-9B3B-850B29AE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9DF-C74B-45C7-B7FA-BA7A8F7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B701-77C4-4ACB-811E-47D1D8BAD68D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E60A-21B6-447E-BE1F-146095CFAF2D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19000" y="996840"/>
            <a:ext cx="7506000" cy="48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9:39:11Z</dcterms:created>
  <dc:creator>Tritón</dc:creator>
  <dc:description/>
  <dc:language>en-US</dc:language>
  <cp:lastModifiedBy>Data</cp:lastModifiedBy>
  <dcterms:modified xsi:type="dcterms:W3CDTF">2008-11-13T22:25:41Z</dcterms:modified>
  <cp:revision>4</cp:revision>
  <dc:subject/>
  <dc:title>Diapositiva 1</dc:title>
</cp:coreProperties>
</file>