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2CE-3346-4762-825C-FFE4C52F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21F-B3A9-44ED-8877-7C7A602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CEB-DEB5-4FDC-86A9-DE65E45A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506-0C6F-464E-950F-C39AC39A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C43C-ABEB-4FA9-A7C6-EFF70C17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74E8-7EA9-4AF6-87BA-B2C82165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E8D9-85B2-4007-A47B-F866A23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1DEB-B9B8-4E30-A1E5-96A3866C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F4A6-B2D1-4FCD-976A-005ADC56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105-6FA4-44E1-95A3-8425204B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08DE-B299-469D-9761-6EA2C01C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878-A3BE-4448-BD5F-9749C037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2CE0-216E-4392-9B15-8003FCE1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FE1B-BCEE-42F1-B80A-DADAB14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BF13-252D-4AA5-AF66-6C9CB941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0EE2-5382-453B-9409-74BFF99F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F9C2-E8B8-4BA6-AB8F-13BE30A4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58F-C463-4FCF-A5B6-FDFDE36B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949-CB21-4BAE-9598-03E105F5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81B-03CF-4665-93D3-18751C4F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591-4E57-4D2C-9619-8B725618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5C3-10F2-41E9-8DED-06348CBD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D09-11BD-46A3-A6E5-5E8AF71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E8C-FDCE-493F-B097-42E946AB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144A-3700-4D9A-82BD-70FECE028DE8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1741-5F10-4B76-ABAC-F2ADAACD1C4C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19000" y="996840"/>
            <a:ext cx="7506000" cy="48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9:39:11Z</dcterms:created>
  <dc:creator>Tritón</dc:creator>
  <dc:description/>
  <dc:language>en-US</dc:language>
  <cp:lastModifiedBy>Data</cp:lastModifiedBy>
  <dcterms:modified xsi:type="dcterms:W3CDTF">2008-11-13T22:25:41Z</dcterms:modified>
  <cp:revision>4</cp:revision>
  <dc:subject/>
  <dc:title>Diapositiva 1</dc:title>
</cp:coreProperties>
</file>