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sound001.wav" ContentType="audio/x-wav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F5C-79D4-4171-B9D3-DBB178F6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0B6-3FBE-4FB2-BC48-E3ADC048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B0E-7326-4BFA-8B85-DC0184AB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23E-C75C-445E-988C-5ECA4C07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ACD4-66A5-4F35-8556-64EEB0FB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1759-F730-4598-882C-B12020DE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A227-3BC9-411F-8B5F-91B2C795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AD87-7A49-4BFB-88AD-3C049102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8460-D12F-44DA-A7D1-FB858BBA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92C-8355-44D1-A321-F39A0CD9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BA07-9E89-4C83-8B16-8AF01438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21A-145C-410B-9BA4-69A2F7B3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615B-5E89-4222-A7E0-1981466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B703-5660-4801-81CB-CFC914C1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A7CD-B00F-4507-B39C-0D757EEA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CB0E-752D-4594-B624-AEC62597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782D-F6CD-412F-A2DD-BF530623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E0E-363E-4404-87F3-507856D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C14-7CCA-4E61-A068-82A7640A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677-2369-448E-8DBD-0540E81B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614-B583-4EB4-9351-9C92C97E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95F-0EA4-4549-8F72-400BC2B7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605-B867-4A06-BAC2-A6B5FE3F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4AC-1BE6-4AF0-A5FB-BB7CF1CF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E5AF-1D53-4B70-AC42-05C3B29342A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FE91-EB6E-4B5F-9E86-BE4C8AEF6C8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17920" y="1981080"/>
            <a:ext cx="2108160" cy="236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81080" y="1143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 veces me pongo a pensar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267080"/>
            <a:ext cx="579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¿Porqué  mis amigos siempre me envían mensajes, chistes, y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7480" y="53341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nunca envían un e-mail para contarme algo de ell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457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Comic Sans MS"/>
              </a:rPr>
              <a:t>Tal vez esto lo expli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41972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Comic Sans MS"/>
              </a:rPr>
              <a:t>Cuando NO tienes mucho tiempo, pero deseas mantener contacto con tus amigos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.  .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644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Comic Sans MS"/>
              </a:rPr>
              <a:t>¿Que ha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00360" y="190512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335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¡ Enviar mensajes y chistes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4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Y cuando por fin, te decides a escribir,  m m m m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5720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No sabes que escribir. Nada pasa por tu mente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3440" y="54864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sí que decides: mejor envío mensajes y chistes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8880" y="304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Comic Sans MS"/>
              </a:rPr>
              <a:t>Pero tal vez, esta sea una manera rápida de decir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14680" y="213048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Aun te re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cc33"/>
                </a:solidFill>
                <a:latin typeface="Comic Sans MS"/>
              </a:rPr>
              <a:t>Aun eres muy import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8000"/>
                </a:solidFill>
                <a:latin typeface="Comic Sans MS"/>
              </a:rPr>
              <a:t>Aun te quiero mu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114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Todavía me preocu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Comic Sans MS"/>
              </a:rPr>
              <a:t>Sigues siendo tan especial para 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Comic Sans MS"/>
              </a:rPr>
              <a:t>Sigo necesitando de tu compañ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437160" y="1971720"/>
            <a:ext cx="2706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19440" y="39625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09760" y="3808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sí que la próxima vez que recibas mi  e-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86080" y="2133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No pienses qu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olo lo envi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87964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sino que en ese momento pensé en ti, y dibujaste una sonrisa . .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8360" y="58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en mi corazón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56440" y="3505320"/>
            <a:ext cx="2887560" cy="3352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380880"/>
            <a:ext cx="6248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¡¡Que tengas un maravilloso día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Y UNA MEJOR SEMANA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Llenos de hermosos mensaj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312408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Sonríe y envía este   e-mail a tus ami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Comic Sans MS"/>
              </a:rPr>
              <a:t>Tal vez ellos NO sepan por que les mandas tantos e-mail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60199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94360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33"/>
                </a:solidFill>
                <a:latin typeface="Times New Roman"/>
              </a:rPr>
              <a:t>Hoy </a:t>
            </a:r>
            <a:fld id="{674CE14B-B2E2-415B-B832-00587276026D}" type="datetime2">
              <a:rPr b="1" lang="es-ES" sz="2000" spc="-1" strike="noStrike">
                <a:solidFill>
                  <a:srgbClr val="339933"/>
                </a:solidFill>
                <a:latin typeface="Times New Roman"/>
              </a:rPr>
              <a:t>miércoles, 29 de julio de 2026</a:t>
            </a:fld>
            <a:r>
              <a:rPr b="1" lang="es-ES" sz="2000" spc="-1" strike="noStrike">
                <a:solidFill>
                  <a:srgbClr val="339933"/>
                </a:solidFill>
                <a:latin typeface="Times New Roman"/>
              </a:rPr>
              <a:t>, me acuerdo de ti 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9:44:03Z</dcterms:created>
  <dc:creator>Flaco Quintero</dc:creator>
  <dc:description/>
  <dc:language>en-US</dc:language>
  <cp:lastModifiedBy>Ruth Villon</cp:lastModifiedBy>
  <dcterms:modified xsi:type="dcterms:W3CDTF">2007-07-03T15:41:13Z</dcterms:modified>
  <cp:revision>3</cp:revision>
  <dc:subject/>
  <dc:title>Los e-mail</dc:title>
</cp:coreProperties>
</file>