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sound001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341-2D73-4D29-A35C-AD324CF1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3BA-41CA-452E-8014-856D775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416-1BFD-4C5C-A732-4C305D3E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118-E37A-428D-8BF5-7E7AD78C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D84B-0F46-412F-9AB7-7DF60C9C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FF8-5290-4903-B4E5-CAC16BD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5869-A1FF-4C51-AFBE-9735EA5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12D6-0BCF-4EF5-859B-F17E225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3E7-CF00-449C-B188-C34CFE44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8B1A-F6E1-469E-9A28-C5CE1F9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DB76-52B9-42E4-A618-005F73D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A95-49D2-4B35-A1BB-781BFD2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49EA-140C-4337-89FC-2B307EA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903A-E13A-42BA-B83D-397039D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566E-8467-4785-80B4-26498D0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57EB-66AF-45E8-93BC-6A27EF29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971-8644-4A5D-B2C8-CDFFA2DD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0FE-C6BB-4485-B7F6-7479ADF7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6EF-6664-4556-BFBE-7F7A49F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25-A338-4892-9A4F-843606B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30F-C140-4CCE-8506-C7B44C5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2F9-8706-4980-A54B-279E4AA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5FE-29EF-431E-B5B6-5E8D7D9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143-4FB8-4E80-B9C9-602DD5B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ABC-5952-4E6F-81C4-CD6E0C69F1E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DAA-7544-427C-B8EC-B38BDD8F282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17920" y="1981080"/>
            <a:ext cx="2108160" cy="236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1143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 veces me pongo a pensar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267080"/>
            <a:ext cx="579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¿Porqué  mis amigos siempre me envían mensajes, chistes, y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7480" y="53341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unca envían un e-mail para contarme algo de ell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57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Tal vez esto lo expli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4197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Cuando NO tienes mucho tiempo, pero deseas mantener contacto con tus amigos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44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¿Que ha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00360" y="19051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335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¡ Enviar mensajes y chistes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4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cuando por fin, te decides a escribir,  m m m m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o sabes que escribir. Nada pasa por tu mente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3440" y="54864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sí que decides: mejor envío mensajes y chistes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8880" y="304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Comic Sans MS"/>
              </a:rPr>
              <a:t>Pero tal vez, esta sea una manera rápida de decir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4680" y="213048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Aun te re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Comic Sans MS"/>
              </a:rPr>
              <a:t>Aun eres muy impor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00"/>
                </a:solidFill>
                <a:latin typeface="Comic Sans MS"/>
              </a:rPr>
              <a:t>Aun te quiero mu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114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Todavía me preocu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Sigues siendo tan especial para 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Comic Sans MS"/>
              </a:rPr>
              <a:t>Sigo necesitando de tu compañ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37160" y="1971720"/>
            <a:ext cx="2706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19440" y="3962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9760" y="3808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sí que la próxima vez que recibas mi  e-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86080" y="2133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o pienses qu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olo lo envi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87964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ino que en ese momento pensé en ti, y dibujaste una sonrisa . .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8360" y="58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en mi corazón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56440" y="3505320"/>
            <a:ext cx="288756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380880"/>
            <a:ext cx="624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¡¡Que tengas un maravilloso día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Y UNA MEJOR SEMANA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Llenos de hermosos mensaj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12408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Sonríe y envía este   e-mail a tus ami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Tal vez ellos NO sepan por que les mandas tantos e-mail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60199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9436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Hoy </a:t>
            </a:r>
            <a:fld id="{04C8255C-F01B-40B1-A849-55E56DC3F56A}" type="datetime2"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viernes, 31 de julio de 2026</a:t>
            </a:fld>
            <a:r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, me acuerdo de ti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9:44:03Z</dcterms:created>
  <dc:creator>Flaco Quintero</dc:creator>
  <dc:description/>
  <dc:language>en-US</dc:language>
  <cp:lastModifiedBy>Ruth Villon</cp:lastModifiedBy>
  <dcterms:modified xsi:type="dcterms:W3CDTF">2007-07-03T15:41:13Z</dcterms:modified>
  <cp:revision>3</cp:revision>
  <dc:subject/>
  <dc:title>Los e-mail</dc:title>
</cp:coreProperties>
</file>