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5.jpeg" ContentType="image/jpeg"/>
  <Override PartName="/ppt/media/06%20Piu'%20Che%20Puoi.wav" ContentType="audio/x-wav"/>
  <Override PartName="/ppt/media/image11.jpeg" ContentType="image/jpeg"/>
  <Override PartName="/ppt/media/image1.gif" ContentType="image/gif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FAE-916F-46B9-89A3-FB0DCF3E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7F6-941A-4E09-B6E2-AB6D1B34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97A-4ABF-4218-93B5-E83F5C62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C6A-0657-4216-BACF-17D4176C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313-AE57-489A-B657-6FF1FDEB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B78-3A01-41FF-BE1D-132FAF0E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3EF-1279-4C0A-899F-15FF3359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B60-CD85-4D59-B21C-65D9594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E0A-2AB6-4399-96D3-871816D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3AC0-F92F-4283-95EA-E45F72A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702-FA28-487F-9605-327CB301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93E-3183-4749-9BC4-FFF60A91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4D49-C144-426E-9D75-59474BABF4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06%20Piu&apos;%20Che%20Puo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48040" y="4724280"/>
            <a:ext cx="704880" cy="1409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5335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Cayo Coco </a:t>
            </a: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Un paraiso cubano para turistas solamente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1337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PORQUE MUCHOS CUBANOS EN LA ISLA NI SIQUIERA SABEN QUE EXIS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random/>
    <p:sndAc>
      <p:stSnd>
        <p:snd r:embed="rId2" name="06%20Piu'%20Che%20Puo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60199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aramond"/>
              </a:rPr>
              <a:t>Clínica internacional donde  se atienden a los turis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38680" y="228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Para si quiere tomarse un traguito o  una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43400" y="228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aramond"/>
              </a:rPr>
              <a:t>Para los que disfrutan  volar también h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5638320" y="1447920"/>
            <a:ext cx="1676520" cy="228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85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aramond"/>
              </a:rPr>
              <a:t>Cayo Co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095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aramond"/>
              </a:rPr>
              <a:t>Selecciona el que prefieres y a nav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324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aramond"/>
              </a:rPr>
              <a:t>Si te gustan los asados aqui tienes esta parri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90920" y="64911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l agua es tan cristalina que nos invita a sumerguirnos en 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29000" y="60199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Si no queremos caminar  y deseamos hechar un vistazo por los alrededores  tenemos el tren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1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32004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43400" y="2819520"/>
            <a:ext cx="76320" cy="75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7432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Punto de Chequeo y pago de peaj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2895120"/>
            <a:ext cx="175248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19560" y="1523880"/>
            <a:ext cx="22860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33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838080"/>
            <a:ext cx="3886200" cy="1905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14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Algunas de las islas de la República de Cuba que poseen bellas playas naturales fueron incorporadas a un plan de desarrollo dirigido al turismo internacional.  Entre esas islas se encuentra la isla llamada Cayo Co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3124080"/>
            <a:ext cx="3733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Para el desarrollo turístico de Cayo Coco se construyó un Aeropuerto  y un viaducto de unos 27 Km. de longitud  en el mar poco profundo que lo separaba de la Isla Cu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29200" y="56674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Te esperamos  para que disfrutes de este paraiso tropical si eres extranjero,porque para los de aqui(N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172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Garamond"/>
              </a:rPr>
              <a:t>A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248520"/>
            <a:ext cx="2438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19eff"/>
                    </a:gs>
                  </a:gsLst>
                  <a:lin ang="5400000"/>
                </a:gradFill>
                <a:latin typeface="Times New Roman"/>
              </a:rPr>
              <a:t>RAFA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019e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810240" cy="283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396252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6520" y="2590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Cayo C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717200">
            <a:off x="2913120" y="9756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Area principal de Pla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334600">
            <a:off x="487692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Aeropue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1447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Si viaja en avión este aeropuerto será su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1068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403848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l aeropuerto permite viajar directamente a Cayo Coco sin necesidad de pasar por  la Isla de Cu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6172200" y="2514600"/>
            <a:ext cx="83808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638320" y="2133720"/>
            <a:ext cx="83844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952520" y="1752480"/>
            <a:ext cx="762120" cy="1371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572000" y="1447920"/>
            <a:ext cx="380880" cy="1523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80920" y="1295280"/>
            <a:ext cx="76212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66520" y="838080"/>
            <a:ext cx="83844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143000" y="457200"/>
            <a:ext cx="9144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684000">
            <a:off x="1676160" y="3124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Cayo C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648320"/>
            <a:ext cx="4952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6483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Paralelo a la linea de la playa ,y no muy lejos de ella, se fueron construyendo los complejos   hoteleros que se señalan en la fig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90920" y="3808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Hotel Melia Cayo Co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762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Hotel Sol cayo Co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609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Hotel Emper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1363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Hotel  El Sen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685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143000"/>
            <a:ext cx="1371600" cy="1219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943600" y="914400"/>
            <a:ext cx="914400" cy="1981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848360" y="1676520"/>
            <a:ext cx="152280" cy="2133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238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ccff"/>
                </a:solidFill>
                <a:latin typeface="Garamond"/>
              </a:rPr>
              <a:t>Punta rocosa que separa la playa en dos 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0574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685800"/>
            <a:ext cx="243828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648320" y="304920"/>
            <a:ext cx="1828800" cy="75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162920" y="6324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Garamond"/>
              </a:rPr>
              <a:t>Parque Na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2:30:12Z</dcterms:created>
  <dc:creator/>
  <dc:description/>
  <dc:language>en-US</dc:language>
  <cp:lastModifiedBy>vale</cp:lastModifiedBy>
  <dcterms:modified xsi:type="dcterms:W3CDTF">2009-03-13T16:50:29Z</dcterms:modified>
  <cp:revision>22</cp:revision>
  <dc:subject/>
  <dc:title>El viento es fuerte ***</dc:title>
</cp:coreProperties>
</file>