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06%20Piu'%20Che%20Puoi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908-3F27-4FA4-8AF5-DF33F2A2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C78-0AA2-4A45-A5EC-46139463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8B-08DA-4E97-AEA4-75959093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D27-1806-478D-880A-C449F51E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19E-BA84-4410-B622-5BB18BF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033-94B4-462F-A5E7-04355218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AA5-5C7C-48DA-94C2-EA1F447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254-33C4-4461-AC23-3509CFD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6E-C111-480E-B051-02F09560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ECE-5B86-4786-9964-A1C9F31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26F-7D6C-4EEE-B81E-7E07F16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31E-D147-47B2-9AC0-6E435C3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8DCB-C0AD-4B04-B7A4-B459690924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06%20Piu&apos;%20Che%20Puo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48040" y="4724280"/>
            <a:ext cx="704880" cy="1409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533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Cayo Coco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Un paraiso cubano para turistas solamente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133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PORQUE MUCHOS CUBANOS EN LA ISLA NI SIQUIERA SABEN QUE EXIS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random/>
    <p:sndAc>
      <p:stSnd>
        <p:snd r:embed="rId2" name="06%20Piu'%20Che%20Pu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6019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Clínica internacional donde  se atienden a los tur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228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 si quiere tomarse un traguito o  una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43400" y="228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Para los que disfrutan  volar también h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5638320" y="1447920"/>
            <a:ext cx="1676520" cy="228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85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Cayo Co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095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Selecciona el que prefieres y a nav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324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Si te gustan los asados aqui tienes esta parri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90920" y="6491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l agua es tan cristalina que nos invita a sumerguirnos en 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29000" y="60199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Si no queremos caminar  y deseamos hechar un vistazo por los alrededores  tenemos el tren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1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43400" y="2819520"/>
            <a:ext cx="76320" cy="7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7432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Punto de Chequeo y pago de peaj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2895120"/>
            <a:ext cx="17524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19560" y="1523880"/>
            <a:ext cx="22860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33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838080"/>
            <a:ext cx="3886200" cy="190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14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Algunas de las islas de la República de Cuba que poseen bellas playas naturales fueron incorporadas a un plan de desarrollo dirigido al turismo internacional.  Entre esas islas se encuentra la isla llamada Cayo C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3124080"/>
            <a:ext cx="3733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 el desarrollo turístico de Cayo Coco se construyó un Aeropuerto  y un viaducto de unos 27 Km. de longitud  en el mar poco profundo que lo separaba de la Isla Cu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29200" y="56674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Te esperamos  para que disfrutes de este paraiso tropical si eres extranjero,porque para los de aqui(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A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24852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19eff"/>
                    </a:gs>
                  </a:gsLst>
                  <a:lin ang="5400000"/>
                </a:gradFill>
                <a:latin typeface="Times New Roman"/>
              </a:rPr>
              <a:t>RAFA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19e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810240" cy="283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396252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Cayo 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717200">
            <a:off x="2913120" y="9756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Area principal de Pla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334600">
            <a:off x="487692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Aeropue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447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Si viaja en avión este aeropuerto será su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106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403848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l aeropuerto permite viajar directamente a Cayo Coco sin necesidad de pasar por  la Isla de C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6172200" y="2514600"/>
            <a:ext cx="83808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638320" y="2133720"/>
            <a:ext cx="8384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952520" y="1752480"/>
            <a:ext cx="762120" cy="1371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72000" y="1447920"/>
            <a:ext cx="380880" cy="1523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80920" y="1295280"/>
            <a:ext cx="76212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66520" y="838080"/>
            <a:ext cx="83844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143000" y="457200"/>
            <a:ext cx="9144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684000">
            <a:off x="1676160" y="3124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Cayo 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648320"/>
            <a:ext cx="4952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648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lelo a la linea de la playa ,y no muy lejos de ella, se fueron construyendo los complejos   hoteleros que se señalan en la fi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3808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Melia Cayo C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762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Sol cayo C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609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Emper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363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 El Sen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685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143000"/>
            <a:ext cx="137160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43600" y="914400"/>
            <a:ext cx="914400" cy="1981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848360" y="1676520"/>
            <a:ext cx="152280" cy="2133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38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ff"/>
                </a:solidFill>
                <a:latin typeface="Garamond"/>
              </a:rPr>
              <a:t>Punta rocosa que separa la playa en dos 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685800"/>
            <a:ext cx="243828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48320" y="304920"/>
            <a:ext cx="1828800" cy="7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162920" y="6324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Parque 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2:30:12Z</dcterms:created>
  <dc:creator/>
  <dc:description/>
  <dc:language>en-US</dc:language>
  <cp:lastModifiedBy>vale</cp:lastModifiedBy>
  <dcterms:modified xsi:type="dcterms:W3CDTF">2009-03-13T16:50:29Z</dcterms:modified>
  <cp:revision>22</cp:revision>
  <dc:subject/>
  <dc:title>El viento es fuerte ***</dc:title>
</cp:coreProperties>
</file>