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33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Helwa%20Ya%20Baladi%20-%20Dalida.wav" ContentType="audio/x-wav"/>
  <Override PartName="/ppt/media/image11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15F-86DC-492A-A6F1-AACDECFC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475-F5CF-4A2D-8FDB-D78C84BD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177-224A-4E7F-A384-4BAD2E0C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FBF-752A-4197-8E2C-6467F2E0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CE3-6D9B-4FD1-85BA-637A4A37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8A7-0206-4DF3-963C-F3B52F17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645-45BA-40F0-ACB5-BDFB2BCD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DB9-91B7-48EC-B80E-6A489E02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434-69D0-478D-802A-8240D804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67E-2A40-44DF-B4A1-E7AA735F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138-57D9-48D2-A11E-A30CE34D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2E3-819B-400A-BFF3-3EC32F7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8F8B-1642-46CD-A805-CC944F65E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elwa%20Ya%20Baladi%20-%20Dalid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heikh Zayed Mosque Abu Dha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52120" y="1295280"/>
            <a:ext cx="58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vers  an area of 22,000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33,000 tons of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120,000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of concr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7000 foundation p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contrast="18000"/>
          </a:blip>
          <a:srcRect l="0" t="0" r="0" b="70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0:41:39Z</dcterms:created>
  <dc:creator>Virus</dc:creator>
  <dc:description/>
  <dc:language>en-US</dc:language>
  <cp:lastModifiedBy>patricia</cp:lastModifiedBy>
  <dcterms:modified xsi:type="dcterms:W3CDTF">2008-06-07T22:55:41Z</dcterms:modified>
  <cp:revision>11</cp:revision>
  <dc:subject/>
  <dc:title>Sheikh Zayed Mosque Abu Dhabi</dc:title>
</cp:coreProperties>
</file>