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33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Helwa%20Ya%20Baladi%20-%20Dalida.wav" ContentType="audio/x-wav"/>
  <Override PartName="/ppt/media/image11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9CE-41CA-4A24-9C92-D067303B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82C-DFDA-4704-B7CE-D9322CB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E6F-F8B3-4227-855C-73DC9A8C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A17-28F8-420C-AF70-72B702A7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95D-017E-446D-A139-FF702437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19F-B51D-4F57-A0E5-2E37EFF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B3A-9BDE-4477-84DF-4F53EF71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36D-4307-41D5-88AE-70DDA9E5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8B-42AC-4653-8DF1-0A2C521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3DC-8192-4A9F-AA3B-64A723F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BF8-3844-4370-902E-646C8BE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D19-5424-4CB5-9094-CBF4A653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702-C86D-4674-AEEA-EFB6CDD5B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elwa%20Ya%20Baladi%20-%20Dalid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heikh Zayed Mosque Abu Dhab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52120" y="1295280"/>
            <a:ext cx="58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vers  an area of 22,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3,000 tons of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20,00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f concr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7000 foundation p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18000"/>
          </a:blip>
          <a:srcRect l="0" t="0" r="0" b="70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0:41:39Z</dcterms:created>
  <dc:creator>Virus</dc:creator>
  <dc:description/>
  <dc:language>en-US</dc:language>
  <cp:lastModifiedBy>patricia</cp:lastModifiedBy>
  <dcterms:modified xsi:type="dcterms:W3CDTF">2008-06-07T22:55:41Z</dcterms:modified>
  <cp:revision>11</cp:revision>
  <dc:subject/>
  <dc:title>Sheikh Zayed Mosque Abu Dhabi</dc:title>
</cp:coreProperties>
</file>