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Tema%20De%20Lara_Webster.wav" ContentType="audio/x-wav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C1D-2E81-4F35-9598-6E745FA4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175-AAA4-4BFB-AD91-7F69F8EB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E31-51BF-4ACE-ADBC-78A56B7A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EFF-9D1C-4AA4-A1AB-C9C7A739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3DD-D187-4C61-9FBE-D485DBC5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DBF-DD06-4770-A940-63FCC677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0E7-E4A6-4673-86A5-BA43DD79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EC3-EAB5-4088-AD8E-1AF100D9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250-1C03-4C5D-9A75-AF948792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C42-D305-4DE9-8E59-96078B2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118-40CE-4EED-8640-B524D09E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5D4-D8B1-4622-B35E-94ED585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C8C4-CD5A-43D8-81E9-5E2B76757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Amapola_Lacalle.wav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file:///tmp/home/.config/libreoffice/4/user/gallery/Amor_G%20Ruiz.wav" TargetMode="External"/><Relationship Id="rId6" Type="http://schemas.openxmlformats.org/officeDocument/2006/relationships/image" Target="../media/image2.jpeg"/><Relationship Id="rId7" Type="http://schemas.openxmlformats.org/officeDocument/2006/relationships/hyperlink" Target="file:///tmp/home/.config/libreoffice/4/user/gallery/Aquellos%20Ojos%20Verdes_Rivera.wav" TargetMode="External"/><Relationship Id="rId8" Type="http://schemas.openxmlformats.org/officeDocument/2006/relationships/image" Target="../media/image2.jpeg"/><Relationship Id="rId9" Type="http://schemas.openxmlformats.org/officeDocument/2006/relationships/hyperlink" Target="file:///tmp/home/.config/libreoffice/4/user/gallery/Cucurrucucucu%20Paloma_M&#233;ndez.wav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file:///tmp/home/.config/libreoffice/4/user/gallery/El%20Mar_C%20Trenet.wav" TargetMode="External"/><Relationship Id="rId12" Type="http://schemas.openxmlformats.org/officeDocument/2006/relationships/image" Target="../media/image2.jpeg"/><Relationship Id="rId13" Type="http://schemas.openxmlformats.org/officeDocument/2006/relationships/image" Target="../media/image4.gif"/><Relationship Id="rId14" Type="http://schemas.openxmlformats.org/officeDocument/2006/relationships/image" Target="../media/image5.gif"/><Relationship Id="rId15" Type="http://schemas.openxmlformats.org/officeDocument/2006/relationships/image" Target="../media/image6.gif"/><Relationship Id="rId16" Type="http://schemas.openxmlformats.org/officeDocument/2006/relationships/image" Target="../media/image7.gif"/><Relationship Id="rId17" Type="http://schemas.openxmlformats.org/officeDocument/2006/relationships/image" Target="../media/image8.gif"/><Relationship Id="rId18" Type="http://schemas.openxmlformats.org/officeDocument/2006/relationships/image" Target="../media/image5.gif"/><Relationship Id="rId19" Type="http://schemas.openxmlformats.org/officeDocument/2006/relationships/hyperlink" Target="file:///tmp/home/.config/libreoffice/4/user/gallery/La%20poloma_Yradier.wav" TargetMode="External"/><Relationship Id="rId20" Type="http://schemas.openxmlformats.org/officeDocument/2006/relationships/image" Target="../media/image2.jpeg"/><Relationship Id="rId21" Type="http://schemas.openxmlformats.org/officeDocument/2006/relationships/hyperlink" Target="file:///tmp/home/.config/libreoffice/4/user/gallery/Maria%20Elena_Barcelata.wav" TargetMode="External"/><Relationship Id="rId22" Type="http://schemas.openxmlformats.org/officeDocument/2006/relationships/image" Target="../media/image2.jpeg"/><Relationship Id="rId23" Type="http://schemas.openxmlformats.org/officeDocument/2006/relationships/hyperlink" Target="file:///tmp/home/.config/libreoffice/4/user/gallery/Perfidia_A%20Dominguez.wav" TargetMode="External"/><Relationship Id="rId24" Type="http://schemas.openxmlformats.org/officeDocument/2006/relationships/image" Target="../media/image2.jpeg"/><Relationship Id="rId25" Type="http://schemas.openxmlformats.org/officeDocument/2006/relationships/hyperlink" Target="file:///tmp/home/.config/libreoffice/4/user/gallery/Quien%20Sera_P%20B%20Ruiz.wav" TargetMode="External"/><Relationship Id="rId26" Type="http://schemas.openxmlformats.org/officeDocument/2006/relationships/image" Target="../media/image2.jpeg"/><Relationship Id="rId27" Type="http://schemas.openxmlformats.org/officeDocument/2006/relationships/hyperlink" Target="file:///tmp/home/.config/libreoffice/4/user/gallery/Quizas%20Quizas%20Quizas_Farr&#233;s.wav" TargetMode="External"/><Relationship Id="rId28" Type="http://schemas.openxmlformats.org/officeDocument/2006/relationships/image" Target="../media/image2.jpeg"/><Relationship Id="rId29" Type="http://schemas.openxmlformats.org/officeDocument/2006/relationships/hyperlink" Target="file:///tmp/home/.config/libreoffice/4/user/gallery/Solamente%20Una%20Vez_A%20lara.wav" TargetMode="External"/><Relationship Id="rId30" Type="http://schemas.openxmlformats.org/officeDocument/2006/relationships/image" Target="../media/image2.jpeg"/><Relationship Id="rId31" Type="http://schemas.openxmlformats.org/officeDocument/2006/relationships/hyperlink" Target="file:///tmp/home/.config/libreoffice/4/user/gallery/Taba_M%20Lecuoma.wav" TargetMode="External"/><Relationship Id="rId32" Type="http://schemas.openxmlformats.org/officeDocument/2006/relationships/image" Target="../media/image2.jpeg"/><Relationship Id="rId33" Type="http://schemas.openxmlformats.org/officeDocument/2006/relationships/hyperlink" Target="file:///tmp/home/.config/libreoffice/4/user/gallery/Te%20Quiero%20Dijiste_Grever.wav" TargetMode="External"/><Relationship Id="rId34" Type="http://schemas.openxmlformats.org/officeDocument/2006/relationships/image" Target="../media/image2.jpeg"/><Relationship Id="rId35" Type="http://schemas.openxmlformats.org/officeDocument/2006/relationships/hyperlink" Target="file:///tmp/home/.config/libreoffice/4/user/gallery/Tema%20De%20Lara_Webster.wav" TargetMode="External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audio" Target="../media/Tema%20De%20Lara_Webster.wav"/><Relationship Id="rId3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468360" y="4581360"/>
            <a:ext cx="640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808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uitarra Espanola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808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948360" y="4221000"/>
            <a:ext cx="2016360" cy="24480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836640"/>
            <a:ext cx="647640" cy="27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1341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4000" y="186048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4000" y="2349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48" name=""/>
          <p:cNvGrpSpPr/>
          <p:nvPr/>
        </p:nvGrpSpPr>
        <p:grpSpPr>
          <a:xfrm>
            <a:off x="395280" y="6021360"/>
            <a:ext cx="3744720" cy="576000"/>
            <a:chOff x="395280" y="6021360"/>
            <a:chExt cx="3744720" cy="576000"/>
          </a:xfrm>
        </p:grpSpPr>
        <p:pic>
          <p:nvPicPr>
            <p:cNvPr id="49" name="" descr=""/>
            <p:cNvPicPr/>
            <p:nvPr/>
          </p:nvPicPr>
          <p:blipFill>
            <a:blip r:embed="rId13"/>
            <a:stretch/>
          </p:blipFill>
          <p:spPr>
            <a:xfrm>
              <a:off x="3547800" y="6031800"/>
              <a:ext cx="592200" cy="56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14"/>
            <a:stretch/>
          </p:blipFill>
          <p:spPr>
            <a:xfrm>
              <a:off x="395280" y="6027840"/>
              <a:ext cx="59220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5"/>
            <a:stretch/>
          </p:blipFill>
          <p:spPr>
            <a:xfrm>
              <a:off x="2327760" y="6027840"/>
              <a:ext cx="59220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6"/>
            <a:stretch/>
          </p:blipFill>
          <p:spPr>
            <a:xfrm>
              <a:off x="2959560" y="6026760"/>
              <a:ext cx="59220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7"/>
            <a:stretch/>
          </p:blipFill>
          <p:spPr>
            <a:xfrm>
              <a:off x="1055160" y="6029280"/>
              <a:ext cx="59220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8"/>
            <a:stretch/>
          </p:blipFill>
          <p:spPr>
            <a:xfrm>
              <a:off x="1707120" y="6021360"/>
              <a:ext cx="592200" cy="56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4000" y="285264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6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4000" y="3357720"/>
            <a:ext cx="647640" cy="27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971640" y="2840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mapola_Laca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356000" y="333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9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356000" y="836640"/>
            <a:ext cx="647640" cy="27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4356000" y="1341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1" name="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4356000" y="186048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2" name="" descr="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4356000" y="234936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" descr="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4356000" y="2852640"/>
            <a:ext cx="64764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" descr="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4356000" y="3357720"/>
            <a:ext cx="647640" cy="272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971640" y="78912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mor_G R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29240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quellos Ojos Verdes_Riv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84464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ucurrucucucu Paloma_Ménd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30040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l Mar_C Tre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280512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La poloma_Yrad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330840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Maria Elena_Barce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5440" y="28404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erfidia_A Doming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5440" y="78912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Quien Sera_P B R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1292400"/>
            <a:ext cx="338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Quizas Quizas Quizas_Far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5440" y="1844640"/>
            <a:ext cx="30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lamente Una Vez_A 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2349360"/>
            <a:ext cx="29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Taba_M Lecu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2781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Te Quiero Dijiste_Gr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330840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Tema De Lara_Web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7"/>
          <a:stretch/>
        </p:blipFill>
        <p:spPr>
          <a:xfrm>
            <a:off x="5003640" y="6308640"/>
            <a:ext cx="648000" cy="2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651640" y="6253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00"/>
                </a:solidFill>
                <a:latin typeface="Arial"/>
              </a:rPr>
              <a:t>Click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21:59:35Z</dcterms:created>
  <dc:creator>Joske Vermeulen</dc:creator>
  <dc:description/>
  <dc:language>en-US</dc:language>
  <cp:lastModifiedBy>Joske Vermeulen</cp:lastModifiedBy>
  <dcterms:modified xsi:type="dcterms:W3CDTF">2008-03-17T22:27:10Z</dcterms:modified>
  <cp:revision>15</cp:revision>
  <dc:subject/>
  <dc:title>Dia 1</dc:title>
</cp:coreProperties>
</file>