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!Enya-Heaven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5B6-CEDE-448E-B72E-80400F65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8E5-F851-45FE-B0BA-4F1FE39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251-8B0D-4238-B2F5-7565B9CA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A26-8A64-4F80-867C-2DEC25D4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D97-2160-4826-9AEE-FEC7E2B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23B-4ECF-4E67-A272-507C4502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984-B429-42FB-9CC6-3C84A31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F66-FA95-43F5-B02D-8EDFD266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F9A-6016-4C04-B737-7AF8CA75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951-517C-49F4-AE72-CA98304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2D8-BB59-4EE5-A699-7961DB9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657-5BD1-4970-ABEA-DA2B12E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A68-95B1-4C22-9D85-CA958451C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!Enya-Heaven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19392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es-ES" sz="5400" spc="-1" strike="noStrike">
                <a:solidFill>
                  <a:srgbClr val="ff0066"/>
                </a:solidFill>
                <a:latin typeface="Times New Roman"/>
              </a:rPr>
              <a:t>A MI  HIJ@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3300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  te  dejaré salpicar en la bañadera y no me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enoj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940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5977080" cy="476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28960" y="54446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 te dejaré despierto hasta tarde,   mientr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nos sentamos en el jardín a contar las estrellas y a pedir des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37080" y="333360"/>
            <a:ext cx="5327640" cy="439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544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esta noche, cuando pase mis dedos entre tu cabello mientras rezas sìmplemente daré gracias a Dios por el mayor regalo que he recib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48120" y="115920"/>
            <a:ext cx="2387880" cy="31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Voy a pensar en las madres y en los padres que está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hora busc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us  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xtraviados;  las  madres y padres que visitan a  su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n sus 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umbas  en  lugar de sus camas, y en las madres y padre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e están en los hospitales mirando sufrir a sus hijos, grit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entro por  no poder hacer nad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46560" y="2205000"/>
            <a:ext cx="3854520" cy="4653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  cuando  te de un beso de buenas noches te voy a estrechar u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co más  fuerte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 un poco más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de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empo, diciéndote a tu oído: </a:t>
            </a:r>
            <a:br>
              <a:rPr sz="2400"/>
            </a:b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¡¡¡ HIJ@,  TE AM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sí, agradeceré a Dios por ti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 n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diré nada,  excepto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 dí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95640" y="1584360"/>
            <a:ext cx="4248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62640" y="2708280"/>
            <a:ext cx="310500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¿Te gustó?. Te pido un  enorme favor: pasá esto a otras mamás y papás, e incluso a quienes no lo son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ctualmente nuestras rutinas diarias nos absorben, incluso al grado que olvidamos el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ermoso regalo qu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n realment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1352520"/>
            <a:ext cx="4537080" cy="3878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46560" y="40428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ro hazlo hoy!!! No podemos saber si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ios nos da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á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UN DIA MÁ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5805360"/>
            <a:ext cx="49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Por grandes que sean nuestros hijos,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TE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AMO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los hace sentir tan bien                como a ti te hará decírse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325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62440" y="304920"/>
            <a:ext cx="4481640" cy="521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640" y="53733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  en la mañana, voy a                        sonreír cuando vea tu  rostro 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reír                              cuando tenga ganas de llorar.</a:t>
            </a:r>
            <a:br>
              <a:rPr sz="2400"/>
            </a:br>
            <a:r>
              <a:rPr b="1" lang="es-ES" sz="24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14880" y="228600"/>
            <a:ext cx="4713120" cy="557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hoy, en la mañana, no pelearé                   contigo por la ropa  que quieres ponerte o                 por cuanto tardas y la prisa que tengo, voy                a sonreir y a decirte que luces grandios@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36760" y="17524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pediré un día de descanso  o vacaciones o haré las gestiones necesarias, sólo para  llevarte                  al parque a jug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79720" y="228600"/>
            <a:ext cx="3787920" cy="521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8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al mediodía, voy a dejar los      platos en la  cocina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dejarte que me enseñes como armar 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un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rompecabez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4040" y="1517760"/>
            <a:ext cx="5854680" cy="5079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 en la tarde, voy a desconectar el  teléfono y 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pagar l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computadora, para  sentarme  junto  a ti  en el jardín  para hacer burbujas  de jab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27320" y="0"/>
            <a:ext cx="4000680" cy="4776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53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  no  voy  a                       reclamarte ni siquiera 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murmurar, cuando  tu grites y llores                          cuando pase el carro de los  helados,                                    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alir  contigo a comprarte un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25560" y="2189160"/>
            <a:ext cx="6310440" cy="455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no voy a preocuparme sobre que  va a  ser d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 cuando crezcas y voy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nsar otra vez             en tod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as  decisiones qu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aya hecho acerca de 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76560" y="0"/>
            <a:ext cx="43405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5444640"/>
            <a:ext cx="67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strecharé                                      en mis brazos y   te  contar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a historia acerca de cuando tu naciste, de la gran bendición que eres en mi vida y sobre todo de lo mucho que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ie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9:18Z</dcterms:created>
  <dc:creator>.</dc:creator>
  <dc:description/>
  <dc:language>en-US</dc:language>
  <cp:lastModifiedBy>HP Authorized Customer</cp:lastModifiedBy>
  <dcterms:modified xsi:type="dcterms:W3CDTF">2009-04-01T02:35:33Z</dcterms:modified>
  <cp:revision>4</cp:revision>
  <dc:subject/>
  <dc:title>         A Mi  Hij@ </dc:title>
</cp:coreProperties>
</file>