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clasica%20serenat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3B88-170B-43E6-B960-7D9F1C1D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4F15-6F98-4A8F-A653-D05DC82E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9735-2FA8-4D0B-AD61-73395644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B5E5-91FC-4B5D-BE39-91DE5722B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183-A37C-44D8-8762-250A0C8C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B105-958C-47FE-9C8F-4569A89E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DE11-1544-474D-9153-78417CD6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232A-FAC9-4EA0-BC64-42FE703D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57DA-FE95-455F-A342-6145E385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531B-4793-4BD4-9088-78D55550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677E-5287-4DF3-B381-967699BD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2401-E3A4-4A64-9E8C-D6711792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32C6-1995-4A76-9069-492DD6CAE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asica%20serenat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549360"/>
            <a:ext cx="770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 Rounded MT Bold"/>
              </a:rPr>
              <a:t>Viacruc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 Rounded MT Bold"/>
              </a:rPr>
              <a:t>del Colegio Mar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0" lang="es-ES" sz="4400" spc="-1" strike="noStrike">
                <a:solidFill>
                  <a:srgbClr val="ffff00"/>
                </a:solidFill>
                <a:latin typeface="Arial Rounded MT Bold"/>
              </a:rPr>
              <a:t>San José de Le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7640" y="3330720"/>
            <a:ext cx="705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99ff"/>
                </a:solidFill>
                <a:latin typeface="Arial Rounded MT Bold"/>
              </a:rPr>
              <a:t>Hecho en pirograbad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99ff"/>
                </a:solidFill>
                <a:latin typeface="Arial Rounded MT Bold"/>
              </a:rPr>
              <a:t>por el artista  Vela Zanne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53400" y="6491160"/>
            <a:ext cx="34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ff"/>
                </a:solidFill>
                <a:latin typeface="Arial"/>
              </a:rPr>
              <a:t>Composición Juan Braulio Arz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blinds dir="vert"/>
    <p:sndAc>
      <p:stSnd>
        <p:snd r:embed="rId2" name="clasica%20serenat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365200" y="0"/>
            <a:ext cx="67788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476280"/>
            <a:ext cx="24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JESÚS CAE POR TERCERA V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2000" y="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IX ES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124360"/>
            <a:ext cx="219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 lloréis por el que muere por la redención 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723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732720" y="907920"/>
            <a:ext cx="24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JESÚS DESPOJADO DE SUS VESTID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94520" y="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X ES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38920" y="2924640"/>
            <a:ext cx="2305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 crucifica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 se repartier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s ropas, echándolas a suer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7453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659640" y="765000"/>
            <a:ext cx="21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JESÚS ES CLAVADO EN LA CR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78160" y="189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XI ES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2571840"/>
            <a:ext cx="208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ra media mañana cuando lo crucificar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7006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732720" y="90792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JESÚS MUERE EN LA CRUZ</a:t>
            </a:r>
            <a:r>
              <a:rPr b="0" lang="es-MX" sz="24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04720" y="33336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XII ES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32720" y="2282760"/>
            <a:ext cx="216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ero Jesús, lanzando un fuerte grito, expir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68600" y="0"/>
            <a:ext cx="65754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620640"/>
            <a:ext cx="266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EL CUERPO DE JESÚS EN BRAZOS DE SU MADRE SANTÍS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6000" y="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XIII ES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069360"/>
            <a:ext cx="2565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¡CÓMO desbordan amor tu cabeza caíd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us heridas abiertas, tu sangre derramad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70836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549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JESÚS EN EL SEPULC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" y="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XIV ES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85360"/>
            <a:ext cx="3930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formado por el centurión, concedió el cadáver a Jos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ste, compró una sábana y, bajando a Jesú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 envolvió en la sábana y lo puso en el sepulc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00" y="6491160"/>
            <a:ext cx="34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ff"/>
                </a:solidFill>
                <a:latin typeface="Arial"/>
              </a:rPr>
              <a:t>Composición Juan Braulio Arz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846520" y="0"/>
            <a:ext cx="62974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1413000"/>
            <a:ext cx="3059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De su abundancia,todos hemos recibid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475000" y="0"/>
            <a:ext cx="6669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765000"/>
            <a:ext cx="24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JESÚS SENTENCIADO A MU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640" y="189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I  ES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061360"/>
            <a:ext cx="248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dre, si quieres, aparta de mí este cál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ero no se haga mi voluntad, sino la tuya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98680" y="0"/>
            <a:ext cx="6745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765000"/>
            <a:ext cx="21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JESÚS CARGA CON LA CR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0" y="2602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II  ES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917360"/>
            <a:ext cx="2627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ilato se lo entregó para que lo crucificar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omaron a Jesús, y Él, cargado con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cruz, salió al sitio llamado de la calav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443320" y="0"/>
            <a:ext cx="6700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92280"/>
            <a:ext cx="21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JESÚS CAE POR PRIMERA V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0" y="26028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III  ES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709000"/>
            <a:ext cx="2305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OBLO mis rodillas ante aquel a qui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da rodilla se dobla, en el cielo, en la tierr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723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04000" y="836640"/>
            <a:ext cx="20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JESÚS ENCUENTRA A SU MADRE</a:t>
            </a:r>
            <a:r>
              <a:rPr b="0" lang="es-MX" sz="24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94160" y="26028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IV ES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32720" y="3285000"/>
            <a:ext cx="212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¡La cruz es para mí la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¡La cruz es mi camino y mi fuer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7341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732720" y="620640"/>
            <a:ext cx="241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9933"/>
                </a:solidFill>
                <a:latin typeface="Arial Rounded MT Bold"/>
              </a:rPr>
              <a:t> </a:t>
            </a:r>
            <a:r>
              <a:rPr b="1" lang="es-MX" sz="2000" spc="-1" strike="noStrike">
                <a:solidFill>
                  <a:srgbClr val="ff9933"/>
                </a:solidFill>
                <a:latin typeface="Arial Rounded MT Bold"/>
              </a:rPr>
              <a:t>EL CIRINEO AYUDA A LLEVAR LA CRU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949800" y="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V ES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1846080"/>
            <a:ext cx="270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charon mano de un cierto Simón de Cire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que volvía del campo, y le cargaron la cr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ara que la llevase detrás de Jesú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6373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551640" y="54936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LA VERÓNICA ENJUGA EL ROSTRO DEL SEÑOR</a:t>
            </a:r>
            <a:r>
              <a:rPr b="0" lang="es-MX" sz="24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65440" y="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VI ES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4520" y="2133720"/>
            <a:ext cx="2049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ue la imagen de mi rostro, os mue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la compasión por los hombres que suf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332080" y="0"/>
            <a:ext cx="68119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620640"/>
            <a:ext cx="22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JESÚS CAE POR SEGUNDA VEZ</a:t>
            </a:r>
            <a:r>
              <a:rPr b="0" lang="es-MX" sz="24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0" y="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VII ES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496600"/>
            <a:ext cx="248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 hay que llorar, no es por el salvador de los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een, sino por la impiedad de los que se pie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70040" y="0"/>
            <a:ext cx="657396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476280"/>
            <a:ext cx="262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33"/>
                </a:solidFill>
                <a:latin typeface="Arial"/>
              </a:rPr>
              <a:t>JESÚS AMONESTA A LAS MUJERES QUE LLORABAN POR É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0" y="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VIII ES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061080"/>
            <a:ext cx="248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ijas de Jerusalén, no lloréis por mí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lorad por vosotras y por vuestros hij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7:03:36Z</dcterms:created>
  <dc:creator>juan</dc:creator>
  <dc:description/>
  <dc:language>en-US</dc:language>
  <cp:lastModifiedBy>juan</cp:lastModifiedBy>
  <dcterms:modified xsi:type="dcterms:W3CDTF">2010-03-26T08:16:52Z</dcterms:modified>
  <cp:revision>9</cp:revision>
  <dc:subject/>
  <dc:title>Diapositiva 1</dc:title>
</cp:coreProperties>
</file>