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lasica%20serenat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A5A-CAC2-4ACA-8412-E3200D6A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354-BFBB-496D-942B-D579AB29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213-B522-4ACC-82DD-A346E19A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6CA-07C8-4BAD-8243-2400A276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ADB-1018-45D9-A14D-817D76AD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45C-0A6A-48EA-ABAF-C3FB320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477-75F3-44AF-A361-72BE6D0F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478-0726-4E3A-8E25-4C9B5634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461-0DC5-4B96-8962-ED9E9D2A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5F0-FED6-45D8-8B1B-361B48A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E5C-7AFC-4F93-A420-33E3A43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127-1530-4CD4-9976-91BDE4B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C81B-A3E8-47EC-A9A7-8F5B59C56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sica%20serenat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770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Viacruc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del Colegio Mar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San José de Le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7640" y="3330720"/>
            <a:ext cx="705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99ff"/>
                </a:solidFill>
                <a:latin typeface="Arial Rounded MT Bold"/>
              </a:rPr>
              <a:t>Hecho en pirograba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99ff"/>
                </a:solidFill>
                <a:latin typeface="Arial Rounded MT Bold"/>
              </a:rPr>
              <a:t>por el artista  Vela Zanne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53400" y="649116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ff"/>
                </a:solidFill>
                <a:latin typeface="Arial"/>
              </a:rPr>
              <a:t>Composición Juan Braulio Arz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  <p:sndAc>
      <p:stSnd>
        <p:snd r:embed="rId2" name="clasica%20serenat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5200" y="0"/>
            <a:ext cx="6778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7628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E POR TERCER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000" y="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X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124360"/>
            <a:ext cx="21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lloréis por el que muere por la redención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23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32720" y="907920"/>
            <a:ext cx="24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DESPOJADO DE SUS VESTI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4520" y="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38920" y="2924640"/>
            <a:ext cx="230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 crucifica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 se repartie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s ropas, echándolas a sue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45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59640" y="765000"/>
            <a:ext cx="21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ES CLAVADO EN LA 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8160" y="189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2571840"/>
            <a:ext cx="208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a media mañana cuando lo crucifica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32720" y="9079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MUERE EN LA CRUZ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04720" y="3333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2282760"/>
            <a:ext cx="216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o Jesús, lanzando un fuerte grito, expir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68600" y="0"/>
            <a:ext cx="6575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20640"/>
            <a:ext cx="266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EL CUERPO DE JESÚS EN BRAZOS DE SU MADRE SANTÍ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000" y="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69360"/>
            <a:ext cx="256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¡CÓMO desbordan amor tu cabeza caí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s heridas abiertas, tu sangre derrama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49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EN EL SEPUL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" y="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V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85360"/>
            <a:ext cx="393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do por el centurión, concedió el cadáver a Jos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, compró una sábana y, bajando a Jesú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 envolvió en la sábana y lo puso en el sepulc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0" y="649116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ff"/>
                </a:solidFill>
                <a:latin typeface="Arial"/>
              </a:rPr>
              <a:t>Composición Juan Braulio Arz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6520" y="0"/>
            <a:ext cx="62974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413000"/>
            <a:ext cx="305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De su abundancia,todos hemos recibi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75000" y="0"/>
            <a:ext cx="6669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76500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SENTENCIADO 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640" y="189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 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61360"/>
            <a:ext cx="248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dre, si quieres, aparta de mí este cál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o no se haga mi voluntad, sino la tuya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98680" y="0"/>
            <a:ext cx="6745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76500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RGA CON LA 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0" y="2602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I 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17360"/>
            <a:ext cx="262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ilato se lo entregó para que lo crucifica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maron a Jesús, y Él, cargado co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cruz, salió al sitio llamado de la calav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4332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92280"/>
            <a:ext cx="21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E POR PRIMER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" y="260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II 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09000"/>
            <a:ext cx="230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BLO mis rodillas ante aquel a 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da rodilla se dobla, en el cielo, en la tier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23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04000" y="83664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ENCUENTRA A SU MADRE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94160" y="2602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V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3285000"/>
            <a:ext cx="21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¡La cruz es para mí la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¡La cruz es mi camino y mi fuer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34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32720" y="620640"/>
            <a:ext cx="24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Arial Rounded MT Bold"/>
              </a:rPr>
              <a:t> </a:t>
            </a:r>
            <a:r>
              <a:rPr b="1" lang="es-MX" sz="2000" spc="-1" strike="noStrike">
                <a:solidFill>
                  <a:srgbClr val="ff9933"/>
                </a:solidFill>
                <a:latin typeface="Arial Rounded MT Bold"/>
              </a:rPr>
              <a:t>EL CIRINEO AYUDA A LLEVAR L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9800" y="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846080"/>
            <a:ext cx="27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charon mano de un cierto Simón de Cire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que volvía del campo, y le cargaron la c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ara que la llevase detrás de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37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51640" y="549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LA VERÓNICA ENJUGA EL ROSTRO DEL SEÑOR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5440" y="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4520" y="2133720"/>
            <a:ext cx="2049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 la imagen de mi rostro, os mue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la compasión por los hombres que suf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32080" y="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20640"/>
            <a:ext cx="22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E POR SEGUNDA VEZ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" y="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496600"/>
            <a:ext cx="248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 hay que llorar, no es por el salvador de l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en, sino por la impiedad de los que se pi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70040" y="0"/>
            <a:ext cx="65739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76280"/>
            <a:ext cx="26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AMONESTA A LAS MUJERES QUE LLORABAN POR 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" y="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I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61080"/>
            <a:ext cx="248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jas de Jerusalén, no lloréis por m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lorad por vosotras y por vuestros h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03:36Z</dcterms:created>
  <dc:creator>juan</dc:creator>
  <dc:description/>
  <dc:language>en-US</dc:language>
  <cp:lastModifiedBy>juan</cp:lastModifiedBy>
  <dcterms:modified xsi:type="dcterms:W3CDTF">2010-03-26T08:16:52Z</dcterms:modified>
  <cp:revision>9</cp:revision>
  <dc:subject/>
  <dc:title>Diapositiva 1</dc:title>
</cp:coreProperties>
</file>