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12.jpeg" ContentType="image/jpeg"/>
  <Override PartName="/ppt/media/image28.jpeg" ContentType="image/jpeg"/>
  <Override PartName="/ppt/media/Andre%20Gagnon-%20L'amour%20L'amour.wav" ContentType="audio/x-wav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0BE-3B36-4E85-90F9-06890F39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042-5FAF-460E-834A-9F3CED14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131-CB94-41AF-A4B5-78DB552F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B4E-5933-41DA-9CB1-AEF0A608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A7C-30C4-4500-B515-6814CD5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97B-FAD8-4FE6-BF13-8BB4B20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6F9-E70A-4AF6-80FF-2F79B34A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90-D34C-4522-A21B-364850B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0D7-7AEB-4029-865C-9CBD966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DC1-566B-438A-B630-09556B1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F49-42DB-46C4-8C71-A05FFF7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CE5-E464-422E-9CE1-D59784AC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EE5B-AEE3-4718-B772-2344CF82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Gagnon-%20L&apos;amour%20L&apos;amou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3300"/>
                </a:solidFill>
                <a:latin typeface="Comic Sans MS"/>
              </a:rPr>
              <a:t>Motel de</a:t>
            </a:r>
            <a:br>
              <a:rPr sz="9600"/>
            </a:br>
            <a:r>
              <a:rPr b="1" lang="pt-BR" sz="9600" spc="-1" strike="noStrike">
                <a:solidFill>
                  <a:srgbClr val="ff3300"/>
                </a:solidFill>
                <a:latin typeface="Comic Sans MS"/>
              </a:rPr>
              <a:t>paso no Kuwa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Andre%20Gagnon-%20L'amour%20L'amou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7960" y="723960"/>
            <a:ext cx="8128080" cy="541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O grande risco é você     ficar maravilhado e  esquecer o que fo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pt-BR" sz="5400" spc="-1" strike="noStrike">
                <a:solidFill>
                  <a:srgbClr val="ff3300"/>
                </a:solidFill>
                <a:latin typeface="Arial"/>
              </a:rPr>
              <a:t>fazer l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9:35:31Z</dcterms:created>
  <dc:creator/>
  <dc:description/>
  <dc:language>en-US</dc:language>
  <cp:lastModifiedBy>Marcos Lopes</cp:lastModifiedBy>
  <dcterms:modified xsi:type="dcterms:W3CDTF">2008-08-28T05:03:30Z</dcterms:modified>
  <cp:revision>0</cp:revision>
  <dc:subject/>
  <dc:title>Motel Espetacular!</dc:title>
</cp:coreProperties>
</file>