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12.jpeg" ContentType="image/jpeg"/>
  <Override PartName="/ppt/media/image28.jpeg" ContentType="image/jpeg"/>
  <Override PartName="/ppt/media/Andre%20Gagnon-%20L'amour%20L'amour.wav" ContentType="audio/x-wav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935-04C0-4986-B771-3ED97C84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536-E2E9-406D-9EE9-73B50AA2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C1E-1C92-4521-93E6-3A25655A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A7E-5251-432D-BAD0-89207F41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A43-D715-4FA2-AE28-87606B7E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FF4-AD03-44D5-9444-80A4B5BA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002-D9A4-4B9D-B17F-7BDED1BC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3B0-5BEC-4970-B878-CF0D8FF8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F3E-4655-48B0-8985-5EDD49C7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65D-A820-4321-9D89-0A068AB7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1CF-4BBB-4727-BCE9-751BE8A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AF7-0C4F-493A-950C-A660D4C7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12BB-D1FD-4A14-BE0D-6ED20FD59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Gagnon-%20L&apos;amour%20L&apos;amou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3300"/>
                </a:solidFill>
                <a:latin typeface="Comic Sans MS"/>
              </a:rPr>
              <a:t>Motel de</a:t>
            </a:r>
            <a:br>
              <a:rPr sz="9600"/>
            </a:br>
            <a:r>
              <a:rPr b="1" lang="pt-BR" sz="9600" spc="-1" strike="noStrike">
                <a:solidFill>
                  <a:srgbClr val="ff3300"/>
                </a:solidFill>
                <a:latin typeface="Comic Sans MS"/>
              </a:rPr>
              <a:t>paso no Kuwa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Andre%20Gagnon-%20L'amour%20L'amou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960" y="723960"/>
            <a:ext cx="8128080" cy="541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7960" y="723960"/>
            <a:ext cx="8128080" cy="5410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07960" y="723960"/>
            <a:ext cx="8128080" cy="5410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7960" y="723960"/>
            <a:ext cx="8128080" cy="5410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5400" spc="-1" strike="noStrike">
                <a:solidFill>
                  <a:srgbClr val="ff3300"/>
                </a:solidFill>
                <a:latin typeface="Arial"/>
              </a:rPr>
              <a:t>O grande risco é você     ficar maravilhado e  esquecer o que fo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pt-BR" sz="5400" spc="-1" strike="noStrike">
                <a:solidFill>
                  <a:srgbClr val="ff3300"/>
                </a:solidFill>
                <a:latin typeface="Arial"/>
              </a:rPr>
              <a:t>fazer lá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9:35:31Z</dcterms:created>
  <dc:creator/>
  <dc:description/>
  <dc:language>en-US</dc:language>
  <cp:lastModifiedBy>Marcos Lopes</cp:lastModifiedBy>
  <dcterms:modified xsi:type="dcterms:W3CDTF">2008-08-28T05:03:30Z</dcterms:modified>
  <cp:revision>0</cp:revision>
  <dc:subject/>
  <dc:title>Motel Espetacular!</dc:title>
</cp:coreProperties>
</file>