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On%20preparar%20Pasqua11w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C42-D12C-46E4-BED0-74EA01BF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1FD-5F93-4405-BC6E-D404ADE3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7F1-651C-446A-BC7A-E160B4C7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0DB-0148-4E1C-A59A-ADCCEBFA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DBD-409F-4200-860C-047A15FF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BD2-2A5B-432D-BD52-E4944817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EBF-8D84-4ACA-BDA3-5BD191CE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96D-6A1B-4C4D-BD4D-903F6283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083-8436-43E0-9671-5A11E4C7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82E-1399-492F-926E-245077E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E9C-41BB-46FF-9C09-C2369E79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3EB-DF84-43FE-AFB8-860E183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C5F9-53C9-42B0-B922-4F48940B18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On%20preparar%20Pasqua11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57160" y="4143240"/>
            <a:ext cx="4214880" cy="22269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uchando: “Preparemos la Cena pascual” de Bach, pensemos en una CENA compart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753120" y="285120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18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215040" y="-38160"/>
            <a:ext cx="2714760" cy="689616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571680" y="357120"/>
            <a:ext cx="5003640" cy="1940040"/>
            <a:chOff x="571680" y="357120"/>
            <a:chExt cx="50036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57168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5716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6215040" y="6143760"/>
            <a:ext cx="121464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On%20preparar%20Pasqua11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57160" y="1071720"/>
            <a:ext cx="7786800" cy="3751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s replicó: "No hace falta que vayan, dadles vosotros de comer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6 Imagen" descr="somalia2w.jpg"/>
          <p:cNvPicPr/>
          <p:nvPr/>
        </p:nvPicPr>
        <p:blipFill>
          <a:blip r:embed="rId1"/>
          <a:stretch/>
        </p:blipFill>
        <p:spPr>
          <a:xfrm>
            <a:off x="341280" y="1000080"/>
            <a:ext cx="8802720" cy="5857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214200" y="142920"/>
            <a:ext cx="8286840" cy="1465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adles de comer desde aquí:</a:t>
            </a:r>
            <a:br>
              <a:rPr sz="4000"/>
            </a:b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www.msf.es/colabora/donativos-socios/refugiados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4200" y="1357200"/>
            <a:ext cx="62150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Jesús transforma en Eucaristía la solidar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1357200" y="571680"/>
            <a:ext cx="6500880" cy="7409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los le replicaron: "Si aquí no tenemos más que cinco panes y dos peces." Les dijo: "Traédmelo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 Imagen" descr="somalia7w.jpg"/>
          <p:cNvPicPr/>
          <p:nvPr/>
        </p:nvPicPr>
        <p:blipFill>
          <a:blip r:embed="rId1"/>
          <a:stretch/>
        </p:blipFill>
        <p:spPr>
          <a:xfrm>
            <a:off x="285840" y="500040"/>
            <a:ext cx="8416800" cy="5786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42920" y="5391000"/>
            <a:ext cx="76438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 corazón de padre-madre, como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6 Rectángulo"/>
          <p:cNvSpPr/>
          <p:nvPr/>
        </p:nvSpPr>
        <p:spPr>
          <a:xfrm>
            <a:off x="6581520" y="8571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ujer Somal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857160" y="142920"/>
            <a:ext cx="764388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ad, aunque tengáis po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642960" y="500040"/>
            <a:ext cx="8072280" cy="6266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ndó a la gente que se recostara en la hierba y, tomando los cinco panes y los dos peces, alzó la mirada al cielo, pronunció la bendición, partió los panes y se los dio a los discípulos; los discípulos se los dieron a la gente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71680" y="434880"/>
            <a:ext cx="814356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ntre todos haremos el milag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14680" y="5721480"/>
            <a:ext cx="678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partiendo, aún sobrar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ans benedicw"/>
          <p:cNvPicPr/>
          <p:nvPr/>
        </p:nvPicPr>
        <p:blipFill>
          <a:blip r:embed="rId1"/>
          <a:stretch/>
        </p:blipFill>
        <p:spPr>
          <a:xfrm>
            <a:off x="142920" y="1428840"/>
            <a:ext cx="892980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1000080" y="1500120"/>
            <a:ext cx="6715080" cy="44830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ieron todos hasta quedar satisfech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4 Imagen" descr="resized_tabga144c.jpg"/>
          <p:cNvPicPr/>
          <p:nvPr/>
        </p:nvPicPr>
        <p:blipFill>
          <a:blip r:embed="rId1"/>
          <a:stretch/>
        </p:blipFill>
        <p:spPr>
          <a:xfrm>
            <a:off x="214200" y="1214280"/>
            <a:ext cx="8670960" cy="5310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3500280" y="285840"/>
            <a:ext cx="53578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Junto a Jesús, hagamos Eucarist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4200" y="5935680"/>
            <a:ext cx="8215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ntonces seremos HERM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Rectángulo"/>
          <p:cNvSpPr/>
          <p:nvPr/>
        </p:nvSpPr>
        <p:spPr>
          <a:xfrm>
            <a:off x="214200" y="5000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incón de Tabg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857160" y="928800"/>
            <a:ext cx="7643880" cy="51224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recogieron doce cestos llenos de sobras. Comieron unos cinco mil hombres, sin contar mujeres y niños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4 Imagen" descr="Manifestacion.jpg"/>
          <p:cNvPicPr/>
          <p:nvPr/>
        </p:nvPicPr>
        <p:blipFill>
          <a:blip r:embed="rId1"/>
          <a:stretch/>
        </p:blipFill>
        <p:spPr>
          <a:xfrm>
            <a:off x="19080" y="928800"/>
            <a:ext cx="90536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643200" y="176040"/>
            <a:ext cx="521496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resultado será una nueva socie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4200" y="6078600"/>
            <a:ext cx="8358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remos miles andando junt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9440" y="189000"/>
            <a:ext cx="9034560" cy="37508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Cuarta parte de evangelio de Mateo: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Cita de reflexión:</a:t>
            </a:r>
            <a:br>
              <a:rPr sz="4000"/>
            </a:br>
            <a:r>
              <a:rPr b="1" lang="es-ES" sz="4000" spc="-1" strike="noStrike">
                <a:solidFill>
                  <a:srgbClr val="e2af64"/>
                </a:solidFill>
                <a:latin typeface="Arial Unicode MS"/>
              </a:rPr>
              <a:t> ”Este pueblo me honra con los labios, pero su CORAZÓN está lejos de mí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6072120"/>
            <a:ext cx="9144000" cy="94716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2af64"/>
                </a:solidFill>
                <a:latin typeface="Arial Unicode MS"/>
              </a:rPr>
              <a:t>Imágenes del lugar de la multiplicación de los p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000080" y="3429000"/>
            <a:ext cx="7000920" cy="19224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El PAN de Jesús no alimenta el cuerpo, sino el CORAZ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857160" y="571680"/>
            <a:ext cx="7643880" cy="564336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571760" y="1214280"/>
            <a:ext cx="6215040" cy="4360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mueve nuestros corazones a COMPARTIR lo que somos y lo que tenemos, para que juntos seamos EUCARIST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4 Grupo"/>
          <p:cNvGrpSpPr/>
          <p:nvPr/>
        </p:nvGrpSpPr>
        <p:grpSpPr>
          <a:xfrm>
            <a:off x="500040" y="285840"/>
            <a:ext cx="8286840" cy="1928880"/>
            <a:chOff x="500040" y="285840"/>
            <a:chExt cx="8286840" cy="1928880"/>
          </a:xfrm>
        </p:grpSpPr>
        <p:sp>
          <p:nvSpPr>
            <p:cNvPr id="104" name="Rectangle 5"/>
            <p:cNvSpPr/>
            <p:nvPr/>
          </p:nvSpPr>
          <p:spPr>
            <a:xfrm>
              <a:off x="500040" y="285840"/>
              <a:ext cx="8286840" cy="19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2"/>
            <p:cNvSpPr/>
            <p:nvPr/>
          </p:nvSpPr>
          <p:spPr>
            <a:xfrm>
              <a:off x="714240" y="56376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Picture 7" descr="C:\Documents and Settings\st benet\Mis documentos\Fotos\SBw.jpg"/>
            <p:cNvPicPr/>
            <p:nvPr/>
          </p:nvPicPr>
          <p:blipFill>
            <a:blip r:embed="rId1"/>
            <a:stretch/>
          </p:blipFill>
          <p:spPr>
            <a:xfrm>
              <a:off x="958320" y="930240"/>
              <a:ext cx="827280" cy="7128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8"/>
          <p:cNvGrpSpPr/>
          <p:nvPr/>
        </p:nvGrpSpPr>
        <p:grpSpPr>
          <a:xfrm>
            <a:off x="-2054160" y="38160"/>
            <a:ext cx="13119120" cy="6819840"/>
            <a:chOff x="-2054160" y="38160"/>
            <a:chExt cx="13119120" cy="6819840"/>
          </a:xfrm>
        </p:grpSpPr>
        <p:pic>
          <p:nvPicPr>
            <p:cNvPr id="54" name="Picture 15" descr="tabga6t"/>
            <p:cNvPicPr/>
            <p:nvPr/>
          </p:nvPicPr>
          <p:blipFill>
            <a:blip r:embed="rId1"/>
            <a:stretch/>
          </p:blipFill>
          <p:spPr>
            <a:xfrm>
              <a:off x="-2054160" y="38160"/>
              <a:ext cx="13119120" cy="68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AutoShape 16"/>
            <p:cNvSpPr/>
            <p:nvPr/>
          </p:nvSpPr>
          <p:spPr>
            <a:xfrm rot="1434600">
              <a:off x="7883280" y="5130720"/>
              <a:ext cx="2520720" cy="1103400"/>
            </a:xfrm>
            <a:prstGeom prst="rightArrow">
              <a:avLst>
                <a:gd name="adj1" fmla="val 50000"/>
                <a:gd name="adj2" fmla="val 57113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400" spc="-1" strike="noStrike">
                  <a:solidFill>
                    <a:srgbClr val="ffffff"/>
                  </a:solidFill>
                  <a:latin typeface="Arial Unicode MS"/>
                </a:rPr>
                <a:t>Tabgha:7 fu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5"/>
          <p:cNvSpPr/>
          <p:nvPr/>
        </p:nvSpPr>
        <p:spPr>
          <a:xfrm>
            <a:off x="2071800" y="500040"/>
            <a:ext cx="4593960" cy="1312920"/>
          </a:xfrm>
          <a:prstGeom prst="rect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Compartamos el Pan de cada d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489 -0.00278 L -0.29202 -0.00278 E">
                                      <p:cBhvr>
                                        <p:cTn id="44" dur="1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285840" y="500040"/>
            <a:ext cx="835812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4,13-21 En aquel tiempo, al enterarse Jesús de la muerte de Juan, el Bautista, se marchó de allí en barca, a un sitio tranquilo y apartado. Al saberlo la gente, lo siguió por tierra desde los puebl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6" descr="resized_llacro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1280" y="95400"/>
            <a:ext cx="8929800" cy="1252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La muerte de Juan recuerda el destino de los profetes y el de Jesú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428840" y="5319720"/>
            <a:ext cx="75391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es de morir, Él nos quiere dar lo mejor de sí m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1214280" y="714240"/>
            <a:ext cx="6500880" cy="71323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desembarcar, vio Jesús el gentío, le dio lástima y curó a los enfermos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9 Imagen" descr="7fontsclaustwcw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42920" y="176040"/>
            <a:ext cx="8786880" cy="12214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Al desembarcar, la compasión mueve a Jesús a curar a los enfermo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14880" y="1500120"/>
            <a:ext cx="47149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Él es una FUENTE inago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500040" y="5786280"/>
            <a:ext cx="77151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Tabga (Hepta-pegon en griego) quiere decir “SIETE  FUENT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571680" y="285840"/>
            <a:ext cx="778644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o se hizo tarde, se acercaron los discípulos a decirle: "Estamos en despoblado y es muy tarde, despide a la multitud para que vayan a las aldeas y se compren de comer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5 Imagen" descr="somalia5w.jpg"/>
          <p:cNvPicPr/>
          <p:nvPr/>
        </p:nvPicPr>
        <p:blipFill>
          <a:blip r:embed="rId1"/>
          <a:stretch/>
        </p:blipFill>
        <p:spPr>
          <a:xfrm>
            <a:off x="428760" y="1006560"/>
            <a:ext cx="871524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142920" y="4286160"/>
            <a:ext cx="28573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Les dejaremospart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14200" y="142920"/>
            <a:ext cx="8786880" cy="1252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Nueve millones de Somalís están muriendo de hambre en los desiert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07-24T08:39:20Z</dcterms:modified>
  <cp:revision>599</cp:revision>
  <dc:subject/>
  <dc:title>evangeli</dc:title>
</cp:coreProperties>
</file>