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On%20preparar%20Pasqua11w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00B-379F-4A2B-82AC-8061ACCD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F18-9543-497E-AC31-D169970F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3C8-68CF-49B5-88AE-744DB643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3F8-E5E5-42A0-AFC9-BB5DC134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660-8B5B-4D97-B9BA-DD382AA0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E1C-4E5D-48BF-8356-59766FD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9A8-5B83-47D7-A2FD-1CF2B36B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440-1436-4204-98DA-2D0CFD7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9E0-51EA-47AE-8CB8-8B370673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46C-1D22-4D57-AAB8-18D2FC5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DB7-3220-4170-AD56-8F14BAA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A23-9799-4C90-983A-880B203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A69-0F1E-4C26-858D-21FDBF40C9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On%20preparar%20Pasqua11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57160" y="4143240"/>
            <a:ext cx="421488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: “Preparemos la Cena pascual” de Bach, pensemos en una CENA comp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753120" y="285120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18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215040" y="-38160"/>
            <a:ext cx="27147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215040" y="6143760"/>
            <a:ext cx="121464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On%20preparar%20Pasqua11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857160" y="1071720"/>
            <a:ext cx="7786800" cy="3751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s replicó: "No hace falta que vayan, dadles vosotros de comer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6 Imagen" descr="somalia2w.jpg"/>
          <p:cNvPicPr/>
          <p:nvPr/>
        </p:nvPicPr>
        <p:blipFill>
          <a:blip r:embed="rId1"/>
          <a:stretch/>
        </p:blipFill>
        <p:spPr>
          <a:xfrm>
            <a:off x="341280" y="1000080"/>
            <a:ext cx="8802720" cy="5857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14200" y="142920"/>
            <a:ext cx="8286840" cy="1465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dles de comer desde aquí:</a:t>
            </a:r>
            <a:br>
              <a:rPr sz="4000"/>
            </a:b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www.msf.es/colabora/donativos-socios/refugiados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4200" y="1357200"/>
            <a:ext cx="6215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transforma en Eucaristía la solidar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1357200" y="571680"/>
            <a:ext cx="6500880" cy="7409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los le replicaron: "Si aquí no tenemos más que cinco panes y dos peces." Les dijo: "Traédmel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 Imagen" descr="somalia7w.jpg"/>
          <p:cNvPicPr/>
          <p:nvPr/>
        </p:nvPicPr>
        <p:blipFill>
          <a:blip r:embed="rId1"/>
          <a:stretch/>
        </p:blipFill>
        <p:spPr>
          <a:xfrm>
            <a:off x="285840" y="500040"/>
            <a:ext cx="8416800" cy="5786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42920" y="5391000"/>
            <a:ext cx="7643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 corazón de padre-madre, como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6 Rectángulo"/>
          <p:cNvSpPr/>
          <p:nvPr/>
        </p:nvSpPr>
        <p:spPr>
          <a:xfrm>
            <a:off x="6581520" y="8571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ujer Somal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857160" y="142920"/>
            <a:ext cx="76438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ad, aunque tengáis po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642960" y="500040"/>
            <a:ext cx="8072280" cy="62661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dó a la gente que se recostara en la hierba y, tomando los cinco panes y los dos peces, alzó la mirada al cielo, pronunció la bendición, partió los panes y se los dio a los discípulos; los discípulos se los dieron a la gente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71680" y="434880"/>
            <a:ext cx="814356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tre todos haremos el milag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14680" y="5721480"/>
            <a:ext cx="678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partiendo, aún sobra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ans benedicw"/>
          <p:cNvPicPr/>
          <p:nvPr/>
        </p:nvPicPr>
        <p:blipFill>
          <a:blip r:embed="rId1"/>
          <a:stretch/>
        </p:blipFill>
        <p:spPr>
          <a:xfrm>
            <a:off x="142920" y="1428840"/>
            <a:ext cx="8929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000080" y="1500120"/>
            <a:ext cx="6715080" cy="44830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ieron todos hasta quedar satisfecho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4 Imagen" descr="resized_tabga144c.jpg"/>
          <p:cNvPicPr/>
          <p:nvPr/>
        </p:nvPicPr>
        <p:blipFill>
          <a:blip r:embed="rId1"/>
          <a:stretch/>
        </p:blipFill>
        <p:spPr>
          <a:xfrm>
            <a:off x="214200" y="1214280"/>
            <a:ext cx="8670960" cy="5310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500280" y="285840"/>
            <a:ext cx="53578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Junto a Jesús, hagamos Eucarist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4200" y="5935680"/>
            <a:ext cx="8215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tonces seremos HER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Rectángulo"/>
          <p:cNvSpPr/>
          <p:nvPr/>
        </p:nvSpPr>
        <p:spPr>
          <a:xfrm>
            <a:off x="214200" y="500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incón de Tabg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857160" y="928800"/>
            <a:ext cx="7643880" cy="51224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recogieron doce cestos llenos de sobras. Comieron unos cinco mil hombres, sin contar mujeres y niños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4 Imagen" descr="Manifestacion.jpg"/>
          <p:cNvPicPr/>
          <p:nvPr/>
        </p:nvPicPr>
        <p:blipFill>
          <a:blip r:embed="rId1"/>
          <a:stretch/>
        </p:blipFill>
        <p:spPr>
          <a:xfrm>
            <a:off x="19080" y="928800"/>
            <a:ext cx="90536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643200" y="176040"/>
            <a:ext cx="52149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resultado será una nueva socie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6078600"/>
            <a:ext cx="8358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remos miles andando junt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09440" y="189000"/>
            <a:ext cx="9034560" cy="3750840"/>
          </a:xfrm>
          <a:prstGeom prst="rect">
            <a:avLst/>
          </a:pr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uarta parte de evangelio de Mateo: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ita de reflexión:</a:t>
            </a:r>
            <a:br>
              <a:rPr sz="4000"/>
            </a:br>
            <a:r>
              <a:rPr b="1" lang="es-ES" sz="4000" spc="-1" strike="noStrike">
                <a:solidFill>
                  <a:srgbClr val="e2af64"/>
                </a:solidFill>
                <a:latin typeface="Arial Unicode MS"/>
              </a:rPr>
              <a:t> ”Este pueblo me honra con los labios, pero su CORAZÓN está lejos de mí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6072120"/>
            <a:ext cx="9144000" cy="947160"/>
          </a:xfrm>
          <a:prstGeom prst="rect">
            <a:avLst/>
          </a:prstGeom>
          <a:solidFill>
            <a:srgbClr val="1c1c1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2af64"/>
                </a:solidFill>
                <a:latin typeface="Arial Unicode MS"/>
              </a:rPr>
              <a:t>Imágenes del lugar de la multiplicación de los p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000080" y="3429000"/>
            <a:ext cx="7000920" cy="19224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El PAN de Jesús no alimenta el cuerpo, sino el CORAZ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857160" y="571680"/>
            <a:ext cx="7643880" cy="56433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571760" y="1214280"/>
            <a:ext cx="621504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mueve nuestros corazones a COMPARTIR lo que somos y lo que tenemos, para que juntos seamos EUCARIST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4 Grupo"/>
          <p:cNvGrpSpPr/>
          <p:nvPr/>
        </p:nvGrpSpPr>
        <p:grpSpPr>
          <a:xfrm>
            <a:off x="500040" y="285840"/>
            <a:ext cx="8286840" cy="1928880"/>
            <a:chOff x="500040" y="285840"/>
            <a:chExt cx="8286840" cy="1928880"/>
          </a:xfrm>
        </p:grpSpPr>
        <p:sp>
          <p:nvSpPr>
            <p:cNvPr id="104" name="Rectangle 5"/>
            <p:cNvSpPr/>
            <p:nvPr/>
          </p:nvSpPr>
          <p:spPr>
            <a:xfrm>
              <a:off x="500040" y="28584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"/>
            <p:cNvSpPr/>
            <p:nvPr/>
          </p:nvSpPr>
          <p:spPr>
            <a:xfrm>
              <a:off x="714240" y="56376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Picture 7" descr="C:\Documents and Settings\st benet\Mis documentos\Fotos\SBw.jpg"/>
            <p:cNvPicPr/>
            <p:nvPr/>
          </p:nvPicPr>
          <p:blipFill>
            <a:blip r:embed="rId1"/>
            <a:stretch/>
          </p:blipFill>
          <p:spPr>
            <a:xfrm>
              <a:off x="958320" y="93024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8"/>
          <p:cNvGrpSpPr/>
          <p:nvPr/>
        </p:nvGrpSpPr>
        <p:grpSpPr>
          <a:xfrm>
            <a:off x="-2054160" y="38160"/>
            <a:ext cx="13119120" cy="6819840"/>
            <a:chOff x="-2054160" y="38160"/>
            <a:chExt cx="13119120" cy="6819840"/>
          </a:xfrm>
        </p:grpSpPr>
        <p:pic>
          <p:nvPicPr>
            <p:cNvPr id="54" name="Picture 15" descr="tabga6t"/>
            <p:cNvPicPr/>
            <p:nvPr/>
          </p:nvPicPr>
          <p:blipFill>
            <a:blip r:embed="rId1"/>
            <a:stretch/>
          </p:blipFill>
          <p:spPr>
            <a:xfrm>
              <a:off x="-2054160" y="38160"/>
              <a:ext cx="13119120" cy="68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16"/>
            <p:cNvSpPr/>
            <p:nvPr/>
          </p:nvSpPr>
          <p:spPr>
            <a:xfrm rot="1434600">
              <a:off x="7883280" y="5130720"/>
              <a:ext cx="2520720" cy="1103400"/>
            </a:xfrm>
            <a:prstGeom prst="rightArrow">
              <a:avLst>
                <a:gd name="adj1" fmla="val 50000"/>
                <a:gd name="adj2" fmla="val 57113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2400" spc="-1" strike="noStrike">
                  <a:solidFill>
                    <a:srgbClr val="ffffff"/>
                  </a:solidFill>
                  <a:latin typeface="Arial Unicode MS"/>
                </a:rPr>
                <a:t>Tabgha:7 f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5"/>
          <p:cNvSpPr/>
          <p:nvPr/>
        </p:nvSpPr>
        <p:spPr>
          <a:xfrm>
            <a:off x="2071800" y="500040"/>
            <a:ext cx="4593960" cy="1312920"/>
          </a:xfrm>
          <a:prstGeom prst="rect">
            <a:avLst/>
          </a:prstGeom>
          <a:solidFill>
            <a:srgbClr val="00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ompartamos el Pan de cada d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489 -0.00278 L -0.29202 -0.00278 E">
                                      <p:cBhvr>
                                        <p:cTn id="44" dur="1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285840" y="500040"/>
            <a:ext cx="835812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4,13-21 En aquel tiempo, al enterarse Jesús de la muerte de Juan, el Bautista, se marchó de allí en barca, a un sitio tranquilo y apartado. Al saberlo la gente, lo siguió por tierra desde los puebl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6" descr="resized_llacro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1280" y="95400"/>
            <a:ext cx="892980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La muerte de Juan recuerda el destino de los profetes y el de Jesú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428840" y="5319720"/>
            <a:ext cx="7539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morir, Él nos quiere dar lo mejor de sí m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1214280" y="714240"/>
            <a:ext cx="6500880" cy="713232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desembarcar, vio Jesús el gentío, le dio lástima y curó a los enfermos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9 Imagen" descr="7fontsclaustwcw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42920" y="176040"/>
            <a:ext cx="8786880" cy="12214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Al desembarcar, la compasión mueve a Jesús a curar a los enfermo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4880" y="1500120"/>
            <a:ext cx="47149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una FUENTE inago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00040" y="5786280"/>
            <a:ext cx="77151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Tabga (Hepta-pegon en griego) quiere decir “SIETE  FUENT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71680" y="285840"/>
            <a:ext cx="778644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o se hizo tarde, se acercaron los discípulos a decirle: "Estamos en despoblado y es muy tarde, despide a la multitud para que vayan a las aldeas y se compren de comer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5 Imagen" descr="somalia5w.jpg"/>
          <p:cNvPicPr/>
          <p:nvPr/>
        </p:nvPicPr>
        <p:blipFill>
          <a:blip r:embed="rId1"/>
          <a:stretch/>
        </p:blipFill>
        <p:spPr>
          <a:xfrm>
            <a:off x="428760" y="1006560"/>
            <a:ext cx="871524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142920" y="4286160"/>
            <a:ext cx="28573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Les dejaremospart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14200" y="142920"/>
            <a:ext cx="878688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Nueve millones de Somalís están muriendo de hambre en los desiert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7-24T08:39:20Z</dcterms:modified>
  <cp:revision>599</cp:revision>
  <dc:subject/>
  <dc:title>evangeli</dc:title>
</cp:coreProperties>
</file>