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B57-CEF1-41DA-8ECD-FB1ED11B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52F-3833-4C86-B108-78CD6E38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0DE-AF1D-4AE3-9A52-18045D91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15B-69CF-4401-BAA1-F0933E93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073-55F5-40C1-9F1A-B5471644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3E6-91E7-4F76-A8DE-48A925F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43E-C4E2-4A21-B916-A0E84E7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A75-407F-41D8-AC3D-BE71A0D0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418-A502-4BB5-B982-681B57C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0CD-1AE0-4A9A-8A2B-88F6F70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CDB-42B9-4208-9F3A-7217F8B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4D5-109B-421C-A5F9-F3F0CA7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CB0D-6F5A-45DF-81A1-C4992B64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4480" y="657360"/>
            <a:ext cx="563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pyrus"/>
              </a:rPr>
              <a:t>Te amo tal como eres, antes de que me pidas perdón yo ya te he perdonado. Yo soy la luz, quien me siga nunca estará en tinieblas. Te a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Jesucr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nvía este mensaje a 10 amigos, y ve lo que pasara en tu vida al 4 día. Tu vida mejorara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Favor de no mantener este mensaje para ti solo, alguien lo neces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pyrus"/>
              </a:rPr>
              <a:t>Debo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8040" y="517680"/>
            <a:ext cx="61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Debo ser fuerte sin ser rudo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Papyrus"/>
              </a:rPr>
              <a:t>Ser amable sin ser débil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4680" y="417600"/>
            <a:ext cx="5763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Aprender con orgullo sin arrogancia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Aprender a ser gentil sin ser su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humilde sin ser tímido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valioso sin ser agresivo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er agradecido sin ser servi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Meditar sin ser flo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Por eso señor te pido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ame grandeza para entend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apacidad para reten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Método y Facultad para aprend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Sutileza para interpreta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Gracia y abundancia para hab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ame acierto al empeza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Dirección al progres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Y perfección al aca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911520" y="566640"/>
            <a:ext cx="83098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Papyrus"/>
              </a:rPr>
              <a:t>Radames 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Padre nuestro que estás en los cielos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santificado sea tu nombre venga a nosotros tu reino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hágase tu voluntad aquí en la Tierr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como en el cielo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Danos hoy el pan nuestro de cada día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perdona nuestras ofensas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danos misericordia para saber perdonar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a los que nos ofenden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no nos dejes caer en la tentació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y líbranos de todo m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AM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240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hora, por tu bien envíala a otras persona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¿Sabes porque?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En un rato mas, muchas personas habrán rezado habrás logrado un poquito por el mun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que muchas personas recen a Dios por otras persona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Luego, piensa por un mo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y aprecia el poder de Dios en tu vida, p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acer lo que tu sabes rezar. . . a Él le encanta, saber que lo amamos tanto como el nos a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Si no tienes vergüenza de hacer esto, por favo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sigue las instru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Jesucristo dijo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1680"/>
            <a:ext cx="674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"Si te avergüenzas de mí, yo me avergonzare de ti ante mi Padre"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 no tienes vergüenza, envía este Mensaje...solo si crees en ello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, amo a Dio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25640" y="662040"/>
            <a:ext cx="6785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Él es mi fuente de existencia y mi Salvado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Él me mantiene funcionando día y noch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Sin Él, nada soy, pero, con Él todo lo puedo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Papyrus"/>
              </a:rPr>
              <a:t>en Cristo que me da fuer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Filipenses 4:13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46040"/>
            <a:ext cx="68580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Esta es la prueba más simple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Si amas a Dios y no te avergüenzas de todas las cosas maravillosas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Papyrus"/>
              </a:rPr>
              <a:t>que Él ha hecho por ti, envíalo a otras persona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pyrus"/>
              </a:rPr>
              <a:t>A TI TE DA VERGUENZA NO LO ENVIES Y  SI NO TE DA VERGUENZA ENVIALO A TODOS LOS QUE PUEDAS Y ESPECIALMENTE A LAS PERSONAS QUE QUIERES MUCHO Y A ESA PERSONA QUE ESTA CONTIGO Y QUE DIOS LOS PROTEGA 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pyrus"/>
              </a:rPr>
              <a:t>si me consideras tu amiga/o   me lo reenviaras solo así pensare que me tienes presente</a:t>
            </a:r>
            <a:r>
              <a:rPr b="0" lang="es-ES" sz="20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6:17:28Z</dcterms:created>
  <dc:creator>ptellez</dc:creator>
  <dc:description/>
  <dc:language>en-US</dc:language>
  <cp:lastModifiedBy>ZermenoB</cp:lastModifiedBy>
  <dcterms:modified xsi:type="dcterms:W3CDTF">2006-03-07T20:35:00Z</dcterms:modified>
  <cp:revision>16</cp:revision>
  <dc:subject/>
  <dc:title>Diapositiva 1</dc:title>
</cp:coreProperties>
</file>