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B91-DEFF-4EFD-AA9B-939FA7D8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997-6B28-4D33-B4A6-A75508C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D0B-5BFB-42EF-BFA2-C010F93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5D3-7414-4BB3-B5B9-6C506C17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5EA-03B8-48B7-9500-BB3797E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C58-8B6B-4D84-B55E-6F3C52D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44F-FFAF-46A4-942B-64449D8C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E7A-947A-4B36-8698-3903023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606-DE85-4A3E-BD1B-9681A8C4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D81-9842-4A2B-A155-3F7B446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750-DDB7-4485-B78B-E2B7954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E54-AF29-4DA5-8CCA-B97F6E6A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D4B6-66F2-47DE-85A6-E2E9A855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4480" y="657360"/>
            <a:ext cx="563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pyrus"/>
              </a:rPr>
              <a:t>Te amo tal como eres, antes de que me pidas perdón yo ya te he perdonado. Yo soy la luz, quien me siga nunca estará en tinieblas. Te a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Jesucr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nvía este mensaje a 10 amigos, y ve lo que pasara en tu vida al 4 día. Tu vida mejorara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Favor de no mantener este mensaje para ti solo, alguien lo neces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pyrus"/>
              </a:rPr>
              <a:t>Debo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8040" y="517680"/>
            <a:ext cx="61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ebo ser fuerte sin ser rudo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er amable sin ser débil,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4680" y="417600"/>
            <a:ext cx="5763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Aprender con orgullo sin arrogancia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Aprender a ser gentil sin ser su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r humilde sin ser tímido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r valioso sin ser agresivo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r agradecido sin ser servi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Meditar sin ser flo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or eso señor te pido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Dame grandeza para entend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apacidad para reten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Método y Facultad para aprend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utileza para interpreta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Gracia y abundancia para hab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Dame acierto al empeza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Dirección al progres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Y perfección al aca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911520" y="566640"/>
            <a:ext cx="83098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Papyrus"/>
              </a:rPr>
              <a:t>Radames 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Padre nuestro que estás en los cielos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santificado sea tu nombre venga a nosotros tu reino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hágase tu voluntad aquí en la Tier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como en el cielo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Danos hoy el pan nuestro de cada día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perdona nuestras ofensas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danos misericordia para saber perdonar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a los que nos ofenden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no nos dejes caer en la tentación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y líbranos de todo m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AM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2400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hora, por tu bien envíala a otras persona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¿Sabes porque?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En un rato mas, muchas personas habrán rezado habrás logrado un poquito por el mun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que muchas personas recen a Dios por otras persona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Luego, piensa por un mo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y aprecia el poder de Dios en tu vida, p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acer lo que tu sabes rezar. . . a Él le encanta, saber que lo amamos tanto como el nos a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Si no tienes vergüenza de hacer esto, por favo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sigue las instru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Jesucristo dijo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1680"/>
            <a:ext cx="674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"Si te avergüenzas de mí, yo me avergonzare de ti ante mi Padre"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i no tienes vergüenza, envía este Mensaje...solo si crees en ello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i, amo a Dio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25640" y="662040"/>
            <a:ext cx="6785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Él es mi fuente de existencia y mi Salvado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Él me mantiene funcionando día y noch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in Él, nada soy, pero, con Él todo lo puedo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n Cristo que me da fuer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Filipenses 4:1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46040"/>
            <a:ext cx="68580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Esta es la prueba más simple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Si amas a Dios y no te avergüenzas de todas las cosas maravillosas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que Él ha hecho por ti, envíalo a otras persona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pyrus"/>
              </a:rPr>
              <a:t>A TI TE DA VERGUENZA NO LO ENVIES Y  SI NO TE DA VERGUENZA ENVIALO A TODOS LOS QUE PUEDAS Y ESPECIALMENTE A LAS PERSONAS QUE QUIERES MUCHO Y A ESA PERSONA QUE ESTA CONTIGO Y QUE DIOS LOS PROTEGA 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pyrus"/>
              </a:rPr>
              <a:t>si me consideras tu amiga/o   me lo reenviaras solo así pensare que me tienes presente</a:t>
            </a:r>
            <a:r>
              <a:rPr b="0" lang="es-ES" sz="20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6:17:28Z</dcterms:created>
  <dc:creator>ptellez</dc:creator>
  <dc:description/>
  <dc:language>en-US</dc:language>
  <cp:lastModifiedBy>ZermenoB</cp:lastModifiedBy>
  <dcterms:modified xsi:type="dcterms:W3CDTF">2006-03-07T20:35:00Z</dcterms:modified>
  <cp:revision>16</cp:revision>
  <dc:subject/>
  <dc:title>Diapositiva 1</dc:title>
</cp:coreProperties>
</file>