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wave_song_for_peace.wav" ContentType="audio/x-wav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5831-9DCC-43A8-9BDB-8076676D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CA3-6691-46EA-8DC5-55C35751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FB06-1563-4D8A-A5C0-603FF58C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03E-3D57-4ADF-8516-E77EA96C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A79-9023-4C78-80B2-43818546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E776-4B2A-495E-A08E-EFC38FA8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EA3-FCE9-41B4-A335-B1C7FF7C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655-DAB5-45BE-AD42-052272A5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1AD-49A6-422B-8792-CF8DC18E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83DE-844C-4491-A3C8-5C331FB4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199D-0352-4B69-B559-7ADECD0C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429A-DCFF-4411-A112-AEA458E7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EF35-6E62-4FA2-A07D-03E6BA0EB0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wave_song_for_peac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987640" y="4005360"/>
            <a:ext cx="61563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000000"/>
                </a:solidFill>
                <a:latin typeface="Edwardian Script ITC"/>
              </a:rPr>
              <a:t>Aceptame como soy!</a:t>
            </a:r>
            <a:br>
              <a:rPr sz="6600"/>
            </a:br>
            <a:r>
              <a:rPr b="1" lang="pt-BR" sz="5400" spc="-1" strike="noStrike">
                <a:solidFill>
                  <a:srgbClr val="000000"/>
                </a:solidFill>
                <a:latin typeface="Edwardian Script ITC"/>
              </a:rPr>
              <a:t>Una historia rea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BodyPart?ID=IQkP5q0Ncz_jEQxzTOg39A43NbOJR6MZ0cDvJ6Y9&amp;Act_View=1&amp;R_Folder=aW5ib3g=&amp;msgID=1971&amp;Body=6"/>
          <p:cNvPicPr/>
          <p:nvPr/>
        </p:nvPicPr>
        <p:blipFill>
          <a:blip r:embed="rId2"/>
          <a:stretch/>
        </p:blipFill>
        <p:spPr>
          <a:xfrm>
            <a:off x="179280" y="3789360"/>
            <a:ext cx="2592360" cy="2952720"/>
          </a:xfrm>
          <a:prstGeom prst="rect">
            <a:avLst/>
          </a:prstGeom>
          <a:ln w="0">
            <a:noFill/>
          </a:ln>
        </p:spPr>
      </p:pic>
    </p:spTree>
  </p:cSld>
  <p:transition advTm="12000">
    <p:zoom dir="out"/>
    <p:sndAc>
      <p:stSnd>
        <p:snd r:embed="rId3" name="wave_song_for_peac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38606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Dios nos responde: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Paciencia es un subprodu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de las tribulaciones; ella no se puede dar, debe aprender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4205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Dios nos da bendiciones;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la felicidad depende de nosotr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4221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No pidamos a Dios que nos libre del dol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4149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Sufrir nos aleja del mundo y nos aproxima a D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4183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Pidamos a Dios que nos ayude a AMAR los otros, como El nos a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4378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Dios nos dirá: ... Ahhhh, finalment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ntendiste la ide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40514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i amas a Dios, envia a tus amigos este mensaje, aunque no crean en Dios, ten la certeza que les ayudara muc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4437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Que Dios te bendig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3419640" y="5445000"/>
            <a:ext cx="5545080" cy="1152720"/>
          </a:xfrm>
          <a:prstGeom prst="rect">
            <a:avLst/>
          </a:prstGeom>
          <a:solidFill>
            <a:srgbClr val="a50021">
              <a:alpha val="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50021"/>
                </a:solidFill>
                <a:latin typeface="Times New Roman"/>
              </a:rPr>
              <a:t>Texto:  Autor desconocido, adaptado 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0" lang="pt-BR" sz="2400" spc="-1" strike="noStrike">
                <a:solidFill>
                  <a:srgbClr val="a50021"/>
                </a:solidFill>
                <a:latin typeface="Times New Roman"/>
              </a:rPr>
              <a:t>ampliado por Jua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36752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"Para el mundo puedes ser una persona, pero, para una persona vos pue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ser el mundo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38606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sta história, es la de un soldado que, finalmente volvia a casa, despues haber luchado em Viet N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l llamo a sus padres desde San Francisco: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300720" y="6381720"/>
            <a:ext cx="2519280" cy="409680"/>
          </a:xfrm>
          <a:prstGeom prst="rect">
            <a:avLst/>
          </a:prstGeom>
          <a:solidFill>
            <a:srgbClr val="cc66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Times New Roman"/>
              </a:rPr>
              <a:t>CLIQUE S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3573360"/>
            <a:ext cx="9144000" cy="25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a50021"/>
                </a:solidFill>
                <a:latin typeface="Arial"/>
              </a:rPr>
              <a:t>- Mama, Papa, estoy volviendo a casa, pero antes quiero pedirles um favor. Tengo un amigo que me gustaria de llevarlo conmigo.</a:t>
            </a:r>
            <a:br>
              <a:rPr sz="2400"/>
            </a:b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- Claro, respondieron. Nos encantaria conocerlo tambien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500"/>
            </a:br>
            <a:r>
              <a:rPr b="1" lang="pt-BR" sz="2400" spc="-1" strike="noStrike">
                <a:solidFill>
                  <a:srgbClr val="a50021"/>
                </a:solidFill>
                <a:latin typeface="Arial"/>
              </a:rPr>
              <a:t>Hay algo que deben saber antes. El fue terriblemente herido en combate. Piso una mina y perdio un brazo y una pierna. Y ademas el no tiene ningun lugar donde vi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3429000"/>
            <a:ext cx="9144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ue lastima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!!! Sentimos mucho escuchar es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Talvez podamos ayudarlo a encontrar algun lugar para vivi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a50021"/>
                </a:solidFill>
                <a:latin typeface="Arial"/>
              </a:rPr>
              <a:t>- No mama, yo quiero que el pueda vivir em nuestra casa!</a:t>
            </a:r>
            <a:br>
              <a:rPr sz="2600"/>
            </a:b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- Pero hijo, no sabes lo que estas pidiendo, no tienes idea de la gravedad del problema?</a:t>
            </a:r>
            <a:br>
              <a:rPr sz="2600"/>
            </a:br>
            <a:r>
              <a:rPr b="1" lang="pt-BR" sz="2600" spc="-1" strike="noStrike">
                <a:solidFill>
                  <a:srgbClr val="a50021"/>
                </a:solidFill>
                <a:latin typeface="Arial"/>
              </a:rPr>
              <a:t>La madre de acuerdo con el padre indic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364500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lguien con tanta dificultad seria una carga para nosotros. Tenemos nuestra propia vida y no queremos una cosa como esa interfiera en nuestro modo de viv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reo que puedes volver a casa y olvidarte del as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l encontrará una manera de vivir por si mism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l hijo colgo el telefono y nunca mas supieron de 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39798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lgunos dias despues, los padres recibieron un llamado de la polícia, informando que su hijo habia muerto al caer de un edif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La polícia consideraba el accidente como suici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37162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Los padres, angustiados volaron a la ciudad don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e encontraba su hijo y fueron llevados a la morgue para identificar el cadaver.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llos lo reconocieron, y para su terror y espanto, descubrieron algo que desconocian:</a:t>
            </a:r>
            <a:br>
              <a:rPr sz="2800"/>
            </a:br>
            <a:r>
              <a:rPr b="1" lang="pt-BR" sz="2800" spc="-1" strike="noStrike">
                <a:solidFill>
                  <a:srgbClr val="a50021"/>
                </a:solidFill>
                <a:latin typeface="Arial"/>
              </a:rPr>
              <a:t>“SU HIJO SOLO TENIA UN BRAZO Y UNA PIERN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3546360"/>
            <a:ext cx="91440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Los padres de esta história son como nosotros, hallamos facil amar aquellos que son perfectos, bonitos, saludables, divertidos, pero no gustamos de las personas que nos incomodan o nos hacen sentir mal.</a:t>
            </a:r>
            <a:br>
              <a:rPr sz="2600"/>
            </a:b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Esta noche, antes de dormir, hagamos una oracion a Dios, para que nos de la fuerza que necesitamos para aceptar, sin restricciones, a las personas como ellas son, aunque sean diferentes a nosotr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4133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Cuando pedimos paciencia a Dio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Que nos de pacienc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15:45:47Z</dcterms:created>
  <dc:creator>Montagem: Otacílio (CV)</dc:creator>
  <dc:description>Texto de autoria desconhecida, entratanto foi adaptado e ampliado por J.Pomilio, em junho de 2.006.</dc:description>
  <dc:language>en-US</dc:language>
  <cp:lastModifiedBy>PC-03</cp:lastModifiedBy>
  <dcterms:modified xsi:type="dcterms:W3CDTF">2009-11-26T01:25:47Z</dcterms:modified>
  <cp:revision>42</cp:revision>
  <dc:subject>Uma experiência para nossa vida.</dc:subject>
  <dc:title>Aceite-me como eu sou!</dc:title>
</cp:coreProperties>
</file>