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wave_song_for_peace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58E-6CA5-4CE4-944B-B3CF6FB5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9C2-93B8-41CD-ACCA-948CB645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848-3CA5-43DA-A1DC-22F82C2E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E1D-DDB5-4924-87DB-050B9B56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333-1B6D-44E0-B55C-85824DDB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7E2-89C1-4361-8FBC-D42C29B6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005-C64D-4D20-BE12-3ACDA3E1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A7B-EBE1-4C74-8AAB-ED46093A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DF2-855C-4130-AB8F-9F236A3A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EC9-F882-484C-8903-9B772D16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74F-1E4D-41E6-BFCC-44B7EABE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E18-1891-4547-8AD6-C682A14B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E16B-5D32-4368-A1E4-91BFD976E6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wave_song_for_peac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987640" y="4005360"/>
            <a:ext cx="6156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00"/>
                </a:solidFill>
                <a:latin typeface="Edwardian Script ITC"/>
              </a:rPr>
              <a:t>Aceptame como soy!</a:t>
            </a:r>
            <a:br>
              <a:rPr sz="6600"/>
            </a:br>
            <a:r>
              <a:rPr b="1" lang="pt-BR" sz="5400" spc="-1" strike="noStrike">
                <a:solidFill>
                  <a:srgbClr val="000000"/>
                </a:solidFill>
                <a:latin typeface="Edwardian Script ITC"/>
              </a:rPr>
              <a:t>Una historia rea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BodyPart?ID=IQkP5q0Ncz_jEQxzTOg39A43NbOJR6MZ0cDvJ6Y9&amp;Act_View=1&amp;R_Folder=aW5ib3g=&amp;msgID=1971&amp;Body=6"/>
          <p:cNvPicPr/>
          <p:nvPr/>
        </p:nvPicPr>
        <p:blipFill>
          <a:blip r:embed="rId2"/>
          <a:stretch/>
        </p:blipFill>
        <p:spPr>
          <a:xfrm>
            <a:off x="179280" y="378936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p:transition advTm="12000">
    <p:zoom dir="out"/>
    <p:sndAc>
      <p:stSnd>
        <p:snd r:embed="rId3" name="wave_song_for_pea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3860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ios nos responde: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Paciencia es un subprodu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e las tribulaciones; ella no se puede dar, debe aprende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205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ios nos da bendiciones;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la felicidad depende de nosotr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4221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 pidamos a Dios que nos libre del dol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414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ufrir nos aleja del mundo y nos aproxima a D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418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idamos a Dios que nos ayude a AMAR los otros, como El nos a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4378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Dios nos dirá: ... Ahhhh, finalment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ntendiste la ide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40514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 amas a Dios, envia a tus amigos este mensaje, aunque no crean en Dios, ten la certeza que les ayudara muc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4437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Que Dios te bendig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419640" y="5445000"/>
            <a:ext cx="5545080" cy="1152720"/>
          </a:xfrm>
          <a:prstGeom prst="rect">
            <a:avLst/>
          </a:prstGeom>
          <a:solidFill>
            <a:srgbClr val="a50021">
              <a:alpha val="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50021"/>
                </a:solidFill>
                <a:latin typeface="Times New Roman"/>
              </a:rPr>
              <a:t>Texto:  Autor desconocido, adaptado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lang="pt-BR" sz="2400" spc="-1" strike="noStrike">
                <a:solidFill>
                  <a:srgbClr val="a50021"/>
                </a:solidFill>
                <a:latin typeface="Times New Roman"/>
              </a:rPr>
              <a:t>ampliado por Jua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36752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"Para el mundo puedes ser una persona, pero, para una persona vos pue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ser el mundo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38606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sta história, es la de un soldado que, finalmente volvia a casa, despues haber luchado em Viet N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l llamo a sus padres desde San Francisco: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300720" y="6381720"/>
            <a:ext cx="2519280" cy="409680"/>
          </a:xfrm>
          <a:prstGeom prst="rect">
            <a:avLst/>
          </a:prstGeom>
          <a:solidFill>
            <a:srgbClr val="cc66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Times New Roman"/>
              </a:rPr>
              <a:t>CLIQUE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3573360"/>
            <a:ext cx="914400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a50021"/>
                </a:solidFill>
                <a:latin typeface="Arial"/>
              </a:rPr>
              <a:t>- Mama, Papa, estoy volviendo a casa, pero antes quiero pedirles um favor. Tengo un amigo que me gustaria de llevarlo conmigo.</a:t>
            </a:r>
            <a:br>
              <a:rPr sz="2400"/>
            </a:b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- Claro, respondieron. Nos encantaria conocerlo tambien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500"/>
            </a:br>
            <a:r>
              <a:rPr b="1" lang="pt-BR" sz="2400" spc="-1" strike="noStrike">
                <a:solidFill>
                  <a:srgbClr val="a50021"/>
                </a:solidFill>
                <a:latin typeface="Arial"/>
              </a:rPr>
              <a:t>Hay algo que deben saber antes. El fue terriblemente herido en combate. Piso una mina y perdio un brazo y una pierna. Y ademas el no tiene ningun lugar donde 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3429000"/>
            <a:ext cx="9144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 lastima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!!! Sentimos mucho escuchar es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Talvez podamos ayudarlo a encontrar algun lugar para viv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a50021"/>
                </a:solidFill>
                <a:latin typeface="Arial"/>
              </a:rPr>
              <a:t>- No mama, yo quiero que el pueda vivir em nuestra casa!</a:t>
            </a:r>
            <a:br>
              <a:rPr sz="2600"/>
            </a:b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- Pero hijo, no sabes lo que estas pidiendo, no tienes idea de la gravedad del problema?</a:t>
            </a:r>
            <a:br>
              <a:rPr sz="2600"/>
            </a:br>
            <a:r>
              <a:rPr b="1" lang="pt-BR" sz="2600" spc="-1" strike="noStrike">
                <a:solidFill>
                  <a:srgbClr val="a50021"/>
                </a:solidFill>
                <a:latin typeface="Arial"/>
              </a:rPr>
              <a:t>La madre de acuerdo con el padre indic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36450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lguien con tanta dificultad seria una carga para nosotros. Tenemos nuestra propia vida y no queremos una cosa como esa interfiera en nuestro modo de viv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reo que puedes volver a casa y olvidarte del as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l encontrará una manera de vivir por si mism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l hijo colgo el telefono y nunca mas supieron de 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3979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gunos dias despues, los padres recibieron un llamado de la polícia, informando que su hijo habia muerto al caer de un edif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La polícia consideraba el accidente como suici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3716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os padres, angustiados volaron a la ciudad do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 encontraba su hijo y fueron llevados a la morgue para identificar el cadaver.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los lo reconocieron, y para su terror y espanto, descubrieron algo que desconocian:</a:t>
            </a:r>
            <a:br>
              <a:rPr sz="2800"/>
            </a:br>
            <a:r>
              <a:rPr b="1" lang="pt-BR" sz="2800" spc="-1" strike="noStrike">
                <a:solidFill>
                  <a:srgbClr val="a50021"/>
                </a:solidFill>
                <a:latin typeface="Arial"/>
              </a:rPr>
              <a:t>“SU HIJO SOLO TENIA UN BRAZO Y UNA PIERN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3546360"/>
            <a:ext cx="9144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Los padres de esta história son como nosotros, hallamos facil amar aquellos que son perfectos, bonitos, saludables, divertidos, pero no gustamos de las personas que nos incomodan o nos hacen sentir mal.</a:t>
            </a:r>
            <a:br>
              <a:rPr sz="2600"/>
            </a:b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Esta noche, antes de dormir, hagamos una oracion a Dios, para que nos de la fuerza que necesitamos para aceptar, sin restricciones, a las personas como ellas son, aunque sean diferentes a nosot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413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uando pedimos paciencia a Di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Que nos de pacienc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5:45:47Z</dcterms:created>
  <dc:creator>Montagem: Otacílio (CV)</dc:creator>
  <dc:description>Texto de autoria desconhecida, entratanto foi adaptado e ampliado por J.Pomilio, em junho de 2.006.</dc:description>
  <dc:language>en-US</dc:language>
  <cp:lastModifiedBy>PC-03</cp:lastModifiedBy>
  <dcterms:modified xsi:type="dcterms:W3CDTF">2009-11-26T01:25:47Z</dcterms:modified>
  <cp:revision>42</cp:revision>
  <dc:subject>Uma experiência para nossa vida.</dc:subject>
  <dc:title>Aceite-me como eu sou!</dc:title>
</cp:coreProperties>
</file>