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3.jpeg" ContentType="image/jpeg"/>
  <Override PartName="/ppt/media/image6.jpeg" ContentType="image/jpeg"/>
  <Override PartName="/ppt/media/image50.jpeg" ContentType="image/jpeg"/>
  <Override PartName="/ppt/media/image24.jpeg" ContentType="image/jpeg"/>
  <Override PartName="/ppt/media/image59.png" ContentType="image/png"/>
  <Override PartName="/ppt/media/image36.jpeg" ContentType="image/jpeg"/>
  <Override PartName="/ppt/media/image2.jpeg" ContentType="image/jpeg"/>
  <Override PartName="/ppt/media/image42.png" ContentType="image/png"/>
  <Override PartName="/ppt/media/image26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1.png" ContentType="image/png"/>
  <Override PartName="/ppt/media/image22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.jpeg" ContentType="image/jpeg"/>
  <Override PartName="/ppt/media/image62.jpeg" ContentType="image/jpeg"/>
  <Override PartName="/ppt/media/image32.jpeg" ContentType="image/jpeg"/>
  <Override PartName="/ppt/media/image13.jpeg" ContentType="image/jpeg"/>
  <Override PartName="/ppt/media/image4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6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54.png" ContentType="image/png"/>
  <Override PartName="/ppt/media/image51.jpeg" ContentType="image/jpeg"/>
  <Override PartName="/ppt/media/image7.jpeg" ContentType="image/jpeg"/>
  <Override PartName="/ppt/media/image38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yesterdayoncemorekarencarpenter.wav" ContentType="audio/x-wav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7.png" ContentType="image/png"/>
  <Override PartName="/ppt/media/image3.jpeg" ContentType="image/jpeg"/>
  <Override PartName="/ppt/media/image41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55.png" ContentType="image/png"/>
  <Override PartName="/ppt/media/image20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14AD-C1B7-485A-9398-DE2B67CAC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7AF9-526B-412D-94A1-217FC42E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C41E-8232-4404-B187-C27A1A2F7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17D3-B916-4FBF-93BF-142668812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D317-6B33-49E5-A42E-E8DE0FFD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228B-5A63-4CF2-8C25-26DA1AB5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96A2-BB07-45F3-8CD3-918D685B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6AB7-425A-4641-A5FB-1A2E7ADF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6598-C396-4E11-9E52-21C62C21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8415-B273-4466-A60E-9238F1A1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B8B3-B709-4096-B6D4-6628A3D7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41AC-B5F1-4094-A938-31563537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467B-184E-4CAC-B472-9209D505653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yesterdayoncemorekarencarpenter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58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28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009999"/>
                </a:solidFill>
                <a:latin typeface="Burnstown Dam"/>
              </a:rPr>
              <a:t>How many do</a:t>
            </a:r>
            <a:br>
              <a:rPr sz="6000"/>
            </a:br>
            <a:r>
              <a:rPr b="1" lang="it-IT" sz="6000" spc="-1" strike="noStrike">
                <a:solidFill>
                  <a:srgbClr val="009999"/>
                </a:solidFill>
                <a:latin typeface="Burnstown Dam"/>
              </a:rPr>
              <a:t>you recogniz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69120" y="6237360"/>
            <a:ext cx="418284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Please “Click” to Advance Sl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19480" y="189000"/>
            <a:ext cx="4505040" cy="6480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3033720" cy="4362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780000" y="404640"/>
            <a:ext cx="4995720" cy="5370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295600" y="5805360"/>
            <a:ext cx="19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onard Nim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 Mr. Spoc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Robert Wagner-ESA-002212.jpg"/>
          <p:cNvPicPr/>
          <p:nvPr/>
        </p:nvPicPr>
        <p:blipFill>
          <a:blip r:embed="rId1"/>
          <a:stretch/>
        </p:blipFill>
        <p:spPr>
          <a:xfrm>
            <a:off x="2484360" y="189000"/>
            <a:ext cx="431496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Robert Wagner-ESA-002212.jpg"/>
          <p:cNvPicPr/>
          <p:nvPr/>
        </p:nvPicPr>
        <p:blipFill>
          <a:blip r:embed="rId1"/>
          <a:stretch/>
        </p:blipFill>
        <p:spPr>
          <a:xfrm>
            <a:off x="539640" y="260280"/>
            <a:ext cx="2624400" cy="3940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348000" y="907920"/>
            <a:ext cx="5400720" cy="4675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934160" y="5805360"/>
            <a:ext cx="19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obert Wag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828800" y="189000"/>
            <a:ext cx="5240160" cy="6408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857320" cy="3495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40360" y="333360"/>
            <a:ext cx="3828960" cy="4924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719960" y="5373720"/>
            <a:ext cx="294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ana Riggs ( Emma Pee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705040" y="576360"/>
            <a:ext cx="3733920" cy="5705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836720" cy="2808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195640" y="549360"/>
            <a:ext cx="6732360" cy="51354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28320" y="5734080"/>
            <a:ext cx="29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lly Field (The Flying Nu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19400" y="189000"/>
            <a:ext cx="483552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324160" cy="3114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700360" y="765000"/>
            <a:ext cx="6264360" cy="4699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405680" y="5661000"/>
            <a:ext cx="21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ter Gr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Mision Impossi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9440" y="1023840"/>
            <a:ext cx="8385120" cy="4810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Paul Michael Glaser-2.jpg"/>
          <p:cNvPicPr/>
          <p:nvPr/>
        </p:nvPicPr>
        <p:blipFill>
          <a:blip r:embed="rId1"/>
          <a:stretch/>
        </p:blipFill>
        <p:spPr>
          <a:xfrm>
            <a:off x="2425680" y="189000"/>
            <a:ext cx="445608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067280" y="1628640"/>
            <a:ext cx="4808520" cy="3972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Paul Michael Glaser-2.jpg"/>
          <p:cNvPicPr/>
          <p:nvPr/>
        </p:nvPicPr>
        <p:blipFill>
          <a:blip r:embed="rId2"/>
          <a:stretch/>
        </p:blipFill>
        <p:spPr>
          <a:xfrm>
            <a:off x="826920" y="333360"/>
            <a:ext cx="3016440" cy="4384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648680" y="5734080"/>
            <a:ext cx="400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vid Soul and Paul Michael Glas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 Starsky and Hutch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614680" y="189000"/>
            <a:ext cx="442260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2600280" cy="3810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067280" y="1341360"/>
            <a:ext cx="4159080" cy="4608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130360" y="6040440"/>
            <a:ext cx="22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amie Som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The Bionic Wom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141640" y="189000"/>
            <a:ext cx="440676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2692440" cy="3959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924360" y="189000"/>
            <a:ext cx="4557600" cy="5632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222160" y="602136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nda C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Wonder Wom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992240" y="333360"/>
            <a:ext cx="4980240" cy="5975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2820960" cy="3384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635280" y="333360"/>
            <a:ext cx="4657680" cy="5715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222880" y="623736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irley T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411280" y="189000"/>
            <a:ext cx="4321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711680" y="189000"/>
            <a:ext cx="4148280" cy="5111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916360" y="551664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on Ada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Maxwell Smar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Agent 8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34084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4932360" cy="2830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995640" y="2916360"/>
            <a:ext cx="4932360" cy="3941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60000" y="6021360"/>
            <a:ext cx="267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am West &amp; Burt 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Batman &amp; Rob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417760" y="189000"/>
            <a:ext cx="4308480" cy="6480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2781360" cy="4181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356000" y="981000"/>
            <a:ext cx="4000680" cy="4762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654880" y="5805360"/>
            <a:ext cx="175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arbara Fel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Agent 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Lee Majors-SGG-065000.jpg"/>
          <p:cNvPicPr/>
          <p:nvPr/>
        </p:nvPicPr>
        <p:blipFill>
          <a:blip r:embed="rId1"/>
          <a:stretch/>
        </p:blipFill>
        <p:spPr>
          <a:xfrm>
            <a:off x="2266920" y="189000"/>
            <a:ext cx="486576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Lee Majors-SGG-065000.jpg"/>
          <p:cNvPicPr/>
          <p:nvPr/>
        </p:nvPicPr>
        <p:blipFill>
          <a:blip r:embed="rId1"/>
          <a:stretch/>
        </p:blipFill>
        <p:spPr>
          <a:xfrm>
            <a:off x="468360" y="333360"/>
            <a:ext cx="3038400" cy="4048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708360" y="1484280"/>
            <a:ext cx="5143680" cy="3905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624200" y="5465880"/>
            <a:ext cx="207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e Maj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Barbara Eden-SGG-042293.jpg"/>
          <p:cNvPicPr/>
          <p:nvPr/>
        </p:nvPicPr>
        <p:blipFill>
          <a:blip r:embed="rId1"/>
          <a:stretch/>
        </p:blipFill>
        <p:spPr>
          <a:xfrm>
            <a:off x="2386080" y="189000"/>
            <a:ext cx="4513320" cy="6480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Barbara Eden-SGG-042293.jpg"/>
          <p:cNvPicPr/>
          <p:nvPr/>
        </p:nvPicPr>
        <p:blipFill>
          <a:blip r:embed="rId1"/>
          <a:stretch/>
        </p:blipFill>
        <p:spPr>
          <a:xfrm>
            <a:off x="611280" y="404640"/>
            <a:ext cx="2819160" cy="4048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140360" y="260280"/>
            <a:ext cx="4714560" cy="6429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459080" y="58975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arbara 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Larry Hagman-ALO-000424.jpg"/>
          <p:cNvPicPr/>
          <p:nvPr/>
        </p:nvPicPr>
        <p:blipFill>
          <a:blip r:embed="rId1"/>
          <a:stretch/>
        </p:blipFill>
        <p:spPr>
          <a:xfrm>
            <a:off x="2004840" y="189000"/>
            <a:ext cx="5232600" cy="6480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Larry Hagman-ALO-000424.jpg"/>
          <p:cNvPicPr/>
          <p:nvPr/>
        </p:nvPicPr>
        <p:blipFill>
          <a:blip r:embed="rId1"/>
          <a:stretch/>
        </p:blipFill>
        <p:spPr>
          <a:xfrm>
            <a:off x="539640" y="333360"/>
            <a:ext cx="3095640" cy="3835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356000" y="549360"/>
            <a:ext cx="4496040" cy="5886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528560" y="5608800"/>
            <a:ext cx="20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rry Hag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92360" y="549360"/>
            <a:ext cx="54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905200" cy="2905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780000" y="260280"/>
            <a:ext cx="4452840" cy="6337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818000" y="5608800"/>
            <a:ext cx="133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x W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 Alf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79640" y="765000"/>
            <a:ext cx="5199120" cy="5256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87280" y="162000"/>
            <a:ext cx="676944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780000" y="549360"/>
            <a:ext cx="5143320" cy="5267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448080" cy="33274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54640" y="5877000"/>
            <a:ext cx="20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rry and M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The 3 Stoo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394000" y="189000"/>
            <a:ext cx="4356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40000" cy="3481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924360" y="260280"/>
            <a:ext cx="4395600" cy="5472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914360" y="5753160"/>
            <a:ext cx="23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y Walst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My Favorite Marti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95360" y="189000"/>
            <a:ext cx="45532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2087640" cy="2971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419640" y="189000"/>
            <a:ext cx="4495680" cy="56768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998160" y="5950080"/>
            <a:ext cx="24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ohn As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The Addams Fami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35000" y="189000"/>
            <a:ext cx="5274000" cy="6480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386080" y="743040"/>
            <a:ext cx="437184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772000" cy="3406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851280" y="404640"/>
            <a:ext cx="4286160" cy="5448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619880" y="5877000"/>
            <a:ext cx="19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obert Vaugh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 Napoleon Solo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16000" y="235080"/>
            <a:ext cx="698508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038400" cy="2808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492360" y="260280"/>
            <a:ext cx="4492800" cy="5616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437360" y="5877000"/>
            <a:ext cx="190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vid Mc Cal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 Illia Kuryaki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517920" cy="3556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40360" y="549360"/>
            <a:ext cx="4457520" cy="5495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62520" y="616572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ess Parker ( Daniel Boon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64058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3525840" cy="22543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700360" y="3284640"/>
            <a:ext cx="2735280" cy="2035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867280" y="2708280"/>
            <a:ext cx="2132280" cy="2665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639600" y="5445000"/>
            <a:ext cx="366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lly Mumy and Angela Cartw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Will and Penny Robins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Lost in Sp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706840" y="189000"/>
            <a:ext cx="36874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1908360" cy="33163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859280" y="260280"/>
            <a:ext cx="2255760" cy="5184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645800" y="5516640"/>
            <a:ext cx="20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vid Hed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 Lee Cran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228760" y="260280"/>
            <a:ext cx="47386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000520" cy="2705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132000" y="981000"/>
            <a:ext cx="4270680" cy="4464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282480" y="5516640"/>
            <a:ext cx="42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ulie Andrews and Christopher Pl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76400" y="958680"/>
            <a:ext cx="3391200" cy="49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187280" y="476280"/>
            <a:ext cx="2436840" cy="3549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788000" y="836640"/>
            <a:ext cx="2857320" cy="4680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934160" y="5589720"/>
            <a:ext cx="255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ck Van D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 Bert ) (Mary Poppin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4869000" cy="3651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076720" y="1700280"/>
            <a:ext cx="374328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003640" y="333360"/>
            <a:ext cx="2700360" cy="2282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332000" y="333360"/>
            <a:ext cx="3024000" cy="2266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2340000" y="2781360"/>
            <a:ext cx="4203720" cy="3822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663600" y="4221000"/>
            <a:ext cx="223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aron G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d Tine D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Cagney and Lac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5280" y="290520"/>
            <a:ext cx="8353440" cy="62769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Peter Falk-MAJ-000243.jpg"/>
          <p:cNvPicPr/>
          <p:nvPr/>
        </p:nvPicPr>
        <p:blipFill>
          <a:blip r:embed="rId1"/>
          <a:stretch/>
        </p:blipFill>
        <p:spPr>
          <a:xfrm>
            <a:off x="2124000" y="260280"/>
            <a:ext cx="50990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Peter Falk-MAJ-000243.jpg"/>
          <p:cNvPicPr/>
          <p:nvPr/>
        </p:nvPicPr>
        <p:blipFill>
          <a:blip r:embed="rId1"/>
          <a:stretch/>
        </p:blipFill>
        <p:spPr>
          <a:xfrm>
            <a:off x="250920" y="333360"/>
            <a:ext cx="2825640" cy="3511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203640" y="692280"/>
            <a:ext cx="5722920" cy="5140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294520" y="5877000"/>
            <a:ext cx="12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ter Fa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Columb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332000" y="2492280"/>
            <a:ext cx="712764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ff"/>
                </a:solidFill>
                <a:latin typeface="Arial"/>
              </a:rPr>
              <a:t>Hopefully, we will ALL get there 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64000" y="5877000"/>
            <a:ext cx="324036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Please “Click” to end 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105440" cy="308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427640" y="1989000"/>
            <a:ext cx="4537080" cy="3479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081760" y="5661000"/>
            <a:ext cx="376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rne Greeen and Michael La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Ben and Joe Cartwright)(Bonanz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35280" y="189000"/>
            <a:ext cx="531468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956040" cy="4824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859280" y="189000"/>
            <a:ext cx="3524400" cy="5616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152680" y="5805360"/>
            <a:ext cx="338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arry Mo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Philippe Gerard) (The Fugit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7T20:20:58Z</dcterms:created>
  <dc:creator/>
  <dc:description/>
  <dc:language>en-US</dc:language>
  <cp:lastModifiedBy/>
  <dcterms:modified xsi:type="dcterms:W3CDTF">2009-01-28T13:49:23Z</dcterms:modified>
  <cp:revision>20</cp:revision>
  <dc:subject/>
  <dc:title> </dc:title>
</cp:coreProperties>
</file>