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6.jpeg" ContentType="image/jpeg"/>
  <Override PartName="/ppt/media/image50.jpeg" ContentType="image/jpeg"/>
  <Override PartName="/ppt/media/image24.jpeg" ContentType="image/jpeg"/>
  <Override PartName="/ppt/media/image59.png" ContentType="image/png"/>
  <Override PartName="/ppt/media/image36.jpeg" ContentType="image/jpeg"/>
  <Override PartName="/ppt/media/image2.jpeg" ContentType="image/jpeg"/>
  <Override PartName="/ppt/media/image42.png" ContentType="image/png"/>
  <Override PartName="/ppt/media/image26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2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.jpeg" ContentType="image/jpeg"/>
  <Override PartName="/ppt/media/image62.jpeg" ContentType="image/jpeg"/>
  <Override PartName="/ppt/media/image32.jpeg" ContentType="image/jpeg"/>
  <Override PartName="/ppt/media/image13.jpeg" ContentType="image/jpeg"/>
  <Override PartName="/ppt/media/image4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yesterdayoncemorekarencarpenter.wav" ContentType="audio/x-wav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DF1-8851-4D6C-A656-25D2FCCC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2E2-7383-4BFC-816A-2EA560E0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C67-2F69-4C3D-861F-616D0A19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842-363B-463C-BD28-5A1A553D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E87-EE46-4B58-B19E-7F44E597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868-EBFA-4750-8DE5-01AC3EA2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146-1E6E-4DE4-AF35-5A8D06F3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5F4-C97F-4754-A53D-4F9E3021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FFB-AAA1-477C-BE98-0C3E5A4A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7D1-681D-4799-88E3-46D6F4F5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F2F-8736-4919-8B34-577B15BB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038-D094-4954-8E22-F433AE8A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247B-1067-4EC2-9FF3-EE9D9A98492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yesterdayoncemorekarencarpenter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8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9999"/>
                </a:solidFill>
                <a:latin typeface="Burnstown Dam"/>
              </a:rPr>
              <a:t>How many do</a:t>
            </a:r>
            <a:br>
              <a:rPr sz="6000"/>
            </a:br>
            <a:r>
              <a:rPr b="1" lang="it-IT" sz="6000" spc="-1" strike="noStrike">
                <a:solidFill>
                  <a:srgbClr val="009999"/>
                </a:solidFill>
                <a:latin typeface="Burnstown Dam"/>
              </a:rPr>
              <a:t>you recogniz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69120" y="6237360"/>
            <a:ext cx="41828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Please “Click” to Advanc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19480" y="189000"/>
            <a:ext cx="4505040" cy="64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033720" cy="436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404640"/>
            <a:ext cx="4995720" cy="5370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95600" y="580536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 Nim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Mr. Spoc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Robert Wagner-ESA-002212.jpg"/>
          <p:cNvPicPr/>
          <p:nvPr/>
        </p:nvPicPr>
        <p:blipFill>
          <a:blip r:embed="rId1"/>
          <a:stretch/>
        </p:blipFill>
        <p:spPr>
          <a:xfrm>
            <a:off x="2484360" y="189000"/>
            <a:ext cx="43149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Robert Wagner-ESA-002212.jpg"/>
          <p:cNvPicPr/>
          <p:nvPr/>
        </p:nvPicPr>
        <p:blipFill>
          <a:blip r:embed="rId1"/>
          <a:stretch/>
        </p:blipFill>
        <p:spPr>
          <a:xfrm>
            <a:off x="539640" y="260280"/>
            <a:ext cx="2624400" cy="394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48000" y="907920"/>
            <a:ext cx="5400720" cy="467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34160" y="580536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ert Wa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89000"/>
            <a:ext cx="5240160" cy="640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857320" cy="349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3828960" cy="492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9960" y="537372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na Riggs ( Emma Pee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05040" y="576360"/>
            <a:ext cx="3733920" cy="570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3672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6732360" cy="5135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8320" y="57340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ly Field (The Flying N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19400" y="189000"/>
            <a:ext cx="483552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24160" cy="311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700360" y="76500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05680" y="566100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ter G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ision Im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9440" y="1023840"/>
            <a:ext cx="8385120" cy="4810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Paul Michael Glaser-2.jpg"/>
          <p:cNvPicPr/>
          <p:nvPr/>
        </p:nvPicPr>
        <p:blipFill>
          <a:blip r:embed="rId1"/>
          <a:stretch/>
        </p:blipFill>
        <p:spPr>
          <a:xfrm>
            <a:off x="2425680" y="189000"/>
            <a:ext cx="44560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808520" cy="3972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Paul Michael Glaser-2.jpg"/>
          <p:cNvPicPr/>
          <p:nvPr/>
        </p:nvPicPr>
        <p:blipFill>
          <a:blip r:embed="rId2"/>
          <a:stretch/>
        </p:blipFill>
        <p:spPr>
          <a:xfrm>
            <a:off x="826920" y="333360"/>
            <a:ext cx="3016440" cy="4384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48680" y="5734080"/>
            <a:ext cx="40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Soul and Paul Michael Glas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Starsky and Hutch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14680" y="189000"/>
            <a:ext cx="44226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60028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4159080" cy="460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30360" y="6040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mie So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Bionic Wo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41640" y="189000"/>
            <a:ext cx="44067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69244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24360" y="189000"/>
            <a:ext cx="4557600" cy="563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22160" y="602136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nda C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Wonder Wo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92240" y="333360"/>
            <a:ext cx="498024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820960" cy="338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35280" y="333360"/>
            <a:ext cx="465768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22880" y="6237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irley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321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11680" y="189000"/>
            <a:ext cx="4148280" cy="511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5516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on Ad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Maxwell Smar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Agent 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4084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932360" cy="2830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95640" y="2916360"/>
            <a:ext cx="4932360" cy="394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60000" y="602136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am West &amp; Burt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atman &amp; Rob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7760" y="189000"/>
            <a:ext cx="4308480" cy="648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781360" cy="4181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56000" y="981000"/>
            <a:ext cx="4000680" cy="476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654880" y="580536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bara Fel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Agent 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Lee Majors-SGG-065000.jpg"/>
          <p:cNvPicPr/>
          <p:nvPr/>
        </p:nvPicPr>
        <p:blipFill>
          <a:blip r:embed="rId1"/>
          <a:stretch/>
        </p:blipFill>
        <p:spPr>
          <a:xfrm>
            <a:off x="2266920" y="189000"/>
            <a:ext cx="48657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Lee Majors-SGG-065000.jpg"/>
          <p:cNvPicPr/>
          <p:nvPr/>
        </p:nvPicPr>
        <p:blipFill>
          <a:blip r:embed="rId1"/>
          <a:stretch/>
        </p:blipFill>
        <p:spPr>
          <a:xfrm>
            <a:off x="468360" y="333360"/>
            <a:ext cx="3038400" cy="4048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08360" y="1484280"/>
            <a:ext cx="5143680" cy="3905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24200" y="5465880"/>
            <a:ext cx="20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e Maj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Barbara Eden-SGG-042293.jpg"/>
          <p:cNvPicPr/>
          <p:nvPr/>
        </p:nvPicPr>
        <p:blipFill>
          <a:blip r:embed="rId1"/>
          <a:stretch/>
        </p:blipFill>
        <p:spPr>
          <a:xfrm>
            <a:off x="2386080" y="189000"/>
            <a:ext cx="451332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Barbara Eden-SGG-042293.jpg"/>
          <p:cNvPicPr/>
          <p:nvPr/>
        </p:nvPicPr>
        <p:blipFill>
          <a:blip r:embed="rId1"/>
          <a:stretch/>
        </p:blipFill>
        <p:spPr>
          <a:xfrm>
            <a:off x="611280" y="404640"/>
            <a:ext cx="2819160" cy="404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714560" cy="6429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59080" y="5897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bara 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Larry Hagman-ALO-000424.jpg"/>
          <p:cNvPicPr/>
          <p:nvPr/>
        </p:nvPicPr>
        <p:blipFill>
          <a:blip r:embed="rId1"/>
          <a:stretch/>
        </p:blipFill>
        <p:spPr>
          <a:xfrm>
            <a:off x="2004840" y="189000"/>
            <a:ext cx="5232600" cy="6480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Larry Hagman-ALO-000424.jpg"/>
          <p:cNvPicPr/>
          <p:nvPr/>
        </p:nvPicPr>
        <p:blipFill>
          <a:blip r:embed="rId1"/>
          <a:stretch/>
        </p:blipFill>
        <p:spPr>
          <a:xfrm>
            <a:off x="539640" y="333360"/>
            <a:ext cx="3095640" cy="3835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56000" y="549360"/>
            <a:ext cx="4496040" cy="588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8560" y="560880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ry Hag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90520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80000" y="260280"/>
            <a:ext cx="4452840" cy="6337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18000" y="560880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x 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Al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51991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162000"/>
            <a:ext cx="67694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80000" y="549360"/>
            <a:ext cx="5143320" cy="526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448080" cy="3327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54640" y="587700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ry and M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3 Stoo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94000" y="189000"/>
            <a:ext cx="435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40000" cy="34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4395600" cy="5472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914360" y="575316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y Wals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y Favorite Mart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95360" y="189000"/>
            <a:ext cx="4553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208764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4495680" cy="5676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98160" y="595008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hn A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Addams Fami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35000" y="189000"/>
            <a:ext cx="5274000" cy="64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386080" y="743040"/>
            <a:ext cx="43718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772000" cy="34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4286160" cy="5448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19880" y="5877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ert Vaug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Napoleon Sol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235080"/>
            <a:ext cx="6985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03840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492360" y="260280"/>
            <a:ext cx="4492800" cy="5616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37360" y="587700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Mc Ca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Illia Kuryak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51792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457520" cy="549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62520" y="616572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ss Parker ( Daniel Boo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05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525840" cy="2254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2735280" cy="203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132280" cy="2665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39600" y="5445000"/>
            <a:ext cx="36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y Mumy and Angela Cart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Will and Penny Robin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ost in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06840" y="189000"/>
            <a:ext cx="3687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1908360" cy="3316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225576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5800" y="551664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He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Lee Cra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28760" y="260280"/>
            <a:ext cx="47386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000520" cy="2705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32000" y="981000"/>
            <a:ext cx="4270680" cy="446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82480" y="551664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e Andrews and Christopher Pl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76400" y="958680"/>
            <a:ext cx="339120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2436840" cy="354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857320" cy="468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934160" y="558972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k Van D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Bert ) (Mary Poppi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869000" cy="3651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74328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2700360" cy="2282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340000" y="2781360"/>
            <a:ext cx="4203720" cy="3822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663600" y="422100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aron G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Tine D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agney and Lac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290520"/>
            <a:ext cx="8353440" cy="6276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Peter Falk-MAJ-000243.jpg"/>
          <p:cNvPicPr/>
          <p:nvPr/>
        </p:nvPicPr>
        <p:blipFill>
          <a:blip r:embed="rId1"/>
          <a:stretch/>
        </p:blipFill>
        <p:spPr>
          <a:xfrm>
            <a:off x="2124000" y="260280"/>
            <a:ext cx="50990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Peter Falk-MAJ-000243.jpg"/>
          <p:cNvPicPr/>
          <p:nvPr/>
        </p:nvPicPr>
        <p:blipFill>
          <a:blip r:embed="rId1"/>
          <a:stretch/>
        </p:blipFill>
        <p:spPr>
          <a:xfrm>
            <a:off x="250920" y="333360"/>
            <a:ext cx="2825640" cy="351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03640" y="692280"/>
            <a:ext cx="5722920" cy="5140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94520" y="58770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ter F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lu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32000" y="2492280"/>
            <a:ext cx="7127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Arial"/>
              </a:rPr>
              <a:t>Hopefully, we will ALL get there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5877000"/>
            <a:ext cx="3240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lease “Click” to en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30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5370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81760" y="5661000"/>
            <a:ext cx="37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rne Greeen and Michael La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en and Joe Cartwright)(Bonan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3146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56040" cy="48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3524400" cy="5616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52680" y="580536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ry M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hilippe Gerard) (The Fugi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20:20:58Z</dcterms:created>
  <dc:creator/>
  <dc:description/>
  <dc:language>en-US</dc:language>
  <cp:lastModifiedBy/>
  <dcterms:modified xsi:type="dcterms:W3CDTF">2009-01-28T13:49:23Z</dcterms:modified>
  <cp:revision>20</cp:revision>
  <dc:subject/>
  <dc:title> </dc:title>
</cp:coreProperties>
</file>