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3AF-7A82-4029-BA6D-A4C34519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FA9-F20B-45C4-878C-C93D344D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951-6B46-41A9-99A3-D52C55BF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EF0-C665-41F0-B04E-7EDC6A98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EA6-909A-4A87-8EBA-4CDCB2F1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2B3-D749-4CCA-A60C-4756336F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A9C-FE9A-4DCF-95F9-212E81D9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11C-B5E9-4B88-940E-3D6B9171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8D1-D7AA-46D3-A322-02CACA35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B56-8E99-4F62-B2E8-2569B5BA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07F-52C2-4B62-8E66-EF2E954B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29B-FC36-4A97-8420-741900C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33B9-0808-4D65-B81B-FA3B7F7F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346040"/>
            <a:ext cx="85327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821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86821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80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2:29:01Z</dcterms:created>
  <dc:creator>Faculdades Integradas Fafibe</dc:creator>
  <dc:description/>
  <dc:language>en-US</dc:language>
  <cp:lastModifiedBy>Faculdades Integradas Fafibe</cp:lastModifiedBy>
  <dcterms:modified xsi:type="dcterms:W3CDTF">2005-08-20T12:29:10Z</dcterms:modified>
  <cp:revision>1</cp:revision>
  <dc:subject/>
  <dc:title>Slide 1</dc:title>
</cp:coreProperties>
</file>