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03E-35D4-4C5A-8321-9C534169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0B3-A96F-4C19-ACC7-9AA0F924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ACB-BB4C-4953-A66F-8B5C82A2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950-7676-4976-BB77-F56DE37F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8DB-7841-4C1B-9581-7B6D9483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F33-C1B3-4E20-AB54-82E1DAE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D0B-3C63-48E1-8B21-5CE211EE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BEC-4BFC-4921-8239-7E4A23EE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B74-386B-439E-9D13-C03BCF66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427-BC3D-4917-A2BA-BC7829D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488-1056-4405-88CA-E1929841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A1E-D8A6-42BB-87DD-25B77772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1CA-97FF-488A-8A1F-8905DB8B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346040"/>
            <a:ext cx="853272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821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86821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80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2:29:01Z</dcterms:created>
  <dc:creator>Faculdades Integradas Fafibe</dc:creator>
  <dc:description/>
  <dc:language>en-US</dc:language>
  <cp:lastModifiedBy>Faculdades Integradas Fafibe</cp:lastModifiedBy>
  <dcterms:modified xsi:type="dcterms:W3CDTF">2005-08-20T12:29:10Z</dcterms:modified>
  <cp:revision>1</cp:revision>
  <dc:subject/>
  <dc:title>Slide 1</dc:title>
</cp:coreProperties>
</file>