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2BC-A6DE-4CBA-A24E-1EB73737E07F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3EAF-EEFD-4BAE-9891-CAD6F6676CDC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63B2-B12A-44D0-BF50-DAC9F5FF827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3E4B-B0E1-4301-9FD3-054CBDE09901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DE9-F870-4592-B903-05C72F57E922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E1DD-45E8-4B3B-870A-904154F3BD23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146C-ED5A-4971-83C7-503DDDE5EC46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1EE-E41B-4431-8A00-F52D2DB0A444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57E-B150-4342-83E9-B7C687955240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6A13-C947-4953-9C4E-FA91453C9600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517-C842-422D-8659-83F8971FE3B5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092-CEAA-497F-B7F4-0716A1A8F4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4B7-734F-4BD1-9BBE-EB14F055D1EE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605F-0968-4E1B-A7C8-DFB0F11218DC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8170-9054-45A5-BDC0-43C5DBAB2620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F0A-250D-441D-80CA-D6AE54B6EEFE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BCDA-5299-4C2B-8A2B-C47202F7B54D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EE68-81C7-4689-846F-5929F74C68F8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0F85-3EB5-4C71-BC82-F4878AD64C9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F6FD-EF3B-4C51-9675-294129C1620A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BF8-5C6A-4BFC-80D8-4A555FEF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C1A-06D3-416B-A38A-4BCE648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15C-EDF3-4C7B-B1E8-71827065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D19-1CB5-48EA-9C08-49BB269F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57A-5323-41C2-8476-B722577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B9E-ADE4-4146-B45F-7EC4ABD8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3B0-752F-4519-A076-8B7FFED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19D-0C1C-47AC-8F97-3E77829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D82-F62C-4837-A704-A469649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32E-404F-4F8E-B02C-63BB438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2D8-8F17-42C4-9774-C541D08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34D-F7D4-4DDB-9D7A-47464EC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0C93-E848-4BF1-847B-305C9DF8F32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28800" y="15717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1" lang="es-PE" sz="7200" spc="-1" strike="noStrike">
                <a:solidFill>
                  <a:srgbClr val="ff0000"/>
                </a:solidFill>
                <a:latin typeface="Arial"/>
              </a:rPr>
              <a:t>Milagro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de la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200" spc="-1" strike="noStrike">
                <a:solidFill>
                  <a:srgbClr val="ff0000"/>
                </a:solidFill>
                <a:latin typeface="Arial"/>
              </a:rPr>
              <a:t>Edición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Digit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00"/>
                </a:solidFill>
                <a:latin typeface="Arial"/>
              </a:rPr>
              <a:t>(PHOTOSHOP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39624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blonde3_01-down[1]"/>
          <p:cNvPicPr/>
          <p:nvPr/>
        </p:nvPicPr>
        <p:blipFill>
          <a:blip r:embed="rId1"/>
          <a:stretch/>
        </p:blipFill>
        <p:spPr>
          <a:xfrm>
            <a:off x="500040" y="78588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blonde3_01[1]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735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43620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180120" y="12384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londe2_01-down[1]"/>
          <p:cNvPicPr/>
          <p:nvPr/>
        </p:nvPicPr>
        <p:blipFill>
          <a:blip r:embed="rId1"/>
          <a:stretch/>
        </p:blipFill>
        <p:spPr>
          <a:xfrm>
            <a:off x="71424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blonde2_01[1]"/>
          <p:cNvPicPr/>
          <p:nvPr/>
        </p:nvPicPr>
        <p:blipFill>
          <a:blip r:embed="rId1"/>
          <a:stretch/>
        </p:blipFill>
        <p:spPr>
          <a:xfrm>
            <a:off x="7588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6181920" y="12384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558072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londe1_01-down[1]"/>
          <p:cNvPicPr/>
          <p:nvPr/>
        </p:nvPicPr>
        <p:blipFill>
          <a:blip r:embed="rId1"/>
          <a:stretch/>
        </p:blipFill>
        <p:spPr>
          <a:xfrm>
            <a:off x="770040" y="0"/>
            <a:ext cx="451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londe1_01[1]"/>
          <p:cNvPicPr/>
          <p:nvPr/>
        </p:nvPicPr>
        <p:blipFill>
          <a:blip r:embed="rId1"/>
          <a:stretch/>
        </p:blipFill>
        <p:spPr>
          <a:xfrm>
            <a:off x="770040" y="0"/>
            <a:ext cx="451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57784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043400" y="658800"/>
            <a:ext cx="17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ropped%20burro%202"/>
          <p:cNvPicPr/>
          <p:nvPr/>
        </p:nvPicPr>
        <p:blipFill>
          <a:blip r:embed="rId1"/>
          <a:stretch/>
        </p:blipFill>
        <p:spPr>
          <a:xfrm>
            <a:off x="1711440" y="21420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013920" y="712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00"/>
                </a:solidFill>
                <a:latin typeface="Arial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Alan_Grasilla"/>
          <p:cNvPicPr/>
          <p:nvPr/>
        </p:nvPicPr>
        <p:blipFill>
          <a:blip r:embed="rId1"/>
          <a:stretch/>
        </p:blipFill>
        <p:spPr>
          <a:xfrm>
            <a:off x="1071720" y="1000080"/>
            <a:ext cx="68403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acaquinho3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4200" y="571680"/>
            <a:ext cx="564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000000"/>
                </a:solidFill>
                <a:latin typeface="Arial"/>
              </a:rPr>
              <a:t>Sonríe!  Es fáci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20062200">
            <a:off x="6130800" y="540360"/>
            <a:ext cx="33717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Envíalo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tus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Todos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necesitamos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sonreír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poco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image009"/>
          <p:cNvPicPr/>
          <p:nvPr/>
        </p:nvPicPr>
        <p:blipFill>
          <a:blip r:embed="rId1"/>
          <a:stretch/>
        </p:blipFill>
        <p:spPr>
          <a:xfrm>
            <a:off x="108000" y="285840"/>
            <a:ext cx="8964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ikini4_01-down[1]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467520" y="7128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igla def ver 8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ikini4_01[1]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66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72204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8251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ini3_01-down[1]"/>
          <p:cNvPicPr/>
          <p:nvPr/>
        </p:nvPicPr>
        <p:blipFill>
          <a:blip r:embed="rId1"/>
          <a:stretch/>
        </p:blipFill>
        <p:spPr>
          <a:xfrm>
            <a:off x="104760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bikini3_01[1]"/>
          <p:cNvPicPr/>
          <p:nvPr/>
        </p:nvPicPr>
        <p:blipFill>
          <a:blip r:embed="rId1"/>
          <a:stretch/>
        </p:blipFill>
        <p:spPr>
          <a:xfrm>
            <a:off x="97632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93676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kini1_01-down[1]"/>
          <p:cNvPicPr/>
          <p:nvPr/>
        </p:nvPicPr>
        <p:blipFill>
          <a:blip r:embed="rId1"/>
          <a:stretch/>
        </p:blipFill>
        <p:spPr>
          <a:xfrm>
            <a:off x="896760" y="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2535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bikini1_01[1]"/>
          <p:cNvPicPr/>
          <p:nvPr/>
        </p:nvPicPr>
        <p:blipFill>
          <a:blip r:embed="rId1"/>
          <a:stretch/>
        </p:blipFill>
        <p:spPr>
          <a:xfrm>
            <a:off x="8254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79320" y="11592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bikini2_01-down[1]"/>
          <p:cNvPicPr/>
          <p:nvPr/>
        </p:nvPicPr>
        <p:blipFill>
          <a:blip r:embed="rId1"/>
          <a:stretch/>
        </p:blipFill>
        <p:spPr>
          <a:xfrm>
            <a:off x="92880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6775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bikini2_01[1]"/>
          <p:cNvPicPr/>
          <p:nvPr/>
        </p:nvPicPr>
        <p:blipFill>
          <a:blip r:embed="rId1"/>
          <a:stretch/>
        </p:blipFill>
        <p:spPr>
          <a:xfrm>
            <a:off x="941400" y="0"/>
            <a:ext cx="3773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67468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56:11Z</dcterms:created>
  <dc:creator>LINCE</dc:creator>
  <dc:description/>
  <dc:language>en-US</dc:language>
  <cp:lastModifiedBy>Luis Davila</cp:lastModifiedBy>
  <dcterms:modified xsi:type="dcterms:W3CDTF">2009-12-15T23:34:35Z</dcterms:modified>
  <cp:revision>9</cp:revision>
  <dc:subject/>
  <dc:title>PHOTOSHOP</dc:title>
</cp:coreProperties>
</file>