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sorriso_wave.wav" ContentType="audio/x-wav"/>
  <Override PartName="/ppt/media/image8.jpeg" ContentType="image/jpeg"/>
  <Override PartName="/ppt/media/image10.jpeg" ContentType="image/jpeg"/>
  <Override PartName="/ppt/media/image12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3FA2-C5CB-4700-805B-48A3426C31AB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DDE0-544E-450E-A8D5-7FBF509B14E9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87C6-38C1-4068-8EBA-1AC1EA5202BB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450C-B992-4730-8948-14350D41A76A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F559-0FDF-4CA6-AA56-9D7587A103DF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8D44-82DF-4F38-94EB-0FCD7C643512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124B-5278-4977-BCAE-C374BA3F84B7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2E46-30F7-480B-B99A-C4AC40724D1B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C0A0-E08D-4F9A-944E-0C7F12ED6E82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8712-8E5E-4B0A-AC2C-750B55F35D8D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CB80-D1F9-4CD5-9683-6D1D86F2BAE1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92E3-A012-4899-AF38-AC482AF259C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764E-57EE-49DB-8B8D-281C862F262D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C963-5D8C-4F50-8864-3EEE2B38CE44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5041-EE2F-4D8A-B344-02F7FB74755E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7E4D-8E01-44FC-81FD-74607E9FE378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65F5-5020-4E65-B29A-9F534B0C0594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02F5-EC51-415A-B289-C3FD65B38CD9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779F-2226-4C68-8F3D-23BD814D639E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AE3C-C07B-494D-880F-EB039492E7C6}" type="slidenum">
              <a:rPr b="0" lang="es-P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A46-BAD0-4DC5-B395-C7D2396E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EF4-8CCA-4FB1-ADF5-58A1E1C3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8450-7D86-492E-A83F-80ED888D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4897-F26F-4331-A730-B18D2C56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3028-2AEA-4FCD-8773-67201494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B777-8F31-41D4-B46C-794B6886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2266-8D51-495D-A616-88742422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2FF9-0FFE-4223-803E-64085697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3D9A-C869-4318-8A89-A404178C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8B06-EF29-4DF3-BC22-03572E9C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E715-4A03-45B7-A0FC-AE2ABA90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43E8-6916-41DA-BE8B-F8B9A18B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7868-A1D2-4956-BAC3-437FBC82471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sorriso_wav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928800" y="1571760"/>
            <a:ext cx="73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0000"/>
                </a:solidFill>
                <a:latin typeface="Arial"/>
              </a:rPr>
              <a:t>El </a:t>
            </a:r>
            <a:r>
              <a:rPr b="1" lang="es-PE" sz="7200" spc="-1" strike="noStrike">
                <a:solidFill>
                  <a:srgbClr val="ff0000"/>
                </a:solidFill>
                <a:latin typeface="Arial"/>
              </a:rPr>
              <a:t>Milagro</a:t>
            </a:r>
            <a:r>
              <a:rPr b="1" lang="fr-FR" sz="7200" spc="-1" strike="noStrike">
                <a:solidFill>
                  <a:srgbClr val="ff0000"/>
                </a:solidFill>
                <a:latin typeface="Arial"/>
              </a:rPr>
              <a:t> de la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200" spc="-1" strike="noStrike">
                <a:solidFill>
                  <a:srgbClr val="ff0000"/>
                </a:solidFill>
                <a:latin typeface="Arial"/>
              </a:rPr>
              <a:t>Edición</a:t>
            </a:r>
            <a:r>
              <a:rPr b="1" lang="fr-FR" sz="7200" spc="-1" strike="noStrike">
                <a:solidFill>
                  <a:srgbClr val="ff0000"/>
                </a:solidFill>
                <a:latin typeface="Arial"/>
              </a:rPr>
              <a:t> Digit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00"/>
                </a:solidFill>
                <a:latin typeface="Arial"/>
              </a:rPr>
              <a:t>(PHOTOSHOP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396240" y="123840"/>
            <a:ext cx="195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ef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blonde3_01-down[1]"/>
          <p:cNvPicPr/>
          <p:nvPr/>
        </p:nvPicPr>
        <p:blipFill>
          <a:blip r:embed="rId1"/>
          <a:stretch/>
        </p:blipFill>
        <p:spPr>
          <a:xfrm>
            <a:off x="500040" y="785880"/>
            <a:ext cx="828036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blonde3_01[1]"/>
          <p:cNvPicPr/>
          <p:nvPr/>
        </p:nvPicPr>
        <p:blipFill>
          <a:blip r:embed="rId1"/>
          <a:stretch/>
        </p:blipFill>
        <p:spPr>
          <a:xfrm>
            <a:off x="395280" y="836640"/>
            <a:ext cx="8137440" cy="57355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3436200" y="123840"/>
            <a:ext cx="148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f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6180120" y="123840"/>
            <a:ext cx="163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blonde2_01-down[1]"/>
          <p:cNvPicPr/>
          <p:nvPr/>
        </p:nvPicPr>
        <p:blipFill>
          <a:blip r:embed="rId1"/>
          <a:stretch/>
        </p:blipFill>
        <p:spPr>
          <a:xfrm>
            <a:off x="714240" y="0"/>
            <a:ext cx="509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blonde2_01[1]"/>
          <p:cNvPicPr/>
          <p:nvPr/>
        </p:nvPicPr>
        <p:blipFill>
          <a:blip r:embed="rId1"/>
          <a:stretch/>
        </p:blipFill>
        <p:spPr>
          <a:xfrm>
            <a:off x="758880" y="0"/>
            <a:ext cx="50990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6181920" y="123840"/>
            <a:ext cx="136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f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5580720" y="123840"/>
            <a:ext cx="195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ef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blonde1_01-down[1]"/>
          <p:cNvPicPr/>
          <p:nvPr/>
        </p:nvPicPr>
        <p:blipFill>
          <a:blip r:embed="rId1"/>
          <a:stretch/>
        </p:blipFill>
        <p:spPr>
          <a:xfrm>
            <a:off x="770040" y="0"/>
            <a:ext cx="451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blonde1_01[1]"/>
          <p:cNvPicPr/>
          <p:nvPr/>
        </p:nvPicPr>
        <p:blipFill>
          <a:blip r:embed="rId1"/>
          <a:stretch/>
        </p:blipFill>
        <p:spPr>
          <a:xfrm>
            <a:off x="770040" y="0"/>
            <a:ext cx="45162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5577840" y="123840"/>
            <a:ext cx="148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f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7043400" y="658800"/>
            <a:ext cx="17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ropped%20burro%202"/>
          <p:cNvPicPr/>
          <p:nvPr/>
        </p:nvPicPr>
        <p:blipFill>
          <a:blip r:embed="rId1"/>
          <a:stretch/>
        </p:blipFill>
        <p:spPr>
          <a:xfrm>
            <a:off x="1711440" y="214200"/>
            <a:ext cx="478944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013920" y="71280"/>
            <a:ext cx="251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ffff00"/>
                </a:solidFill>
                <a:latin typeface="Arial"/>
              </a:rPr>
              <a:t>Despu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3" descr="Alan_Grasilla"/>
          <p:cNvPicPr/>
          <p:nvPr/>
        </p:nvPicPr>
        <p:blipFill>
          <a:blip r:embed="rId1"/>
          <a:stretch/>
        </p:blipFill>
        <p:spPr>
          <a:xfrm>
            <a:off x="1071720" y="1000080"/>
            <a:ext cx="68403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macaquinho3"/>
          <p:cNvPicPr/>
          <p:nvPr/>
        </p:nvPicPr>
        <p:blipFill>
          <a:blip r:embed="rId1"/>
          <a:stretch/>
        </p:blipFill>
        <p:spPr>
          <a:xfrm>
            <a:off x="0" y="-174600"/>
            <a:ext cx="9144000" cy="7032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304920" y="457200"/>
            <a:ext cx="3200400" cy="203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14200" y="571680"/>
            <a:ext cx="564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800" spc="-1" strike="noStrike">
                <a:solidFill>
                  <a:srgbClr val="000000"/>
                </a:solidFill>
                <a:latin typeface="Arial"/>
              </a:rPr>
              <a:t>Sonríe!  Es fácil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 rot="20062200">
            <a:off x="6130800" y="540360"/>
            <a:ext cx="337176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000000"/>
                </a:solidFill>
                <a:latin typeface="Arial"/>
              </a:rPr>
              <a:t>Envíalo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es-PE" sz="3200" spc="-1" strike="noStrike">
                <a:solidFill>
                  <a:srgbClr val="000000"/>
                </a:solidFill>
                <a:latin typeface="Arial"/>
              </a:rPr>
              <a:t>tus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 ami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Todos </a:t>
            </a:r>
            <a:r>
              <a:rPr b="1" i="1" lang="es-PE" sz="3200" spc="-1" strike="noStrike">
                <a:solidFill>
                  <a:srgbClr val="000000"/>
                </a:solidFill>
                <a:latin typeface="Arial"/>
              </a:rPr>
              <a:t>necesitamos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PE" sz="3200" spc="-1" strike="noStrike">
                <a:solidFill>
                  <a:srgbClr val="000000"/>
                </a:solidFill>
                <a:latin typeface="Arial"/>
              </a:rPr>
              <a:t>sonreír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PE" sz="32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PE" sz="3200" spc="-1" strike="noStrike">
                <a:solidFill>
                  <a:srgbClr val="000000"/>
                </a:solidFill>
                <a:latin typeface="Arial"/>
              </a:rPr>
              <a:t>poco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sorriso_wav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image009"/>
          <p:cNvPicPr/>
          <p:nvPr/>
        </p:nvPicPr>
        <p:blipFill>
          <a:blip r:embed="rId1"/>
          <a:stretch/>
        </p:blipFill>
        <p:spPr>
          <a:xfrm>
            <a:off x="108000" y="285840"/>
            <a:ext cx="89647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bikini4_01-down[1]"/>
          <p:cNvPicPr/>
          <p:nvPr/>
        </p:nvPicPr>
        <p:blipFill>
          <a:blip r:embed="rId1"/>
          <a:stretch/>
        </p:blipFill>
        <p:spPr>
          <a:xfrm>
            <a:off x="395280" y="836640"/>
            <a:ext cx="84247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467520" y="71280"/>
            <a:ext cx="195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ef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igla def ver 8"/>
          <p:cNvPicPr/>
          <p:nvPr/>
        </p:nvPicPr>
        <p:blipFill>
          <a:blip r:embed="rId2"/>
          <a:stretch/>
        </p:blipFill>
        <p:spPr>
          <a:xfrm>
            <a:off x="0" y="0"/>
            <a:ext cx="69840" cy="1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bikini4_01[1]"/>
          <p:cNvPicPr/>
          <p:nvPr/>
        </p:nvPicPr>
        <p:blipFill>
          <a:blip r:embed="rId1"/>
          <a:stretch/>
        </p:blipFill>
        <p:spPr>
          <a:xfrm>
            <a:off x="395280" y="836640"/>
            <a:ext cx="8424720" cy="5664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3722040" y="123840"/>
            <a:ext cx="148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f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825160" y="123840"/>
            <a:ext cx="195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ef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bikini3_01-down[1]"/>
          <p:cNvPicPr/>
          <p:nvPr/>
        </p:nvPicPr>
        <p:blipFill>
          <a:blip r:embed="rId1"/>
          <a:stretch/>
        </p:blipFill>
        <p:spPr>
          <a:xfrm>
            <a:off x="1047600" y="0"/>
            <a:ext cx="445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bikini3_01[1]"/>
          <p:cNvPicPr/>
          <p:nvPr/>
        </p:nvPicPr>
        <p:blipFill>
          <a:blip r:embed="rId1"/>
          <a:stretch/>
        </p:blipFill>
        <p:spPr>
          <a:xfrm>
            <a:off x="976320" y="0"/>
            <a:ext cx="44528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5936760" y="123840"/>
            <a:ext cx="148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f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bikini1_01-down[1]"/>
          <p:cNvPicPr/>
          <p:nvPr/>
        </p:nvPicPr>
        <p:blipFill>
          <a:blip r:embed="rId1"/>
          <a:stretch/>
        </p:blipFill>
        <p:spPr>
          <a:xfrm>
            <a:off x="896760" y="0"/>
            <a:ext cx="49611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6253560" y="123840"/>
            <a:ext cx="195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ef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bikini1_01[1]"/>
          <p:cNvPicPr/>
          <p:nvPr/>
        </p:nvPicPr>
        <p:blipFill>
          <a:blip r:embed="rId1"/>
          <a:stretch/>
        </p:blipFill>
        <p:spPr>
          <a:xfrm>
            <a:off x="825480" y="0"/>
            <a:ext cx="49608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6079320" y="115920"/>
            <a:ext cx="148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f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bikini2_01-down[1]"/>
          <p:cNvPicPr/>
          <p:nvPr/>
        </p:nvPicPr>
        <p:blipFill>
          <a:blip r:embed="rId1"/>
          <a:stretch/>
        </p:blipFill>
        <p:spPr>
          <a:xfrm>
            <a:off x="928800" y="0"/>
            <a:ext cx="38448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5677560" y="123840"/>
            <a:ext cx="195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ef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bikini2_01[1]"/>
          <p:cNvPicPr/>
          <p:nvPr/>
        </p:nvPicPr>
        <p:blipFill>
          <a:blip r:embed="rId1"/>
          <a:stretch/>
        </p:blipFill>
        <p:spPr>
          <a:xfrm>
            <a:off x="941400" y="0"/>
            <a:ext cx="3773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5674680" y="123840"/>
            <a:ext cx="148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f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3:56:11Z</dcterms:created>
  <dc:creator>LINCE</dc:creator>
  <dc:description/>
  <dc:language>en-US</dc:language>
  <cp:lastModifiedBy>Luis Davila</cp:lastModifiedBy>
  <dcterms:modified xsi:type="dcterms:W3CDTF">2009-12-15T23:34:35Z</dcterms:modified>
  <cp:revision>9</cp:revision>
  <dc:subject/>
  <dc:title>PHOTOSHOP</dc:title>
</cp:coreProperties>
</file>