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228-7483-4A24-82F5-070782CB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187-A928-403E-AEAC-C8B2E0AF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D98-3D7B-4BE8-8B50-7DC540E2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E0F-45CD-457C-99F7-1426CC84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F8E-A234-4CA2-8B92-253D4664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6ED-E62C-4208-B855-27D196A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905-0E97-4468-98F4-BB90AE15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287-C982-4226-BC2B-E6DC3707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BA1-63E7-4854-A035-C54C631F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3F6-D674-4DFC-BA71-C05EB037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C9D-1A0F-459A-BAE9-4F5B5DD4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D6B-566B-4FA6-A25E-614D85E5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ACD0-8B84-4177-9521-BAD9D6C18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EL BORRACHITO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Un borrachito entra en un autobús y empieza a gritar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¡Todos los tipos que van atrás son unos maricones!,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¡Los desgraciados que están a mi lado son unos cabrones!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¡Y los que van adelante son todos unos comemierdas!"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3068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El chofer, al oir eso, indignado, frena bruscamente, por lo que los pasajeros se desequilibran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El chofer para el autobús, agarra al borrachito por el cuello de la camisa y le pregunta, amenazador 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-"A ver so hijo de puta, repite si te atreves, desgraciado...¿quiénes son los maricones, los cabrones o los comemierdas?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Y contesta el borrachito tranquilament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-"¡Qué coño voy a saber...¡con ese frenazo los has mezclado a todos!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8:48:42Z</dcterms:created>
  <dc:creator>usuario</dc:creator>
  <dc:description/>
  <dc:language>en-US</dc:language>
  <cp:lastModifiedBy>usuario</cp:lastModifiedBy>
  <dcterms:modified xsi:type="dcterms:W3CDTF">2005-11-17T18:48:55Z</dcterms:modified>
  <cp:revision>1</cp:revision>
  <dc:subject/>
  <dc:title>EL BORRACHITO </dc:title>
</cp:coreProperties>
</file>