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350-0228-4945-93C4-6E15C92E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0DA-237A-4E7F-BF64-94992C48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282-3497-470B-BC75-1E2153D9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095-C904-4B6E-B5E5-5BDFCA60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D19-5602-44B0-BE62-53D56A97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C4D-CE45-4CD0-A8DF-69C67DF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53B-0050-408E-9983-A6837C58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540-A4BF-41C2-BF4E-1A4E4A0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184-97F2-4C85-8752-83EA284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B92-8897-41B3-91AA-24EE0CE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9EB-C21D-4752-BA6D-AC77301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BA2-08CE-4854-8AED-5496CE2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1ADE-38A2-4E0F-87DF-CF5E74038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EL BORRACHITO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Un borrachito entra en un autobús y empieza a gritar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Todos los tipos que van atrás son unos maricones!,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Los desgraciados que están a mi lado son unos cabrones!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¡Y los que van adelante son todos unos comemierdas!"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3068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l chofer, al oir eso, indignado, frena bruscamente, por lo que los pasajeros se desequilibra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El chofer para el autobús, agarra al borrachito por el cuello de la camisa y le pregunta, amenazador 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-"A ver so hijo de puta, repite si te atreves, desgraciado...¿quiénes son los maricones, los cabrones o los comemierdas?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 contesta el borrachito tranquilamente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-"¡Qué coño voy a saber...¡con ese frenazo los has mezclado a todos!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48:42Z</dcterms:created>
  <dc:creator>usuario</dc:creator>
  <dc:description/>
  <dc:language>en-US</dc:language>
  <cp:lastModifiedBy>usuario</cp:lastModifiedBy>
  <dcterms:modified xsi:type="dcterms:W3CDTF">2005-11-17T18:48:55Z</dcterms:modified>
  <cp:revision>1</cp:revision>
  <dc:subject/>
  <dc:title>EL BORRACHITO </dc:title>
</cp:coreProperties>
</file>