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01611-1012-4331-9F8B-2CC842BCF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42EAB-0A62-4E00-87FC-EC671A64C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9D1CD-3D2F-424D-B5BC-8A996C785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3A338-6DEF-480F-AE18-FE5D04765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33F2-2778-425C-B4EC-9DF026F2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CBBAB-8D88-48E2-9CC9-5474B8D46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75D33-0191-44B2-841C-467EE8E2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462EE-6767-4E10-B052-7C4D06E2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C92BC-CF35-448A-8208-B42BDAD1C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DC4A3-C1EA-431C-867C-6C51E427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E00B-3775-475C-8735-86995B7A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E217-83EE-497C-85AD-1EFFB9471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25E9-76F4-4EF5-B0C5-31AD8F4401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64000" y="476280"/>
            <a:ext cx="5400720" cy="612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Lucida Bright"/>
              </a:rPr>
              <a:t>EL VESTIDO DE ALGODON BARATO</a:t>
            </a:r>
            <a:br>
              <a:rPr sz="2400"/>
            </a:br>
            <a:r>
              <a:rPr b="0" lang="en-US" sz="2400" spc="-1" strike="noStrike">
                <a:solidFill>
                  <a:srgbClr val="333399"/>
                </a:solidFill>
                <a:latin typeface="Lucida Bright"/>
              </a:rPr>
              <a:t>Una mujer en un desteñido vestido de algodón barato y su esposo, vestido con un raído traje, se bajaron del tren en Boston, y caminaron tímidamente sin tener una cita a la oficina de la secretaria de Presidente de la Universidad de Harvard.</a:t>
            </a:r>
            <a:br>
              <a:rPr sz="2400"/>
            </a:br>
            <a:r>
              <a:rPr b="0" lang="en-US" sz="2400" spc="-1" strike="noStrike">
                <a:solidFill>
                  <a:srgbClr val="333399"/>
                </a:solidFill>
                <a:latin typeface="Lucida Bright"/>
              </a:rPr>
              <a:t>La secretaria adivinó en un momento que esos venidos de los bosques, campesinos, no tenían nada que hacer en Harvard y probablemente no merecían estar en Cambridge.</a:t>
            </a:r>
            <a:endParaRPr b="0" lang="en-US" sz="2400" spc="-1" strike="noStrike">
              <a:solidFill>
                <a:srgbClr val="000000"/>
              </a:solidFill>
              <a:latin typeface="Arial"/>
            </a:endParaRPr>
          </a:p>
        </p:txBody>
      </p:sp>
      <p:pic>
        <p:nvPicPr>
          <p:cNvPr id="42" name="" descr=""/>
          <p:cNvPicPr/>
          <p:nvPr/>
        </p:nvPicPr>
        <p:blipFill>
          <a:blip r:embed="rId1"/>
          <a:stretch/>
        </p:blipFill>
        <p:spPr>
          <a:xfrm>
            <a:off x="468360" y="620640"/>
            <a:ext cx="324000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Desearíamos ver al presidente' dijo suavemente el hombre. 'El estará ocupado todo el día' barbotó la secretaria.</a:t>
            </a:r>
            <a:br>
              <a:rPr sz="2400"/>
            </a:br>
            <a:r>
              <a:rPr b="0" lang="en-US" sz="2400" spc="-1" strike="noStrike">
                <a:solidFill>
                  <a:srgbClr val="333399"/>
                </a:solidFill>
                <a:latin typeface="Lucida Bright"/>
              </a:rPr>
              <a:t>'Esperaremos' replicó la mujer.</a:t>
            </a:r>
            <a:br>
              <a:rPr sz="2400"/>
            </a:br>
            <a:r>
              <a:rPr b="0" lang="en-US" sz="2400" spc="-1" strike="noStrike">
                <a:solidFill>
                  <a:srgbClr val="333399"/>
                </a:solidFill>
                <a:latin typeface="Lucida Bright"/>
              </a:rPr>
              <a:t>Por horas la secretaria los ignoró, esperando que la pareja finalmente se desanimara y se fuera. Ellos no lo hicieron, y la secretaria vio aumentar su frustración y finalmente decidió interrumpir al presidente, aunque era una tarea que ella siempre esquivaba.</a:t>
            </a:r>
            <a:endParaRPr b="0" lang="en-US" sz="2400" spc="-1" strike="noStrike">
              <a:solidFill>
                <a:srgbClr val="000000"/>
              </a:solidFill>
              <a:latin typeface="Arial"/>
            </a:endParaRPr>
          </a:p>
        </p:txBody>
      </p:sp>
      <p:pic>
        <p:nvPicPr>
          <p:cNvPr id="44"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35280" y="274320"/>
            <a:ext cx="5184720" cy="624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Tal vez si usted conversa con ellos por unos minutos, se irán' le dijo. El hizo una mueca de desagrado y asintió. Alguien de su importancia obviamente no tenía el tiempo para ocuparse de ellos, y el detestaba los vestidos de algodón barato y los raídos trajes en la oficina de su secretaria. El presidente, con el ceño adusto y con dignidad, se dirigió con paso arrogante hacia la pareja. La mujer le dijo 'Tuvimos un hijo que asistió a Harvard por solo un año. El amaba a Harvard. Era feliz aquí.</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Pero hará un año, murió en un accidente. Mi esposo y yo deseamos levantar un memorial para el, en alguna parte del campus'. El presidente no se interesó. El estaba en shock. 'Señora', dijo ásperamente, 'no podemos poner una estatua para cada persona que asista a Harvard y fallezca. Si lo hiciéramos, este lugar parecería un cementerio.'  'Oh no', explicó la mujer rápidamente. 'No deseamos erigir una estatua. Pensamos que nos gustaría donar un edificio a Harvard'</a:t>
            </a:r>
            <a:endParaRPr b="0" lang="en-US" sz="2400" spc="-1" strike="noStrike">
              <a:solidFill>
                <a:srgbClr val="000000"/>
              </a:solidFill>
              <a:latin typeface="Arial"/>
            </a:endParaRPr>
          </a:p>
        </p:txBody>
      </p:sp>
      <p:pic>
        <p:nvPicPr>
          <p:cNvPr id="48"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presidente entornó sus ojos. Echó una mirada al vestido de algodón barato y al traje raído, y entonces exclamó 'Un edificio! ¿Tienen alguna remota idea de cuanto cuesta un edificio? Hemos gastado más de siete millones y medio de dólares en los edificios aquí en Harvard!'</a:t>
            </a:r>
            <a:br>
              <a:rPr sz="2400"/>
            </a:br>
            <a:r>
              <a:rPr b="0" lang="en-US" sz="2400" spc="-1" strike="noStrike">
                <a:solidFill>
                  <a:srgbClr val="333399"/>
                </a:solidFill>
                <a:latin typeface="Lucida Bright"/>
              </a:rPr>
              <a:t> </a:t>
            </a:r>
            <a:br>
              <a:rPr sz="2400"/>
            </a:br>
            <a:r>
              <a:rPr b="0" lang="en-US" sz="2400" spc="-1" strike="noStrike">
                <a:solidFill>
                  <a:srgbClr val="333399"/>
                </a:solidFill>
                <a:latin typeface="Lucida Bright"/>
              </a:rPr>
              <a:t>Por un momento la mujer quedó en silencio. El presidente estaba feliz. Tal vez se podría deshacer de ellos ahora.</a:t>
            </a:r>
            <a:endParaRPr b="0" lang="en-US" sz="2400" spc="-1" strike="noStrike">
              <a:solidFill>
                <a:srgbClr val="000000"/>
              </a:solidFill>
              <a:latin typeface="Arial"/>
            </a:endParaRPr>
          </a:p>
        </p:txBody>
      </p:sp>
      <p:pic>
        <p:nvPicPr>
          <p:cNvPr id="50"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84360" y="1268280"/>
            <a:ext cx="4174920" cy="43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La mujer se volvió a su esposo y dijo suavemente '¿eso es todo lo que cuesta iniciar una universidad? ¿Por qué no iniciamos la nuestra?' Su esposo asintió. El rostro del presidente se oscureció en confusión y desconcierto.</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2"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3428640"/>
            <a:ext cx="8713800" cy="319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Sr. Leland Stanford y su esposa se pararon y se fueron, viajando a Palo Alto, California, donde establecieron la universidad que lleva su nombre, la Universidad Stanford, en memoria de un hijo del que Harvard no se interesó. [La universidad 'Leland Stanford Junior' fue inaugurada en 1891, en Palo Alto. 'Junior' porque era en honor al fallecido hijo del rico terrateniente. </a:t>
            </a:r>
            <a:endParaRPr b="0" lang="en-US" sz="2400" spc="-1" strike="noStrike">
              <a:solidFill>
                <a:srgbClr val="000000"/>
              </a:solidFill>
              <a:latin typeface="Arial"/>
            </a:endParaRPr>
          </a:p>
        </p:txBody>
      </p:sp>
      <p:pic>
        <p:nvPicPr>
          <p:cNvPr id="54" name="" descr=""/>
          <p:cNvPicPr/>
          <p:nvPr/>
        </p:nvPicPr>
        <p:blipFill>
          <a:blip r:embed="rId1"/>
          <a:stretch/>
        </p:blipFill>
        <p:spPr>
          <a:xfrm>
            <a:off x="2195640" y="189000"/>
            <a:ext cx="4835520" cy="32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4292280"/>
            <a:ext cx="828036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Ése fue su 'memorial'. Hoy en día (año 2008) la universidad de Stanford es la número uno del mundo, por arriba de Harvard.</a:t>
            </a:r>
            <a:br>
              <a:rPr sz="2400"/>
            </a:br>
            <a:br>
              <a:rPr sz="2400"/>
            </a:br>
            <a:r>
              <a:rPr b="0" lang="es-MX" sz="2000" spc="-1" strike="noStrike" u="sng">
                <a:solidFill>
                  <a:srgbClr val="333399"/>
                </a:solidFill>
                <a:uFillTx/>
                <a:latin typeface="Lucida Bright"/>
              </a:rPr>
              <a:t>Usted puede fácilmente juzgar el carácter de los demás por la forma en que tratan a quienes piensan que no pueden hacer nada para ellos.</a:t>
            </a:r>
            <a:r>
              <a:rPr b="0" lang="es-MX" sz="2000" spc="-1" strike="noStrike">
                <a:solidFill>
                  <a:srgbClr val="000000"/>
                </a:solidFill>
                <a:latin typeface="Arial"/>
              </a:rPr>
              <a:t> </a:t>
            </a:r>
            <a:endParaRPr b="0" lang="en-US" sz="2000" spc="-1" strike="noStrike">
              <a:solidFill>
                <a:srgbClr val="000000"/>
              </a:solidFill>
              <a:latin typeface="Arial"/>
            </a:endParaRPr>
          </a:p>
        </p:txBody>
      </p:sp>
      <p:pic>
        <p:nvPicPr>
          <p:cNvPr id="56" name="" descr=""/>
          <p:cNvPicPr/>
          <p:nvPr/>
        </p:nvPicPr>
        <p:blipFill>
          <a:blip r:embed="rId1"/>
          <a:stretch/>
        </p:blipFill>
        <p:spPr>
          <a:xfrm>
            <a:off x="1619280" y="476280"/>
            <a:ext cx="583236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0:48:34Z</dcterms:created>
  <dc:creator>Casa</dc:creator>
  <dc:description/>
  <dc:language>en-US</dc:language>
  <cp:lastModifiedBy>Casa</cp:lastModifiedBy>
  <dcterms:modified xsi:type="dcterms:W3CDTF">2008-08-26T01:03:41Z</dcterms:modified>
  <cp:revision>3</cp:revision>
  <dc:subject/>
  <dc:title>EL VESTIDO DE ALGODON BARATO Una mujer en un desteñido vestido de algodón barato y su esposo, vestido con un raído traje, se bajaron del tren en Boston, y caminaron tímidamente sin tener una cita a la oficina de la secretaria de Presidente de la Universidad de Harvard. La secretaria adivinó en un momento que esos venidos de los bosques, campesinos, no tenían nada que hacer en Harvard y probablemente no merecían estar en Cambridge.</dc:title>
</cp:coreProperties>
</file>