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25.jpeg" ContentType="image/jpeg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42.jpeg" ContentType="image/jpeg"/>
  <Override PartName="/ppt/media/image3.gif" ContentType="image/gif"/>
  <Override PartName="/ppt/media/image5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Orfeo%20y%20Eur%C3%ADdice%20(II)-Gluck.wav" ContentType="audio/x-wav"/>
  <Override PartName="/ppt/media/image37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67.gif" ContentType="image/gif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0AC-B0F9-4C5B-AA9A-45BD4E6C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902-EA20-491A-BC5A-4511F2D6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FE6-E1D5-4098-A9A8-4AEAE403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9D2-A0CE-48ED-B65C-67DC93B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ACE-D4D3-4C29-8898-4177B8B7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06A-8C35-4108-8458-C85E85C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C1E-DDFE-491E-8238-1FB43D3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A98-C0DD-4028-874D-DDD4C87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D42-6485-4726-99F5-C88F8FA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0DD-3FF3-41FE-BF83-AFCE034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52D-3017-4F10-849D-81657BC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0AC-FF97-4AD5-A2B7-9498047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8A2-E570-454F-997B-1B514F81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Orfeo%20y%20Eur&#237;dice%20(II)-Glu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520" y="90360"/>
            <a:ext cx="9048960" cy="667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3143160"/>
            <a:ext cx="1584360" cy="933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760" y="77760"/>
            <a:ext cx="46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Interior iglesia destru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l primer semáforo del mu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189000"/>
            <a:ext cx="1800360" cy="936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661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Los museos se hallan en “la Isla de los museos”</a:t>
            </a: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 UNE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51280" y="439740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Saboreando café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Kügen (past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n la tor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7960" y="293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Vista desde la torre con nieb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330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68360" y="836640"/>
            <a:ext cx="6120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Dresden ….El 13 de febrero 1945, bombas de fósforo, ordenado por Churchill, fueron lanzadas dejando la ciudad prácticamente arrasada. Lentamente y trabajando con mucho esfuerzo ha sido reconstruida por lo que Dresden es conocida como el Ave Fénix ya que surgió de sus ceniz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3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21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21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45 -0.25163 C -0.26077 -0.24584 -0.25365 -0.23751 -0.24514 -0.23033 C -0.24254 -0.22825 -0.24115 -0.22408 -0.23872 -0.22154 C -0.23681 -0.21968 -0.23438 -0.21899 -0.23229 -0.21737 C -0.21823 -0.19862 -0.22639 -0.20811 -0.20816 -0.18936 C -0.20452 -0.18566 -0.20295 -0.17894 -0.20018 -0.17431 C -0.19011 -0.15904 -0.17847 -0.14329 -0.16771 -0.12917 C -0.16597 -0.12686 -0.1632 -0.12663 -0.16129 -0.12478 C -0.15886 -0.12223 -0.15729 -0.11876 -0.15486 -0.11621 C -0.1349 -0.09607 -0.11372 -0.07755 -0.09202 -0.06042 C -0.07691 -0.04862 -0.0625 -0.03033 -0.04514 -0.02593 C -0.03594 -0.01737 -0.02934 -0.01783 -0.01945 -0.01297 C -0.0125 -0.0095 -0.00643 -0.00464 -5.55556E-007 -7.03704E-006 E">
                                      <p:cBhvr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1 -0.33797 C 0.26458 -0.28959 0.22152 -0.2382 0.17742 -0.1875 C 0.16892 -0.17778 0.14965 -0.15255 0.14044 -0.14445 C 0.11718 -0.12385 0.09444 -0.10093 0.07256 -0.07778 C 0.05989 -0.06436 0.04774 -0.04445 0.03385 -0.03264 C 0.02951 -0.02361 0.02221 -0.01436 0.01458 -0.01111 C 0.01128 -0.00834 0.0085 -0.0044 0.00485 -0.00255 C 0.00329 -0.00186 -5.55556E-006 -0.00023 -5.55556E-006 -0.00023 E">
                                      <p:cBhvr>
                                        <p:cTn id="16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58 0.23865 C -0.31059 0.23448 -0.30555 0.2324 -0.30156 0.228 C -0.3 0.22638 -0.29982 0.22337 -0.29844 0.22152 C -0.29357 0.21504 -0.2941 0.21874 -0.28871 0.21504 C -0.27587 0.20624 -0.26493 0.19397 -0.25173 0.18494 C -0.23229 0.17221 -0.21059 0.16087 -0.19219 0.14629 C -0.18003 0.1368 -0.16875 0.12407 -0.15486 0.11828 C -0.14791 0.1118 -0.13958 0.10925 -0.13246 0.10323 C -0.11892 0.09212 -0.1342 0.10045 -0.11458 0.08819 C -0.10833 0.08425 -0.10156 0.08147 -0.09514 0.07731 C -0.08976 0.0736 -0.08507 0.0692 -0.07899 0.06666 C -0.07153 0.05971 -0.06215 0.05323 -0.05347 0.04953 C -0.0493 0.04143 -0.04253 0.03749 -0.03576 0.03448 C -0.02708 0.02684 -0.01979 0.01828 -0.01146 0.01064 C -0.00955 0.00902 -0.00851 0.00578 -0.0066 0.00416 C 0.00452 -0.00556 -0.00538 0.00694 -1.66667E-006 -5.92593E-006 E">
                                      <p:cBhvr>
                                        <p:cTn id="16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44 0.27962 C 0.24618 0.26736 0.23732 0.25902 0.23073 0.24953 C 0.21875 0.23194 0.2118 0.21851 0.2 0.19791 C 0.17413 0.15277 0.17482 0.16782 0.15156 0.14212 C 0.14149 0.13125 0.1342 0.1155 0.12257 0.10763 C 0.11719 0.10393 0.11163 0.10092 0.10642 0.09675 C 0.08576 0.07986 0.06476 0.05648 0.04514 0.03657 C 0.03871 0.03009 0.03611 0.0243 0.02899 0.01944 C 0.02101 0.00833 0.00989 0.00694 1.66667E-006 4.07407E-006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37012680" y="0"/>
            <a:ext cx="4615668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365040"/>
            <a:ext cx="889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Berlín capital de Alemania, excepto en los años de la partición que Bonn era para Alemania del Oeste y Berlín del Este. Es una hermosa ciudad con 365 museos y extensos parques, tiene una población de unos 4 millones de habit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scu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de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ciu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22264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  <p:sndAc>
      <p:stSnd>
        <p:snd r:embed="rId3" name="Orfeo%20y%20Eur%C3%ADdice%20(II)-Glu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4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140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24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549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Mural de 142 mts hecho con piezas de porcelana de Missen que asimismo fue reconstrui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898560" y="14446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Reconstr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3" name="Orfeo%20y%20Eur%C3%ADdice%20(II)-Gluck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75084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05120" y="777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rf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26068320" y="0"/>
            <a:ext cx="3521232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4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4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7040" y="365040"/>
            <a:ext cx="332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Parece increíble, pero esta calle esta construida sobre el río, es puente y calle a la ve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8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840" y="2206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Leiz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40000" y="98100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En Leipzig han vivido personajes como: Juan S. Bach Wagner, Shiller y Goethe estudió en la universidad  homenajeando más tarde a la ciudad                                  situando en ella uno de los pasajes más famosos de “Faus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4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55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44920" y="293760"/>
            <a:ext cx="39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J.W.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981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La cafetería más antigua. Goethe era asiduo cl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09480" y="620640"/>
            <a:ext cx="9753480" cy="4967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91800" y="24768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Post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4292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Señal por donde pasaba el m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551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Lugar donde se reunieron para la partición de</a:t>
            </a: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 Alemania, Este y Oe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36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629160" y="0"/>
            <a:ext cx="46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Quedlinbu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39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9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1428768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9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9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97160" y="390600"/>
            <a:ext cx="429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Río Sp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-25279200" y="0"/>
            <a:ext cx="34423200" cy="568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-6480" y="5719680"/>
            <a:ext cx="83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Parque Nacional “Suiza Sajon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6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520" y="5516640"/>
            <a:ext cx="9096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Capital intelectual</a:t>
            </a: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 donde vivieron artistas como Bach, Shiller, Goethe. Listz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9800" y="1758960"/>
            <a:ext cx="216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Wei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443640" y="333360"/>
            <a:ext cx="23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Goethe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urlz MT"/>
              </a:rPr>
              <a:t>Sh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03560" y="0"/>
            <a:ext cx="51404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9320" y="765000"/>
            <a:ext cx="387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Wittenberg, donde Martín Lutero fue fraile católico, más tarde dio a conocer sus tesis sobre la religión e influyó sobre el protestantism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urlz MT"/>
              </a:rPr>
              <a:t>Se casó y tuvo 6 hij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330"/>
                            </p:stCondLst>
                            <p:childTnLst>
                              <p:par>
                                <p:cTn id="4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9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33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27640" y="1125360"/>
            <a:ext cx="47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Mús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Orfeo y Eurí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. W. von G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Compositor alem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2 - 7 - 17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Curlz MT"/>
              </a:rPr>
              <a:t>15 - 11- 17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1916280"/>
            <a:ext cx="31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Fo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R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Panorám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y guer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080" y="318960"/>
            <a:ext cx="82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En uno de los balcones “mostró” su hi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Michael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156360" y="4724280"/>
            <a:ext cx="1440000" cy="944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5320" y="-41400"/>
            <a:ext cx="31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urlz MT"/>
              </a:rPr>
              <a:t>Sector S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04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97600" y="0"/>
            <a:ext cx="404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5000"/>
            <a:ext cx="2627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Conjunto de las dos iglesias, una restos de la guerra y la otra nue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El conjunto es conoci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urlz MT"/>
              </a:rPr>
              <a:t>Hueco de diente y lápiz de lab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0:28:20Z</dcterms:created>
  <dc:creator>Rosa</dc:creator>
  <dc:description/>
  <dc:language>en-US</dc:language>
  <cp:lastModifiedBy>Rosa</cp:lastModifiedBy>
  <dcterms:modified xsi:type="dcterms:W3CDTF">2008-08-27T20:54:06Z</dcterms:modified>
  <cp:revision>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