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25.jpeg" ContentType="image/jpeg"/>
  <Override PartName="/ppt/media/image1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42.jpeg" ContentType="image/jpeg"/>
  <Override PartName="/ppt/media/image3.gif" ContentType="image/gif"/>
  <Override PartName="/ppt/media/image5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60.jpeg" ContentType="image/jpeg"/>
  <Override PartName="/ppt/media/Orfeo%20y%20Eur%C3%ADdice%20(II)-Gluck.wav" ContentType="audio/x-wav"/>
  <Override PartName="/ppt/media/image37.jpeg" ContentType="image/jpeg"/>
  <Override PartName="/ppt/media/image24.jpeg" ContentType="image/jpeg"/>
  <Override PartName="/ppt/media/image63.jpeg" ContentType="image/jpeg"/>
  <Override PartName="/ppt/media/image6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67.gif" ContentType="image/gif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66A-CC91-4B93-91A7-F067ED78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2BA-2736-47CF-9D0C-7DA72117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8ED-BCF6-4461-85E5-8E861C34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F3D-5380-44C6-BF87-D7C473FF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E75-90BA-4511-B219-E2DBD608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FDF8-3D00-418E-86E5-732ACD09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C6C3-6760-4DA7-96C0-7F86202B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0C39-DE13-4F15-8F8E-4E4DA132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538-68D1-4F10-9157-6718837F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E19-2F00-4DBF-857E-57491572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BBF9-7228-4A3C-947C-5D26B7FB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11D8-3A47-4EEC-AF81-1B5DF743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0831-4460-4C3C-B486-6DD5FA078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Orfeo%20y%20Eur&#237;dice%20(II)-Gluck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audio" Target="../media/Orfeo%20y%20Eur&#237;dice%20(II)-Gluck.wav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7520" y="90360"/>
            <a:ext cx="9048960" cy="6677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020000" y="3143160"/>
            <a:ext cx="1584360" cy="933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4760" y="77760"/>
            <a:ext cx="468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urlz MT"/>
              </a:rPr>
              <a:t>Interior iglesia destru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60280"/>
            <a:ext cx="37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El primer semáforo del mu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08360" y="189000"/>
            <a:ext cx="1800360" cy="936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92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5661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urlz MT"/>
              </a:rPr>
              <a:t>Los museos se hallan en “la Isla de los museos”</a:t>
            </a: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 UNE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988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780000" y="0"/>
            <a:ext cx="5364000" cy="4022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51280" y="4397400"/>
            <a:ext cx="46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Saboreando café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Kügen (past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en la tor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7960" y="29376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urlz MT"/>
              </a:rPr>
              <a:t>Vista desde la torre con nieb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330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14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68360" y="836640"/>
            <a:ext cx="6120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Dresden ….El 13 de febrero 1945, bombas de fósforo, ordenado por Churchill, fueron lanzadas dejando la ciudad prácticamente arrasada. Lentamente y trabajando con mucho esfuerzo ha sido reconstruida por lo que Dresden es conocida como el Ave Fénix ya que surgió de sus ceniz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3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3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3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210"/>
                            </p:stCondLst>
                            <p:childTnLst>
                              <p:par>
                                <p:cTn id="15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210"/>
                            </p:stCondLst>
                            <p:childTnLst>
                              <p:par>
                                <p:cTn id="154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141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213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0" y="3141720"/>
            <a:ext cx="4572000" cy="3716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0" y="3213000"/>
            <a:ext cx="4572000" cy="364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945 -0.25163 C -0.26077 -0.24584 -0.25365 -0.23751 -0.24514 -0.23033 C -0.24254 -0.22825 -0.24115 -0.22408 -0.23872 -0.22154 C -0.23681 -0.21968 -0.23438 -0.21899 -0.23229 -0.21737 C -0.21823 -0.19862 -0.22639 -0.20811 -0.20816 -0.18936 C -0.20452 -0.18566 -0.20295 -0.17894 -0.20018 -0.17431 C -0.19011 -0.15904 -0.17847 -0.14329 -0.16771 -0.12917 C -0.16597 -0.12686 -0.1632 -0.12663 -0.16129 -0.12478 C -0.15886 -0.12223 -0.15729 -0.11876 -0.15486 -0.11621 C -0.1349 -0.09607 -0.11372 -0.07755 -0.09202 -0.06042 C -0.07691 -0.04862 -0.0625 -0.03033 -0.04514 -0.02593 C -0.03594 -0.01737 -0.02934 -0.01783 -0.01945 -0.01297 C -0.0125 -0.0095 -0.00643 -0.00464 -5.55556E-007 -7.03704E-006 E">
                                      <p:cBhvr>
                                        <p:cTn id="16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971 -0.33797 C 0.26458 -0.28959 0.22152 -0.2382 0.17742 -0.1875 C 0.16892 -0.17778 0.14965 -0.15255 0.14044 -0.14445 C 0.11718 -0.12385 0.09444 -0.10093 0.07256 -0.07778 C 0.05989 -0.06436 0.04774 -0.04445 0.03385 -0.03264 C 0.02951 -0.02361 0.02221 -0.01436 0.01458 -0.01111 C 0.01128 -0.00834 0.0085 -0.0044 0.00485 -0.00255 C 0.00329 -0.00186 -5.55556E-006 -0.00023 -5.55556E-006 -0.00023 E">
                                      <p:cBhvr>
                                        <p:cTn id="16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458 0.23865 C -0.31059 0.23448 -0.30555 0.2324 -0.30156 0.228 C -0.3 0.22638 -0.29982 0.22337 -0.29844 0.22152 C -0.29357 0.21504 -0.2941 0.21874 -0.28871 0.21504 C -0.27587 0.20624 -0.26493 0.19397 -0.25173 0.18494 C -0.23229 0.17221 -0.21059 0.16087 -0.19219 0.14629 C -0.18003 0.1368 -0.16875 0.12407 -0.15486 0.11828 C -0.14791 0.1118 -0.13958 0.10925 -0.13246 0.10323 C -0.11892 0.09212 -0.1342 0.10045 -0.11458 0.08819 C -0.10833 0.08425 -0.10156 0.08147 -0.09514 0.07731 C -0.08976 0.0736 -0.08507 0.0692 -0.07899 0.06666 C -0.07153 0.05971 -0.06215 0.05323 -0.05347 0.04953 C -0.0493 0.04143 -0.04253 0.03749 -0.03576 0.03448 C -0.02708 0.02684 -0.01979 0.01828 -0.01146 0.01064 C -0.00955 0.00902 -0.00851 0.00578 -0.0066 0.00416 C 0.00452 -0.00556 -0.00538 0.00694 -1.66667E-006 -5.92593E-006 E">
                                      <p:cBhvr>
                                        <p:cTn id="16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844 0.27962 C 0.24618 0.26736 0.23732 0.25902 0.23073 0.24953 C 0.21875 0.23194 0.2118 0.21851 0.2 0.19791 C 0.17413 0.15277 0.17482 0.16782 0.15156 0.14212 C 0.14149 0.13125 0.1342 0.1155 0.12257 0.10763 C 0.11719 0.10393 0.11163 0.10092 0.10642 0.09675 C 0.08576 0.07986 0.06476 0.05648 0.04514 0.03657 C 0.03871 0.03009 0.03611 0.0243 0.02899 0.01944 C 0.02101 0.00833 0.00989 0.00694 1.66667E-006 4.07407E-006 E">
                                      <p:cBhvr>
                                        <p:cTn id="16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-37012680" y="0"/>
            <a:ext cx="46156680" cy="6873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365040"/>
            <a:ext cx="88930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Berlín capital de Alemania, excepto en los años de la partición que Bonn era para Alemania del Oeste y Berlín del Este. Es una hermosa ciudad con 365 museos y extensos parques, tiene una población de unos 4 millones de habitan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Escud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de 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ciu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2222640" cy="364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  <p:sndAc>
      <p:stSnd>
        <p:snd r:embed="rId3" name="Orfeo%20y%20Eur%C3%ADdice%20(II)-Gluck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4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4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4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1400"/>
                            </p:stCondLst>
                            <p:childTnLst>
                              <p:par>
                                <p:cTn id="18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24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55497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Mural de 142 mts hecho con piezas de porcelana de Missen que asimismo fue reconstrui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-898560" y="1444680"/>
            <a:ext cx="53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Reconstr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  <p:sndAc>
      <p:stSnd>
        <p:snd r:embed="rId3" name="Orfeo%20y%20Eur%C3%ADdice%20(II)-Gluck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75084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8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8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605120" y="7776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Erf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26068320" y="0"/>
            <a:ext cx="35212320" cy="6867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4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4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003560" y="0"/>
            <a:ext cx="514044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27040" y="365040"/>
            <a:ext cx="3324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Parece increíble, pero esta calle esta construida sobre el río, es puente y calle a la vez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1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1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800"/>
                            </p:stCondLst>
                            <p:childTnLst>
                              <p:par>
                                <p:cTn id="263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8840" y="220680"/>
            <a:ext cx="17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Leizp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40000" y="981000"/>
            <a:ext cx="518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En Leipzig han vivido personajes como: Juan S. Bach Wagner, Shiller y Goethe estudió en la universidad  homenajeando más tarde a la ciudad                                  situando en ella uno de los pasajes más famosos de “Fausto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14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14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4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1550"/>
                            </p:stCondLst>
                            <p:childTnLst>
                              <p:par>
                                <p:cTn id="314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44920" y="293760"/>
            <a:ext cx="39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J.W. Goe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5981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La cafetería más antigua. Goethe era asiduo cl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-609480" y="620640"/>
            <a:ext cx="9753480" cy="4967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591800" y="247680"/>
            <a:ext cx="24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urlz MT"/>
              </a:rPr>
              <a:t>Postd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79640" y="429264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urlz MT"/>
              </a:rPr>
              <a:t>Señal por donde pasaba el mu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551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urlz MT"/>
              </a:rPr>
              <a:t>Lugar donde se reunieron para la partición de</a:t>
            </a: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 Alemania, Este y Oe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667 0.028 0.08267 0.062 0.08267 C 0.097 0.08267 0.125 0.04667 0.125 0 C 0.125 -0.04667 0.153 -0.08267 0.188 -0.08267 C 0.222 -0.08267 0.25 -0.04667 0.25 0 E">
                                      <p:cBhvr>
                                        <p:cTn id="369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629160" y="0"/>
            <a:ext cx="468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 </a:t>
            </a: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Quedlinbu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391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397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14287680" cy="6191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9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9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297160" y="390600"/>
            <a:ext cx="429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Río Sp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-25279200" y="0"/>
            <a:ext cx="34423200" cy="5689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-6480" y="5719680"/>
            <a:ext cx="839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Parque Nacional “Suiza Sajon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6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6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6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7520" y="5516640"/>
            <a:ext cx="9096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urlz MT"/>
              </a:rPr>
              <a:t>Capital intelectual</a:t>
            </a: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 donde vivieron artistas como Bach, Shiller, Goethe. Listz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9800" y="1758960"/>
            <a:ext cx="216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urlz MT"/>
              </a:rPr>
              <a:t>Wei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443640" y="333360"/>
            <a:ext cx="23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urlz MT"/>
              </a:rPr>
              <a:t>Goethe 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urlz MT"/>
              </a:rPr>
              <a:t>Shil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003560" y="0"/>
            <a:ext cx="514044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9320" y="765000"/>
            <a:ext cx="3875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Wittenberg, donde Martín Lutero fue fraile católico, más tarde dio a conocer sus tesis sobre la religión e influyó sobre el protestantism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Se casó y tuvo 6 hij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1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1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2330"/>
                            </p:stCondLst>
                            <p:childTnLst>
                              <p:par>
                                <p:cTn id="49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9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4330"/>
                            </p:stCondLst>
                            <p:childTnLst>
                              <p:par>
                                <p:cTn id="493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9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427640" y="1125360"/>
            <a:ext cx="47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Mús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Orfeo y Euríd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P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C. W. von Gl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Compositor alem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2 - 7 - 17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15 - 11- 17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50920" y="1916280"/>
            <a:ext cx="316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Fot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Ro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Panorám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y guerr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080" y="318960"/>
            <a:ext cx="8278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En uno de los balcones “mostró” su hi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Michael Jack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6156360" y="4724280"/>
            <a:ext cx="1440000" cy="9446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0"/>
                            </p:stCondLst>
                            <p:childTnLst>
                              <p:par>
                                <p:cTn id="5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85320" y="-41400"/>
            <a:ext cx="31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Sector S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044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097600" y="0"/>
            <a:ext cx="4046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700360" y="0"/>
            <a:ext cx="64436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765000"/>
            <a:ext cx="262728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urlz MT"/>
              </a:rPr>
              <a:t>Conjunto de las dos iglesias, una restos de la guerra y la otra nue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urlz MT"/>
              </a:rPr>
              <a:t>El conjunto es conocido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urlz MT"/>
              </a:rPr>
              <a:t>Hueco de diente y lápiz de lab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0:28:20Z</dcterms:created>
  <dc:creator>Rosa</dc:creator>
  <dc:description/>
  <dc:language>en-US</dc:language>
  <cp:lastModifiedBy>Rosa</cp:lastModifiedBy>
  <dcterms:modified xsi:type="dcterms:W3CDTF">2008-08-27T20:54:06Z</dcterms:modified>
  <cp:revision>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