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0F32-AA00-476A-AC0F-92C35C1C977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45B8-CD2B-4B08-A219-11862FACF7B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5863-1C59-4A76-A7F1-72797B21DAC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15BA-0BB1-48F5-B469-40BC103A113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CB31-8A7A-4B09-A18E-2155D01C5E1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640B-F873-4A64-A052-207D5F9F8FD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20ED-B689-413A-8623-19F187AFEE1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3454-E815-4F6F-BD0B-F9993975C94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F5E0-61CC-4A4F-A8DC-B35D0EB0EB4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AD41-C322-456F-AD50-B4C152496B2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FC57-B051-47A1-8185-9065EF9D782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594A-5F20-4A5F-8A1D-F5CFE5CEFA5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57E7-7B08-414B-BEB9-DFF529AA944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5FC7-108C-4685-B06B-0EDDCA9E240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AA41-1D4B-49A5-9B80-8B7F0376BDD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0A2A-06F3-4DFD-ABCB-56DB27B36CE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138F-E7D2-4414-A04A-F6E55FBD87B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A6B-7D7B-4EF5-8154-B6435C7F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3FF-DE1B-4FF0-91A4-81343EA4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5AF-EEC5-4970-819D-D2591790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B6F-6B22-45F3-8398-7DD294B1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03D-535C-4F7B-B15C-59B56F55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2A5-885A-4A54-A677-12E116DB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8C8-C6C2-461D-BF0F-243075F6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BF5-72ED-4CEE-A93D-79F79D42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44D-1CD5-493E-A75A-D3DAB9B0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8C2-E09D-4BF8-BD5B-D118118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707-5B9B-4B61-9746-F68D09AA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2BC-86BE-4652-8B4D-EB5714A1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5A47-55F8-452F-863F-958358F0E250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La verdad de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0" spc="-1" strike="noStrike">
                <a:solidFill>
                  <a:srgbClr val="663300"/>
                </a:solidFill>
                <a:latin typeface="Arial"/>
              </a:rPr>
              <a:t>Chocola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chokolade"/>
          <p:cNvPicPr/>
          <p:nvPr/>
        </p:nvPicPr>
        <p:blipFill>
          <a:blip r:embed="rId1"/>
          <a:stretch/>
        </p:blipFill>
        <p:spPr>
          <a:xfrm>
            <a:off x="2700360" y="4292640"/>
            <a:ext cx="3743280" cy="1932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8785080" y="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8100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s dos números siguientes son . .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¡ TUS AÑOS !!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¡¡¡Siiiiiii!!! ¡¡¡Tus años!!!)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9 ES EL UNICO AÑO, EN TODA LA ETERNIDAD, EN EL QUE ESTO FUNCIONA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Envía este mail a 4 mujeres y perderás 2 kil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gewicht"/>
          <p:cNvPicPr/>
          <p:nvPr/>
        </p:nvPicPr>
        <p:blipFill>
          <a:blip r:embed="rId1"/>
          <a:srcRect l="0" t="0" r="0" b="6482"/>
          <a:stretch/>
        </p:blipFill>
        <p:spPr>
          <a:xfrm>
            <a:off x="2627280" y="3860640"/>
            <a:ext cx="1660680" cy="256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gewicht"/>
          <p:cNvPicPr/>
          <p:nvPr/>
        </p:nvPicPr>
        <p:blipFill>
          <a:blip r:embed="rId2"/>
          <a:srcRect l="0" t="0" r="0" b="6482"/>
          <a:stretch/>
        </p:blipFill>
        <p:spPr>
          <a:xfrm>
            <a:off x="4500720" y="3860640"/>
            <a:ext cx="1660320" cy="25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Envía este mail a todos los que le gusta el choco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... Y pierde 5 k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ewicht"/>
          <p:cNvPicPr/>
          <p:nvPr/>
        </p:nvPicPr>
        <p:blipFill>
          <a:blip r:embed="rId1"/>
          <a:srcRect l="0" t="0" r="0" b="6482"/>
          <a:stretch/>
        </p:blipFill>
        <p:spPr>
          <a:xfrm>
            <a:off x="1979640" y="515772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gewicht"/>
          <p:cNvPicPr/>
          <p:nvPr/>
        </p:nvPicPr>
        <p:blipFill>
          <a:blip r:embed="rId2"/>
          <a:srcRect l="0" t="0" r="0" b="6482"/>
          <a:stretch/>
        </p:blipFill>
        <p:spPr>
          <a:xfrm>
            <a:off x="3059280" y="515772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gewicht"/>
          <p:cNvPicPr/>
          <p:nvPr/>
        </p:nvPicPr>
        <p:blipFill>
          <a:blip r:embed="rId3"/>
          <a:srcRect l="0" t="0" r="0" b="6482"/>
          <a:stretch/>
        </p:blipFill>
        <p:spPr>
          <a:xfrm>
            <a:off x="4140360" y="515772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gewicht"/>
          <p:cNvPicPr/>
          <p:nvPr/>
        </p:nvPicPr>
        <p:blipFill>
          <a:blip r:embed="rId4"/>
          <a:srcRect l="0" t="0" r="0" b="6482"/>
          <a:stretch/>
        </p:blipFill>
        <p:spPr>
          <a:xfrm>
            <a:off x="5219640" y="515772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gewicht"/>
          <p:cNvPicPr/>
          <p:nvPr/>
        </p:nvPicPr>
        <p:blipFill>
          <a:blip r:embed="rId5"/>
          <a:srcRect l="0" t="0" r="0" b="6482"/>
          <a:stretch/>
        </p:blipFill>
        <p:spPr>
          <a:xfrm>
            <a:off x="6372360" y="5157720"/>
            <a:ext cx="822240" cy="12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Sin embargo, si borras este mail o no lo reenvías, aumentarás 10 ki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gewicht"/>
          <p:cNvPicPr/>
          <p:nvPr/>
        </p:nvPicPr>
        <p:blipFill>
          <a:blip r:embed="rId1"/>
          <a:srcRect l="0" t="0" r="0" b="6482"/>
          <a:stretch/>
        </p:blipFill>
        <p:spPr>
          <a:xfrm>
            <a:off x="197964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gewicht"/>
          <p:cNvPicPr/>
          <p:nvPr/>
        </p:nvPicPr>
        <p:blipFill>
          <a:blip r:embed="rId2"/>
          <a:srcRect l="0" t="0" r="0" b="6482"/>
          <a:stretch/>
        </p:blipFill>
        <p:spPr>
          <a:xfrm>
            <a:off x="305928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gewicht"/>
          <p:cNvPicPr/>
          <p:nvPr/>
        </p:nvPicPr>
        <p:blipFill>
          <a:blip r:embed="rId3"/>
          <a:srcRect l="0" t="0" r="0" b="6482"/>
          <a:stretch/>
        </p:blipFill>
        <p:spPr>
          <a:xfrm>
            <a:off x="414036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gewicht"/>
          <p:cNvPicPr/>
          <p:nvPr/>
        </p:nvPicPr>
        <p:blipFill>
          <a:blip r:embed="rId4"/>
          <a:srcRect l="0" t="0" r="0" b="6482"/>
          <a:stretch/>
        </p:blipFill>
        <p:spPr>
          <a:xfrm>
            <a:off x="521964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gewicht"/>
          <p:cNvPicPr/>
          <p:nvPr/>
        </p:nvPicPr>
        <p:blipFill>
          <a:blip r:embed="rId5"/>
          <a:srcRect l="0" t="0" r="0" b="6482"/>
          <a:stretch/>
        </p:blipFill>
        <p:spPr>
          <a:xfrm>
            <a:off x="637236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gewicht"/>
          <p:cNvPicPr/>
          <p:nvPr/>
        </p:nvPicPr>
        <p:blipFill>
          <a:blip r:embed="rId6"/>
          <a:srcRect l="0" t="0" r="0" b="6482"/>
          <a:stretch/>
        </p:blipFill>
        <p:spPr>
          <a:xfrm>
            <a:off x="1979640" y="321300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gewicht"/>
          <p:cNvPicPr/>
          <p:nvPr/>
        </p:nvPicPr>
        <p:blipFill>
          <a:blip r:embed="rId7"/>
          <a:srcRect l="0" t="0" r="0" b="6482"/>
          <a:stretch/>
        </p:blipFill>
        <p:spPr>
          <a:xfrm>
            <a:off x="3059280" y="321300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gewicht"/>
          <p:cNvPicPr/>
          <p:nvPr/>
        </p:nvPicPr>
        <p:blipFill>
          <a:blip r:embed="rId8"/>
          <a:srcRect l="0" t="0" r="0" b="6482"/>
          <a:stretch/>
        </p:blipFill>
        <p:spPr>
          <a:xfrm>
            <a:off x="4140360" y="321300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gewicht"/>
          <p:cNvPicPr/>
          <p:nvPr/>
        </p:nvPicPr>
        <p:blipFill>
          <a:blip r:embed="rId9"/>
          <a:srcRect l="0" t="0" r="0" b="6482"/>
          <a:stretch/>
        </p:blipFill>
        <p:spPr>
          <a:xfrm>
            <a:off x="5219640" y="321300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gewicht"/>
          <p:cNvPicPr/>
          <p:nvPr/>
        </p:nvPicPr>
        <p:blipFill>
          <a:blip r:embed="rId10"/>
          <a:srcRect l="0" t="0" r="0" b="6482"/>
          <a:stretch/>
        </p:blipFill>
        <p:spPr>
          <a:xfrm>
            <a:off x="6372360" y="3213000"/>
            <a:ext cx="822240" cy="12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Por tal razón reenvié esto a mis ami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o quería correr el riesg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bacon"/>
          <p:cNvPicPr/>
          <p:nvPr/>
        </p:nvPicPr>
        <p:blipFill>
          <a:blip r:embed="rId1"/>
          <a:stretch/>
        </p:blipFill>
        <p:spPr>
          <a:xfrm>
            <a:off x="250920" y="260280"/>
            <a:ext cx="5052960" cy="6337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508720" y="2492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quedar así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El chocolate me va a decir tu 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4149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o hagas tram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cc00"/>
                </a:solidFill>
                <a:latin typeface="Arial"/>
              </a:rPr>
              <a:t>1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¿Cuántas veces por semana te apetece comer chocolate? (debe ser un número entre más de 0 veces y menos de 10 veces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2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ultiplica este número por 2 (para que sea p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Arial"/>
              </a:rPr>
              <a:t>3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ma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Arial"/>
              </a:rPr>
              <a:t>4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ltiplica el resultado por 50 . Voy a esperar a que pongas en marcha la calculador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Arial"/>
              </a:rPr>
              <a:t>5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ya has cumplido años en el 2009 suma 1759.  Si aún no has tenido tu cumple este año suma 1758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Arial"/>
              </a:rPr>
              <a:t>6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hora resta el año en que naciste (número de cuatro dígitos)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resultado es un número de tres dígitos.  El primer dígito es el número de veces que te apetece comer chocolate por semana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chokolade"/>
          <p:cNvPicPr/>
          <p:nvPr/>
        </p:nvPicPr>
        <p:blipFill>
          <a:blip r:embed="rId1"/>
          <a:stretch/>
        </p:blipFill>
        <p:spPr>
          <a:xfrm>
            <a:off x="2700360" y="333360"/>
            <a:ext cx="3743280" cy="193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19:24Z</dcterms:created>
  <dc:creator>DELL</dc:creator>
  <dc:description/>
  <dc:language>en-US</dc:language>
  <cp:lastModifiedBy>DELL</cp:lastModifiedBy>
  <dcterms:modified xsi:type="dcterms:W3CDTF">2009-03-31T05:34:32Z</dcterms:modified>
  <cp:revision>15</cp:revision>
  <dc:subject/>
  <dc:title>The truth about</dc:title>
</cp:coreProperties>
</file>