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Orange%201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CE0-B431-469A-BE70-20C66027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E6F-8DE1-4848-8FC4-A972A328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158-3B2C-4EEC-8328-CD8D4C28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E8E-D625-43BA-980E-6DFA4A63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853C-C829-42AC-97BA-803117BC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C411-91C5-4797-AF63-DAE9D2E4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6F34-ED16-4159-B8B3-1920F10F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928C-4F9F-4D3E-86AF-29F17333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8AD4-2F7D-48E4-81A9-B89388E6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30D6-96EC-443C-BA59-B2FAADC2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30EF-BB3B-4371-A69F-5FCA2EB0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EB9-7795-4FD9-87BD-9D16DB88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36E3-92D3-42F3-9705-C378C22C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D111-8F6D-4385-B9E8-868C7C00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027B-93AE-47D0-870B-7F211618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9200-7DC6-4539-8BD5-27680415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8D93-9EC4-4316-A757-5EBD6119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850-6173-4FD4-91B5-E9141299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5F8-FE24-4BFF-A6D0-87EA2C5D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199-8282-45DD-B37A-8461F5A4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275-633A-475C-9FAF-E5B5CD4B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E2E-60EE-4FAF-8096-8406E6B6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5A1-7EAF-401D-BAB5-DEBDE2FC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521-0B53-43D0-A35E-C5E2278B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1A34-6A61-4B2A-8F83-E91D25F61C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8CEE-F497-4F93-AFA5-77A6EAD885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range%2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90920" y="990720"/>
            <a:ext cx="3504960" cy="220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9320" y="4191120"/>
            <a:ext cx="6705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5000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latin typeface="Arial Black"/>
              </a:rPr>
              <a:t>Emilio Calatayud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5000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1751400"/>
            <a:ext cx="65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8: Déle todo el dinero que quiera gastar. No vaya a sospechar que para disponer del mismo es necesario trabaj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1980000"/>
            <a:ext cx="704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9: Satisfaga todos sus deseos, apetitos, comodidades y placeres. El sacrificio y la austeridad podrían producirle frustracion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15228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10: Póngase de su parte en cualquier conflicto que tenga con sus profesores y vecinos. Piense que todos ellos tienen prejuicios contra su hijo y que de verdad quieren fastidiarlo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cuando su hijo sea ya un delincuente, proclamad que nunca pudisteis hacer nada por él”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0720" y="2209680"/>
            <a:ext cx="76960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50000">
                      <a:srgbClr val="663012"/>
                    </a:gs>
                    <a:gs pos="100000">
                      <a:srgbClr val="d6b19c"/>
                    </a:gs>
                  </a:gsLst>
                  <a:lin ang="10800000"/>
                </a:gradFill>
                <a:latin typeface="Arial Black"/>
              </a:rPr>
              <a:t>Pásalo a tus amig@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50000">
                    <a:srgbClr val="663012"/>
                  </a:gs>
                  <a:gs pos="100000">
                    <a:srgbClr val="d6b19c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80988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990033"/>
                </a:solidFill>
                <a:uFillTx/>
                <a:latin typeface="Bradley Hand ITC"/>
              </a:rPr>
              <a:t>Merece la pe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1476720"/>
            <a:ext cx="7162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3300"/>
                </a:solidFill>
                <a:latin typeface="Arial"/>
              </a:rPr>
              <a:t>El popular juez de menores de Granada, Emilio Calatayud, conocido por sus sentencias educativas y orientadoras, ha publicado un libro: 'Reflexiones de un juez de menores' (editorial Dauro), en el que inserta un 'Decálogo para formar un delincuente'. Es muy interesante, y dice así:</a:t>
            </a: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1980000"/>
            <a:ext cx="763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1: Comience desde la infancia dando a su hijo todo lo que pida. Así crecerá convencido de que el mundo entero le pertene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166104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2: No se preocupe por su educación ética o espiritual. Espere a que alcance la mayoría de edad para que pueda decidir libremente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21326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3: Cuando diga palabrotas, ríaselas. Esto lo animará a hacer cosas más graciosas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205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4: No le regañe ni le diga que está mal algo de lo que hace. Podría crearle complejos de culpabilida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90404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5: Recoja todo lo que él deja tirado: libros, zapatos, ropa, juguetes. Así se acostumbrará a cargar la responsabilidad sobre los demá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19320" y="150768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6: Déjele leer todo lo que caiga en sus manos. Cuide de que sus platos, cubiertos y vasos estén esterilizados, pero no de que su mente se llene de basura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1827720"/>
            <a:ext cx="657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7: Riña a menudo con su cónyuge en presencia del niño, así a él no le dolerá demasiado el día en que la familia, quizá por su propia conducta, quede destrozada para siempre.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illen</dc:creator>
  <dc:description>Adaptado al power por mgs</dc:description>
  <dc:language>en-US</dc:language>
  <cp:lastModifiedBy>VICENTA</cp:lastModifiedBy>
  <dcterms:modified xsi:type="dcterms:W3CDTF">2008-02-05T22:35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