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Orange%201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1A2-FCAD-4B1A-9043-E8106D0A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D5C-6409-4F2E-81FF-E47FA1D2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D0E-8DD5-47CD-89F6-3FC6B507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087-02A0-4DBE-892C-2BD8E2DF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C238-2BD2-47FE-8B97-1FAFFF59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49F7-D7DE-4DDD-BB37-341FD148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4F85-B82E-44D2-B3F3-8E0FA86E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7039-0DB0-4E56-A596-7B16C352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390B-59A6-42EA-BFD8-5C3FA505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878B-8829-4470-95A0-6BABCA57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5559-8105-49D0-8E6D-311F27B4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34B-8EFE-45CC-9E65-9C1519DF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26B1-F274-4D18-8EF7-9726FF81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2169-AF7D-49B1-AECB-50CAC586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18C7-207B-43BA-8816-336B59E0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D1FB-087D-4D90-B70F-2DA62DFA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28BF-E6F9-4CF9-822C-49C47951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C09-DA92-4B7D-B506-68FA3405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306-19F7-4115-B99F-FD78D5BD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3AE-BEB5-4D68-80F7-0381D72B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CCC-FDB5-4DCE-BF42-01DA95B4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5B0-EA42-400D-8A26-C34D524E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8DD-062B-4FAA-861B-1305EAE4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536-0F80-4A94-B906-BBC1D18A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C1C8-C20B-41A9-9A20-3C97E3FC69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8F17-E8AF-41AA-AEAA-8304839543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range%2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90920" y="990720"/>
            <a:ext cx="3504960" cy="220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9320" y="4191120"/>
            <a:ext cx="6705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5000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latin typeface="Arial Black"/>
              </a:rPr>
              <a:t>Emilio Calatayud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5000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1751400"/>
            <a:ext cx="65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8: Déle todo el dinero que quiera gastar. No vaya a sospechar que para disponer del mismo es necesario trabaj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1980000"/>
            <a:ext cx="704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9: Satisfaga todos sus deseos, apetitos, comodidades y placeres. El sacrificio y la austeridad podrían producirle frustracion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15228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10: Póngase de su parte en cualquier conflicto que tenga con sus profesores y vecinos. Piense que todos ellos tienen prejuicios contra su hijo y que de verdad quieren fastidiarlo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cuando su hijo sea ya un delincuente, proclamad que nunca pudisteis hacer nada por él”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0720" y="2209680"/>
            <a:ext cx="76960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50000">
                      <a:srgbClr val="663012"/>
                    </a:gs>
                    <a:gs pos="100000">
                      <a:srgbClr val="d6b19c"/>
                    </a:gs>
                  </a:gsLst>
                  <a:lin ang="10800000"/>
                </a:gradFill>
                <a:latin typeface="Arial Black"/>
              </a:rPr>
              <a:t>Pásalo a tus amig@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50000">
                    <a:srgbClr val="663012"/>
                  </a:gs>
                  <a:gs pos="100000">
                    <a:srgbClr val="d6b19c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80988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990033"/>
                </a:solidFill>
                <a:uFillTx/>
                <a:latin typeface="Bradley Hand ITC"/>
              </a:rPr>
              <a:t>Merece la pe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1476720"/>
            <a:ext cx="7162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3300"/>
                </a:solidFill>
                <a:latin typeface="Arial"/>
              </a:rPr>
              <a:t>El popular juez de menores de Granada, Emilio Calatayud, conocido por sus sentencias educativas y orientadoras, ha publicado un libro: 'Reflexiones de un juez de menores' (editorial Dauro), en el que inserta un 'Decálogo para formar un delincuente'. Es muy interesante, y dice así:</a:t>
            </a: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1980000"/>
            <a:ext cx="763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1: Comience desde la infancia dando a su hijo todo lo que pida. Así crecerá convencido de que el mundo entero le pertene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166104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2: No se preocupe por su educación ética o espiritual. Espere a que alcance la mayoría de edad para que pueda decidir libremente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21326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3: Cuando diga palabrotas, ríaselas. Esto lo animará a hacer cosas más graciosas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205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4: No le regañe ni le diga que está mal algo de lo que hace. Podría crearle complejos de culpabilida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90404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5: Recoja todo lo que él deja tirado: libros, zapatos, ropa, juguetes. Así se acostumbrará a cargar la responsabilidad sobre los demá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19320" y="150768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6: Déjele leer todo lo que caiga en sus manos. Cuide de que sus platos, cubiertos y vasos estén esterilizados, pero no de que su mente se llene de basura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1827720"/>
            <a:ext cx="657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7: Riña a menudo con su cónyuge en presencia del niño, así a él no le dolerá demasiado el día en que la familia, quizá por su propia conducta, quede destrozada para siempre.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illen</dc:creator>
  <dc:description>Adaptado al power por mgs</dc:description>
  <dc:language>en-US</dc:language>
  <cp:lastModifiedBy>VICENTA</cp:lastModifiedBy>
  <dcterms:modified xsi:type="dcterms:W3CDTF">2008-02-05T22:35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