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6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asturias2.wav" ContentType="audio/x-wav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0.jpeg" ContentType="image/jpeg"/>
  <Override PartName="/ppt/media/Langour.wav" ContentType="audio/x-wav"/>
  <Override PartName="/ppt/media/image28.jpeg" ContentType="image/jpeg"/>
  <Override PartName="/ppt/media/image34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4226-DCC0-4C90-BD06-A6ABAA24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C28E-FC03-40B0-99F2-4F99A3D5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5B2-0DC5-4FDA-89AA-654E709B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551-7E2C-4D22-AB61-D870807A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FC9-D896-48F4-AD32-7901B069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9B1B-A3C5-4DE0-8D62-5A39E451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F63-5C5F-4C6E-8F0F-A7421282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FAAD-17B1-48F0-BAEC-74ACD1A0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3D1-F69E-45E5-A579-692AFE67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E802-053A-4BC1-842A-34F8FE48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AAD-7CD8-40F7-AF5D-12BAF73B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84B-7C78-4E2E-808D-12AC2B69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8E84-6CBC-428F-A61B-D6D8A36D5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Langou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asturias2.wav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713800" cy="7499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ff"/>
                </a:solidFill>
                <a:latin typeface="Monotype Corsiva"/>
              </a:rPr>
              <a:t>Hoy es </a:t>
            </a:r>
            <a:fld id="{CB810247-7D6E-4D44-A9E6-1969A07AF74A}" type="datetime2">
              <a:rPr b="1" lang="es-ES_tradnl" sz="4000" spc="-1" strike="noStrike">
                <a:solidFill>
                  <a:srgbClr val="3333ff"/>
                </a:solidFill>
                <a:latin typeface="Monotype Corsiva"/>
              </a:rPr>
              <a:t>viernes, 31 de julio de 2026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ff"/>
                </a:solidFill>
                <a:latin typeface="Monotype Corsiva"/>
              </a:rPr>
              <a:t>Ahora mismo son l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ff"/>
                </a:solidFill>
                <a:latin typeface="Monotype Corsiva"/>
              </a:rPr>
              <a:t>Relájat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ff"/>
                </a:solidFill>
                <a:latin typeface="Monotype Corsiva"/>
              </a:rPr>
              <a:t>y vamos a dar un paseo por Asturias, España, y ten paciencia porque es largo, pero vale la pe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ShockwaveFlash1"/>
          <p:cNvGraphicFramePr/>
          <p:nvPr/>
        </p:nvGraphicFramePr>
        <p:xfrm>
          <a:off x="2124000" y="2060640"/>
          <a:ext cx="446256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060640"/>
                    <a:ext cx="4462560" cy="2087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 advTm="6000">
    <p:randomBar dir="vert"/>
    <p:sndAc>
      <p:stSnd>
        <p:snd r:embed="rId3" name="Langou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9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90520" y="6216480"/>
            <a:ext cx="29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 soy un hombre del sur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620120" cy="5105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06520" y="602136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vo, sol, fatiga y hamb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9760" cy="5810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60320" y="573408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mbre de pan y horizontes, ham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91600" y="6237360"/>
            <a:ext cx="24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jo la piel resecad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135600" y="595008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íos sólidos de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620120" cy="5543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73400" y="6216480"/>
            <a:ext cx="46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el corazón asfixiado sin ver para aliviarte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703600" y="6216480"/>
            <a:ext cx="278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ojos ciegos, los ojos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62520" y="630864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egos de tanto mir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4520" y="638172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 verte Asturias del alma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94600" cy="6073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6050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06880" y="649116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ja de mi misma mad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4032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sturi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352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Victor 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95640" y="189000"/>
            <a:ext cx="4938840" cy="652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50920" y="5734080"/>
            <a:ext cx="31338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atón, no, por favor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e perderías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na canción maravillosa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wheel spokes="8"/>
    <p:sndAc>
      <p:stSnd>
        <p:snd r:embed="rId3" name="asturias2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135240" y="621648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s veces, dos has tenido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620120" cy="5067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07960" y="616572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asión para jug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096400" cy="4543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920320" y="595008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vida en una partid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488360" cy="5572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134520" y="6237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las dos te la juga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620120" cy="540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31240" y="609300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ién derribará este árbo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162920" cy="5400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918880" y="6021360"/>
            <a:ext cx="29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Asturias, ya sin ramaje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620120" cy="5124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40320" y="5805360"/>
            <a:ext cx="515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nudo, seco, clavado, con su raíz entrañable?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56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774880" y="6381720"/>
            <a:ext cx="29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corre por toda Españ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164360" cy="5373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136680" y="609300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pándonos de cor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300720" y="260280"/>
            <a:ext cx="7239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ijón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4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920320" y="621648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rad obreros del mundo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638680" cy="5133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3024360" cy="2268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22520" y="638172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turias si yo pudiera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27 0.03538 C -0.05052 0.03608 -0.05261 0.03654 -0.05486 0.03723 C -0.05747 0.03816 -0.06267 0.04047 -0.06267 0.0407 C -0.07031 0.05596 -0.08125 0.06753 -0.08993 0.0821 C -0.09462 0.09019 -0.09792 0.10222 -0.10417 0.108 C -0.10729 0.12049 -0.10521 0.1154 -0.10938 0.12373 C -0.11129 0.13205 -0.11476 0.1383 -0.11719 0.14616 C -0.11875 0.15102 -0.11788 0.1524 -0.12101 0.15657 C -0.12517 0.16212 -0.12934 0.16489 -0.13281 0.17206 C -0.13386 0.17414 -0.13438 0.17692 -0.13542 0.179 C -0.13733 0.18316 -0.13976 0.18709 -0.14184 0.19103 C -0.14271 0.19288 -0.14445 0.19634 -0.14445 0.19658 C -0.14653 0.20513 -0.15035 0.21184 -0.15486 0.21878 C -0.1559 0.2204 -0.15677 0.22201 -0.15747 0.22386 C -0.15851 0.22618 -0.15886 0.22872 -0.16007 0.2308 C -0.1684 0.24445 -0.16077 0.22641 -0.16528 0.23774 C -0.17118 0.24954 -0.16754 0.24676 -0.17431 0.25 C -0.17986 0.2574 -0.18715 0.26457 -0.19375 0.27058 C -0.20226 0.28746 -0.19705 0.27544 -0.20677 0.28631 C -0.21129 0.2914 -0.21163 0.29602 -0.21719 0.29833 C -0.2184 0.30018 -0.21945 0.3025 -0.22101 0.30365 C -0.22344 0.3055 -0.22882 0.30689 -0.22882 0.30712 C -0.23386 0.31128 -0.23993 0.31313 -0.24445 0.31915 C -0.24809 0.324 -0.2507 0.33094 -0.25486 0.33464 C -0.25955 0.3388 -0.26771 0.33996 -0.27309 0.34158 C -0.27674 0.34505 -0.28351 0.35361 -0.28733 0.35546 C -0.29427 0.36471 -0.30191 0.36956 -0.31059 0.37442 C -0.31233 0.37535 -0.31406 0.37696 -0.3158 0.37789 C -0.3184 0.37928 -0.32361 0.38136 -0.32361 0.38159 C -0.33351 0.39015 -0.34445 0.39385 -0.35608 0.39685 C -0.38264 0.3957 -0.38715 0.39755 -0.40556 0.39177 C -0.41007 0.38783 -0.42222 0.38136 -0.42761 0.37974 C -0.44306 0.36956 -0.4559 0.35661 -0.46649 0.33811 C -0.47205 0.3284 -0.47552 0.31591 -0.48333 0.30874 C -0.48767 0.30018 -0.49358 0.29348 -0.49896 0.28631 C -0.50851 0.27359 -0.51545 0.2574 -0.525 0.24468 C -0.52604 0.24329 -0.52761 0.2426 -0.52882 0.24121 C -0.53073 0.23913 -0.53247 0.23682 -0.53403 0.23427 C -0.53507 0.23265 -0.53559 0.2308 -0.53663 0.22918 C -0.53906 0.22548 -0.54184 0.22225 -0.54445 0.21878 C -0.54583 0.21693 -0.54583 0.21392 -0.54705 0.21184 C -0.54931 0.20791 -0.55486 0.20143 -0.55486 0.20166 C -0.55729 0.19103 -0.56146 0.18016 -0.56528 0.17044 C -0.56649 0.1635 -0.56788 0.15657 -0.5691 0.14963 C -0.5658 0.0555 -0.57083 -0.03793 -0.56007 -0.13067 C -0.55972 -0.1605 -0.56754 -0.22549 -0.55608 -0.26735 C -0.55504 -0.27914 -0.55278 -0.28885 -0.55087 -0.30019 C -0.55226 -0.3328 -0.54514 -0.32701 -0.55486 -0.33303 E">
                                      <p:cBhvr>
                                        <p:cTn id="5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993080" cy="5994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206520" y="630864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 silueta recorta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620120" cy="5467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992320" y="595008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a ese cielo impasi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77200" cy="5810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920680" y="616572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tical, inquebranta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9240" y="6216480"/>
            <a:ext cx="46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me sobre roca firme, herida viva su carne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417080" cy="5560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991960" y="621648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ones de puños gritan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80320" y="623736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 cólera por los 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96000" cy="49910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5651640" y="404640"/>
            <a:ext cx="16570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lumbiello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4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698840" y="6237360"/>
            <a:ext cx="53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ones de corazones golpean contra tus cárce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686720" cy="5334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134880" y="609300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para tu salto últim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062920" cy="5378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06880" y="595008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ívida muerte cobar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561440" cy="56703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6300720" y="115920"/>
            <a:ext cx="18194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ola de Lena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3279960" y="623736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para tu último s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62520" y="595008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yo supiera cant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451640" cy="5589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415600" y="623736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Asturias está aguardánd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97800" cy="49928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768680" y="5950080"/>
            <a:ext cx="533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a en mitad de la tierra, hija de mi misma madr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6703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697400" y="5950080"/>
            <a:ext cx="533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a en mitad de la tierra, hija de mi misma madr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129440" cy="53485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624320" y="6093000"/>
            <a:ext cx="533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a en mitad de la tierra, hija de mi misma madr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00720" y="333360"/>
            <a:ext cx="1257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udillero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777080" cy="58327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24320" y="6216480"/>
            <a:ext cx="533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a en mitad de la tierra, hija de mi misma madr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0278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775240" y="5950080"/>
            <a:ext cx="300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a en mitad de la tierra…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3120" cy="6194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200720" cy="54421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8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625040" y="191880"/>
            <a:ext cx="58622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turias si yo pudiera, si yo supiera cantart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turias verde de montes y negra de minerales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 soy un hombre del sur, polvo, sol, fatiga y hambre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mbre de pan y horizontes, hambre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jo la piel resecada, ríos sólidos de sangr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el corazón asfixiado sin ver para aliviarte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ojos ciegos, los ojos, ciegos de tanto mirart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 verte Asturias lejana, hija de mi misma madre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s veces, dos has tenido ocasión para jugart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vida en una partida y las dos te la jugaste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ién derribará ese árbol, de Asturias, ya sin ramaje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nudo, seco, clavado, con su raíz entrañable?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corre por toda España crispándonos de coraj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rad obreros del mundo, su silueta recortarse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me sobre roca firme, herida viva su carne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ones de puños gritan su cólera por los air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ones de corazones golpean contra tus cárceles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para tu salto último, lívida muerte cobarde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para tu último salto que Asturias está aguardándote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a en mitad de la tierra, hija de mi misma madr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a en mitad de la tierra, hija de mi misma madr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a en mitad de la tierra, hija de mi misma madr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a en mitad de la tierr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5040" y="407664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tical, inquebranta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68320" y="407664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a ese cielo impasi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 rot="5400000">
            <a:off x="329040" y="2846880"/>
            <a:ext cx="1357560" cy="362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Asturias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62160" y="6216480"/>
            <a:ext cx="28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turias verde de monte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77080" cy="5832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07240" y="63086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negra de min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435640" y="189000"/>
            <a:ext cx="15620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vadonga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627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620120" cy="5029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10:13:23Z</dcterms:created>
  <dc:creator/>
  <dc:description/>
  <dc:language>en-US</dc:language>
  <cp:lastModifiedBy>Marcos </cp:lastModifiedBy>
  <dcterms:modified xsi:type="dcterms:W3CDTF">2007-09-27T12:44:00Z</dcterms:modified>
  <cp:revision>9</cp:revision>
  <dc:subject/>
  <dc:title>“Asturias”</dc:title>
</cp:coreProperties>
</file>