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121Alegria%20anar%20Jerusalemw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3358-4BCF-454A-BECF-760B1FCD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E809-CDA7-4D3C-9F50-8FC96D50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817-8D74-484C-AE1F-E492E7FE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14A3-9D6C-433B-8D79-8CDB05A7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9A1D-2C89-4DB9-95DE-9D4FF6F2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B5DE-674E-459A-BBA1-6492B814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C73-2B7C-4181-B61B-EBB33273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EDD-4227-4CF7-A312-56758A88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1DE2-D7B7-452A-9E2D-A8172355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7734-756E-4997-A148-04A4621B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61F-8C00-4571-B288-F4C5827B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190-EE7E-4B6F-9EED-6B6BE87B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CD27-BF66-4494-A902-5D581F66B606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121Alegria%20anar%20Jerusalem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_x000c_15356web.jpg                                                   000275E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162920" y="152280"/>
            <a:ext cx="186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7f3ff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7f3ff"/>
                </a:solidFill>
                <a:latin typeface="Comic Sans MS"/>
              </a:rPr>
              <a:t>Ciclo</a:t>
            </a:r>
            <a:r>
              <a:rPr b="1" lang="ca-ES" sz="3200" spc="-1" strike="noStrike">
                <a:solidFill>
                  <a:srgbClr val="07f3ff"/>
                </a:solidFill>
                <a:latin typeface="Comic Sans MS"/>
              </a:rPr>
              <a:t> C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1414440"/>
            <a:ext cx="8839440" cy="1922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000" spc="-1" strike="noStrike">
                <a:solidFill>
                  <a:srgbClr val="07f3ff"/>
                </a:solidFill>
                <a:latin typeface="Comic Sans MS"/>
              </a:rPr>
              <a:t>Domingo XV</a:t>
            </a:r>
            <a:br>
              <a:rPr sz="6000"/>
            </a:br>
            <a:r>
              <a:rPr b="1" i="1" lang="ca-ES" sz="6000" spc="-1" strike="noStrike">
                <a:solidFill>
                  <a:srgbClr val="07f3ff"/>
                </a:solidFill>
                <a:latin typeface="Comic Sans MS"/>
              </a:rPr>
              <a:t>Tiempo Ordinari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968560" y="4114800"/>
            <a:ext cx="333396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07f3ff"/>
                </a:solidFill>
                <a:latin typeface="Comic Sans MS"/>
              </a:rPr>
              <a:t>11 julio 2010</a:t>
            </a:r>
            <a:r>
              <a:rPr b="0" i="1" lang="ca-ES" sz="4800" spc="-1" strike="noStrike">
                <a:solidFill>
                  <a:srgbClr val="ff072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0" y="57150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7f3ff"/>
                </a:solidFill>
                <a:latin typeface="Comic Sans MS"/>
              </a:rPr>
              <a:t>Música: Salmo para peregrinar a Jerusalén (Sinagoga Hebr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  <p:sndAc>
      <p:stSnd>
        <p:snd r:embed="rId2" name="s121Alegria%20anar%20Jerusalem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c2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st benet\Mis documentos\Mis imágenes\bíblics\tex,map,sim\bibliatwg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47815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0" y="685800"/>
            <a:ext cx="9144000" cy="5214600"/>
          </a:xfrm>
          <a:prstGeom prst="rect">
            <a:avLst/>
          </a:prstGeom>
          <a:solidFill>
            <a:srgbClr val="c7a04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t 30, 10-14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i escuchas la voz del Señor tu Dios, observando sus mandamientos y sus leyes escritas en este libro de la ley, si te vuelves al Señor tu Dios con todo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u corazón y con toda tu alma.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ues el precepto que yo te prescribo hoy no es superior a tus fuerzas ni está fuera de tu alcance. No está en el cielo para que digas: «¿Quién subirá al cielo a buscarlo para que nos lo dé a conocer y lo pongamos en práctica?» Tampoco está más allá de los mares para que digas: «¿Quién pasará al otro lado de los mares a buscarlo para que nos lo dé a conocer y lo pongamos en práctica?» Pues la palabra está muy cerca de ti, en tu boca y en tu corazón, para que la cump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&#13;153549web.jpg                                                  000275E3_x000c_Macintosh HD                   B9BE4824: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437760" y="0"/>
            <a:ext cx="387936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600" spc="-1" strike="noStrike">
                <a:solidFill>
                  <a:srgbClr val="088f0d"/>
                </a:solidFill>
                <a:latin typeface="Comic Sans MS"/>
              </a:rPr>
              <a:t>Salmo </a:t>
            </a:r>
            <a:r>
              <a:rPr b="1" i="1" lang="ca-ES" sz="6000" spc="-1" strike="noStrike">
                <a:solidFill>
                  <a:srgbClr val="088f0d"/>
                </a:solidFill>
                <a:latin typeface="Comic Sans MS"/>
              </a:rPr>
              <a:t>68</a:t>
            </a:r>
            <a:r>
              <a:rPr b="1" i="1" lang="ca-E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04920" y="1219320"/>
            <a:ext cx="86104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Vedlo vosotros, los humildes y alegraos,</a:t>
            </a:r>
            <a:br>
              <a:rPr sz="3200"/>
            </a:b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recobrad el ánimo, los que buscáis a 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57200" y="3200400"/>
            <a:ext cx="8077320" cy="1922760"/>
          </a:xfrm>
          <a:prstGeom prst="rect">
            <a:avLst/>
          </a:prstGeom>
          <a:solidFill>
            <a:srgbClr val="088f0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irijo mi oración a ti, Señor, en el tiempo propicio;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tu inmenso amor respóndeme,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álvame, Dios mío, pues eres fiel.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espóndeme, Señor, pues tu amor es bondadoso;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tu inmensa ternura vuélvete hacia m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&#13;153511web.jpg                                                  000275E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228600" y="53352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bbe0e3"/>
                </a:solidFill>
                <a:latin typeface="Comic Sans MS"/>
              </a:rPr>
              <a:t>Vedlo vosotros, los humildes y alegraos,</a:t>
            </a:r>
            <a:br>
              <a:rPr sz="3200"/>
            </a:br>
            <a:r>
              <a:rPr b="1" i="1" lang="ca-ES" sz="3200" spc="-1" strike="noStrike">
                <a:solidFill>
                  <a:srgbClr val="bbe0e3"/>
                </a:solidFill>
                <a:latin typeface="Comic Sans MS"/>
              </a:rPr>
              <a:t>recobrad el ánimo, los que buscáis a 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838080" y="3429000"/>
            <a:ext cx="7239240" cy="15570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Pero a mí, humilde y afligido,</a:t>
            </a:r>
            <a:br>
              <a:rPr sz="2400"/>
            </a:br>
            <a:r>
              <a:rPr b="0" i="1" lang="es-E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que tu salvación, Dios mío, me restablezca. </a:t>
            </a:r>
            <a:br>
              <a:rPr sz="2400"/>
            </a:br>
            <a:r>
              <a:rPr b="0" i="1" lang="es-E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Yo alabaré el nombre de Dios con cantos, </a:t>
            </a:r>
            <a:br>
              <a:rPr sz="2400"/>
            </a:br>
            <a:r>
              <a:rPr b="0" i="1" lang="es-E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lo ensalzaré con himnos de gratitud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i="1" lang="es-ES" sz="2400" spc="-1" strike="noStrike">
                <a:solidFill>
                  <a:srgbClr val="088f0d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&#13;153515web.jpg                                                  000275E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228600" y="60948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Vedlo vosotros, los humildes y alegraos,</a:t>
            </a:r>
            <a:br>
              <a:rPr sz="3200"/>
            </a:b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recobrad el ánimo, los que buscáis a 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533520" y="3505320"/>
            <a:ext cx="7716600" cy="15570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Vedlo vosotros, los humildes, y alegraos,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ecobrad el ánimo, los que buscáis a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orque el Señor escucha a los desvalidos,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y no rechaza a sus cau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&#13;153541web.jpg                                                  000275E3_x000c_Macintosh HD                   B9BE4824: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380880" y="533520"/>
            <a:ext cx="87631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Vedlo vosotros, los humildes y alegraos,</a:t>
            </a:r>
            <a:br>
              <a:rPr sz="3200"/>
            </a:b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recobrad el ánimo, los que buscáis a 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33520" y="3733920"/>
            <a:ext cx="8153280" cy="1678680"/>
          </a:xfrm>
          <a:prstGeom prst="rect">
            <a:avLst/>
          </a:prstGeom>
          <a:solidFill>
            <a:srgbClr val="0ab51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9f4a"/>
                </a:solidFill>
                <a:latin typeface="Verdana"/>
                <a:ea typeface="Times New Roman"/>
              </a:rPr>
              <a:t>Dios salvará a Sión, reconstruirá las ciudades </a:t>
            </a:r>
            <a:br>
              <a:rPr sz="2400"/>
            </a:br>
            <a:r>
              <a:rPr b="0" i="1" lang="es-ES" sz="2400" spc="-1" strike="noStrike">
                <a:solidFill>
                  <a:srgbClr val="ff9f4a"/>
                </a:solidFill>
                <a:latin typeface="Verdana"/>
                <a:ea typeface="Times New Roman"/>
              </a:rPr>
              <a:t>de Judá: habitarán en ellas y las poseerán; </a:t>
            </a:r>
            <a:br>
              <a:rPr sz="2400"/>
            </a:br>
            <a:r>
              <a:rPr b="0" i="1" lang="es-ES" sz="2400" spc="-1" strike="noStrike">
                <a:solidFill>
                  <a:srgbClr val="ff9f4a"/>
                </a:solidFill>
                <a:latin typeface="Verdana"/>
                <a:ea typeface="Times New Roman"/>
              </a:rPr>
              <a:t>las heredará el linaje de sus siervos,</a:t>
            </a:r>
            <a:br>
              <a:rPr sz="2400"/>
            </a:br>
            <a:r>
              <a:rPr b="0" i="1" lang="es-ES" sz="2400" spc="-1" strike="noStrike">
                <a:solidFill>
                  <a:srgbClr val="ff9f4a"/>
                </a:solidFill>
                <a:latin typeface="Verdana"/>
                <a:ea typeface="Times New Roman"/>
              </a:rPr>
              <a:t>los que aman su nombre vivirán en ellas.</a:t>
            </a:r>
            <a:r>
              <a:rPr b="0" i="1" lang="es-ES" sz="3200" spc="-1" strike="noStrike">
                <a:solidFill>
                  <a:srgbClr val="ff9f4a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st benet\Mis documentos\Mis imágenes\ceramica\excurCeramica\resized_esgVilaCtw.jpg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285840" y="285840"/>
            <a:ext cx="8558280" cy="5338440"/>
          </a:xfrm>
          <a:prstGeom prst="rect">
            <a:avLst/>
          </a:prstGeom>
          <a:solidFill>
            <a:srgbClr val="8a6c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l 1,15-20 </a:t>
            </a:r>
            <a:br>
              <a:rPr sz="24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isto es la imagen del Dios invisible,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l primogénito de toda criatura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n él fueron creadas todas las cosas, las del cielo y las de la tierra, las visibles y las invisibles: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ronos, dominaciones, principados, potestades,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odo lo ha creado Dios por él y para él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isto existe antes que todas las cosa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y todas tienen en él su consistencia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l es también la cabeza del cuerpo, que es la Iglesia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Él es el principio de todo,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l primogénito de los que triunfan sobre la muerte,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y por eso tiene la primacía sobre todas las cosas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Dios, en efecto, tuvo a bien hacer habitar en él la plenitud, y por medio de él reconciliar consigo todas las cosas, tanto las del cielo como las de la tierr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rayendo la paz por medio de su sangre derramada en la cruz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762120" y="6248520"/>
            <a:ext cx="5257800" cy="459720"/>
          </a:xfrm>
          <a:prstGeom prst="rect">
            <a:avLst/>
          </a:prstGeom>
          <a:solidFill>
            <a:srgbClr val="dbc2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Él es la Cabeza y el Cuerpo de la iglesia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&#13;153527web.jpg                                                  000275E3_x000c_Macintosh HD                   B9BE4824: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822960" y="2630520"/>
            <a:ext cx="6410880" cy="1160280"/>
          </a:xfrm>
          <a:prstGeom prst="rect">
            <a:avLst/>
          </a:prstGeom>
          <a:solidFill>
            <a:srgbClr val="33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ff0b02"/>
                </a:solidFill>
                <a:latin typeface="Comic Sans MS"/>
              </a:rPr>
              <a:t>Aleluya</a:t>
            </a:r>
            <a:r>
              <a:rPr b="1" i="1" lang="ca-ES" sz="1800" spc="-1" strike="noStrike">
                <a:solidFill>
                  <a:srgbClr val="ba0e05"/>
                </a:solidFill>
                <a:latin typeface="Comic Sans MS"/>
              </a:rPr>
              <a:t>  </a:t>
            </a:r>
            <a:r>
              <a:rPr b="1" i="1" lang="ca-ES" sz="1800" spc="-1" strike="noStrike">
                <a:solidFill>
                  <a:srgbClr val="ff0b02"/>
                </a:solidFill>
                <a:latin typeface="Comic Sans MS"/>
              </a:rPr>
              <a:t>Jn 6, 63b, 68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600" spc="-1" strike="noStrike">
                <a:solidFill>
                  <a:srgbClr val="ffffff"/>
                </a:solidFill>
                <a:latin typeface="Comic Sans MS"/>
              </a:rPr>
              <a:t>Tus palabras, Señor, son espíritu y vida;</a:t>
            </a:r>
            <a:br>
              <a:rPr sz="2600"/>
            </a:br>
            <a:r>
              <a:rPr b="1" i="1" lang="ca-ES" sz="2600" spc="-1" strike="noStrike">
                <a:solidFill>
                  <a:srgbClr val="ffffff"/>
                </a:solidFill>
                <a:latin typeface="Comic Sans MS"/>
              </a:rPr>
              <a:t>tú tienes palabras de vida etern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_x000e_009018(87).jpg                                                 0000001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209680" y="6400800"/>
            <a:ext cx="6553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mic Sans MS"/>
              </a:rPr>
              <a:t>Afueras de Jericó,dirección a Betània y Jerusalén</a:t>
            </a: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52280" y="304920"/>
            <a:ext cx="8991720" cy="5544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8c0601"/>
                </a:solidFill>
                <a:latin typeface="Comic Sans MS"/>
              </a:rPr>
              <a:t>Lc 10 , 25-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 levantó entonces un maestro de la ley y le dijo para tenderle una trampa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Maestro, ¿qué debo hacer para alcanzar la vida eterna?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Jesús le contestó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¿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Qué está escrito en la ley? ¿Qué lees en ella?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maestro de la ley respondió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Amarás al Señor tu Dios con todo tu corazón, con toda tu alma, con todas tus fuerzas y con toda tu mente; y a tu prójimo como a ti mismo.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Jesús le dijo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Has respondido correctamente. Haz eso y vivirás.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o él, queriendo justificarse, preguntó a Jesús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¿Y quién es mi prójimo?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Jesús le respondió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Un hombre bajaba de Jerusalén a Jericó y cayó en manos de unos salteadores que, después de desnudarlo y golpearlo sin piedad, se alejaron dejándolo medio muerto. Un sacerdote bajaba casualmente por aquel camino y, al verlo, se desvió y pasó de largo. Igualmente un levita que pasó por aquel lugar, al verlo, se desvió y pasó de largo. Pero un samaritano que iba de viaje, al llegar junto a él y verlo, sintió lástima. Se acercó y le vendó las heridas después de habérselas curado con aceite y vino; luego lo montó en su cabalgadura, lo llevó al mesón y cuidó de él. Al día siguiente, sacando dos denarios, se los dió al mesonero, diciendo: «Cuida de él, y lo que gastes de más te lo pagaré a mi vuelta». ¿Quién de los tres te parece que fue prójimo del que cayó en manos de los salteador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otro contestó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El que tuvo compasión de él.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Jesús le dijo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Vete y haz tú lo mismo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9T14:42:17Z</dcterms:created>
  <dc:creator>JOAN RAMIREZ</dc:creator>
  <dc:description/>
  <dc:language>en-US</dc:language>
  <cp:lastModifiedBy>Usuario</cp:lastModifiedBy>
  <dcterms:modified xsi:type="dcterms:W3CDTF">2010-07-05T22:26:43Z</dcterms:modified>
  <cp:revision>15</cp:revision>
  <dc:subject/>
  <dc:title>Presentación de PowerPoint</dc:title>
</cp:coreProperties>
</file>