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Endless%20lov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215-CE18-4A5E-A4BF-3C0AC994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7B6-E08F-4550-9334-12BB5A9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C62-A329-410A-B6E4-CF9A7E39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B60-6E7D-4ADD-9700-3761F7B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C84-2482-4F21-84EF-9C9CC6DF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D1B-2868-4B8C-9D07-4667DA9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474-386F-41B1-9C0D-EE8D6C22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586-F4FF-4C0A-931C-37C05444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DE3-D4CD-47B3-A0DA-2E2CDAD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0EC-3CF1-4F1E-B4BF-D9B7D3A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02A-47D4-4CDA-99EE-20C560C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684-8D2F-465B-ABF0-CBD9FFE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C836-3E57-49FF-882B-EA8E8184405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dless%20lo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4221000"/>
            <a:ext cx="633744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ZÚCAR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2" name="Endless%20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0464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Muy bien Pedro, yo les enseñ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muchas cosas a ustedes, mas h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tu me enseñaste algo màs profundo que todo lo que yo ya sabía. ¡Ahora  sé que Dios es nuestra azúcar y 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està todos los días endulza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nuestra vida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3880" y="549360"/>
            <a:ext cx="78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Le dio un beso y salió sorprend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por la respuesta de aquel niñ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9360" y="620280"/>
            <a:ext cx="831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La sabiduría no esta en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conocimiento sino en la vivencia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Dios en nuestras vidas.  Teorí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existen muchas,  pero dulzura co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la de Dios aun no existe ni en 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mejores azucares.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20600" y="764640"/>
            <a:ext cx="7215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Que tengas un buen día y no 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olvides colocar azúcar en 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vid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¡CON MUCHO CARIÑO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MUCHA AZUC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97840" y="3789360"/>
            <a:ext cx="738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Un día la profesora pregunt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a los niños quien sabía explic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quien era Di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6800" y="404640"/>
            <a:ext cx="769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Uno de los niños levantó la m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y dij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6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9160" y="404640"/>
            <a:ext cx="710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Dios es nuestro Padre.  El hi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la tierra, el mar y todo lo 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està en ella. Nos hizo com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hijos de El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2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3640" y="3645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La profesora, buscando mà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respuestas, fue màs lej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5400" y="3716280"/>
            <a:ext cx="75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¿Cómo saben que Dios existe s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nunca lo viero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Todo el salón quedó en silenci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7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74960" y="549360"/>
            <a:ext cx="71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mic Sans MS"/>
              </a:rPr>
              <a:t>Pedro, un niñito muy tímid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mic Sans MS"/>
              </a:rPr>
              <a:t>levantó sus manitas y dij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7920" y="1989000"/>
            <a:ext cx="7907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Mi madre dice que Dios es co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el azúcar en mi leche que me h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todas las mañanas, yo no veo 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azúcar que està dentro de la taz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mezclada con la leche, mas si 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la tuviera no tendría sabor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1052640"/>
            <a:ext cx="554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Dios existe, El està siempre en medio de nosotros sòlo que no 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vemos, pero si el se fuera nuestra vida quedaría sin sabor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La profesora sonrió y dijo:</a:t>
            </a:r>
            <a:r>
              <a:rPr b="1" i="1" lang="es-PE" sz="4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3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3:17:27Z</dcterms:created>
  <dc:creator>Carnieri</dc:creator>
  <dc:description/>
  <dc:language>en-US</dc:language>
  <cp:lastModifiedBy>xp</cp:lastModifiedBy>
  <dcterms:modified xsi:type="dcterms:W3CDTF">2008-05-23T23:25:56Z</dcterms:modified>
  <cp:revision>4</cp:revision>
  <dc:subject>EHE</dc:subject>
  <dc:title>Açúcar</dc:title>
</cp:coreProperties>
</file>