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Aranjuez_Paco%20de%20Lucia-Al%20Dimeola_(32-8)_3'00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BCB-2156-42AB-9304-1E4B6622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2AF-A42A-4E8C-8C76-09745DD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90F-5CCC-444F-B067-CEF48BAA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761-AD38-4D69-84A5-5DFD8ACD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B67-4B68-4CB8-8C53-AF75D42B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721-098F-4A87-BD84-A126CDC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FFD-2C82-4E10-B794-7FAE8E9D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C1F-79D0-4D18-98E9-3755227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3AE-C159-424D-B6FB-D005C95A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469-FA38-4442-9C5B-C7422BC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4F7-81E1-4DF6-B901-2BE643E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00A-45FF-42D3-9CB7-89A7529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F9CC-7E0E-400A-8083-1FC973036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anjuez_Paco%20de%20Lucia-Al%20Dimeola_(32-8)_3&apos;00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uthorstream.com/Presentation/aSGuest15087-165012-doug-landis-art-without-hands-entertainment-ppt-powerpoint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Dibujos con lápiz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(IMPORTANTE: por favor verlo hasta el fi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709320" y="60199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836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l arte de Doug La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08.jpg"/>
          <p:cNvPicPr/>
          <p:nvPr/>
        </p:nvPicPr>
        <p:blipFill>
          <a:blip r:embed="rId1"/>
          <a:stretch/>
        </p:blipFill>
        <p:spPr>
          <a:xfrm>
            <a:off x="1666800" y="0"/>
            <a:ext cx="5810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09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0.gif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Olvidé decirles que este artista </a:t>
            </a:r>
            <a:br>
              <a:rPr sz="3200"/>
            </a:br>
            <a:r>
              <a:rPr b="1" lang="en-US" sz="3200" spc="-1" strike="noStrike" u="sng">
                <a:solidFill>
                  <a:srgbClr val="604a7b"/>
                </a:solidFill>
                <a:uFillTx/>
                <a:latin typeface="Calibri"/>
              </a:rPr>
              <a:t>no tiene manos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y que dibuja con su boc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01.jpg"/>
          <p:cNvPicPr/>
          <p:nvPr/>
        </p:nvPicPr>
        <p:blipFill>
          <a:blip r:embed="rId1"/>
          <a:stretch/>
        </p:blipFill>
        <p:spPr>
          <a:xfrm>
            <a:off x="741240" y="0"/>
            <a:ext cx="765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Buscamos excusas para no hacer cosas, culpando a las imposibilidades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p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 nos lo proponemos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iempre hay una mane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229360"/>
            <a:ext cx="806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4a7b"/>
                </a:solidFill>
                <a:latin typeface="Arial"/>
              </a:rPr>
              <a:t>Fuente:</a:t>
            </a:r>
            <a:br>
              <a:rPr sz="1400"/>
            </a:br>
            <a:br>
              <a:rPr sz="14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uthorstream.com/Presentation/aSGuest15087-165012-doug-landis-art-without-hands-entertainment-ppt-powerpoint/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12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2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3.jpg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4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5.gif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6.jpg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07.jpg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6:51:04Z</dcterms:created>
  <dc:creator>789</dc:creator>
  <dc:description/>
  <dc:language>en-US</dc:language>
  <cp:lastModifiedBy>.</cp:lastModifiedBy>
  <dcterms:modified xsi:type="dcterms:W3CDTF">2009-07-31T06:27:07Z</dcterms:modified>
  <cp:revision>0</cp:revision>
  <dc:subject>Dibujos con lápiz</dc:subject>
  <dc:title>El arte de Doug Landis</dc:title>
</cp:coreProperties>
</file>