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Roger%20Williams%20-%20Till.wav" ContentType="audio/x-wav"/>
  <Override PartName="/ppt/media/image18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D6A-7E32-45E3-BA2A-7A8BD2A1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D8A-4789-4595-BB49-A79D55D7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D47-34E9-4F54-9347-F4A00007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B01-E39B-4889-BAEA-C2E7F207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B21-F843-4B7A-80BB-83735A50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BA1-F0E4-4ED7-A43D-84869AD6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020-3C67-41D3-92E8-7EC015B7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230-66A9-4AB4-AC86-693A5BA3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7A9-DE6E-4A75-AE61-418FF445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AC8-CADE-4606-8A28-65CF003E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041-F6D5-4FDF-9B08-47E010CD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6A0-4894-4A7D-B847-BE3AD97E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3F96-9209-4E14-8364-BC09D915375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Roger%20William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ini11"/>
          <p:cNvPicPr/>
          <p:nvPr/>
        </p:nvPicPr>
        <p:blipFill>
          <a:blip r:embed="rId1"/>
          <a:stretch/>
        </p:blipFill>
        <p:spPr>
          <a:xfrm>
            <a:off x="2209680" y="228600"/>
            <a:ext cx="1676520" cy="3200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2" name="Picture 5" descr="mini9"/>
          <p:cNvPicPr/>
          <p:nvPr/>
        </p:nvPicPr>
        <p:blipFill>
          <a:blip r:embed="rId2"/>
          <a:stretch/>
        </p:blipFill>
        <p:spPr>
          <a:xfrm>
            <a:off x="5257800" y="228600"/>
            <a:ext cx="1676520" cy="3124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3" name="Picture 8" descr="mini1"/>
          <p:cNvPicPr/>
          <p:nvPr/>
        </p:nvPicPr>
        <p:blipFill>
          <a:blip r:embed="rId3"/>
          <a:stretch/>
        </p:blipFill>
        <p:spPr>
          <a:xfrm>
            <a:off x="304920" y="3581280"/>
            <a:ext cx="1676160" cy="30481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4" name="Picture 9" descr="mini10"/>
          <p:cNvPicPr/>
          <p:nvPr/>
        </p:nvPicPr>
        <p:blipFill>
          <a:blip r:embed="rId4"/>
          <a:stretch/>
        </p:blipFill>
        <p:spPr>
          <a:xfrm>
            <a:off x="7162920" y="3429000"/>
            <a:ext cx="1676160" cy="3200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45" name="Text Box 10"/>
          <p:cNvSpPr/>
          <p:nvPr/>
        </p:nvSpPr>
        <p:spPr>
          <a:xfrm>
            <a:off x="2143080" y="45720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3300"/>
                </a:solidFill>
                <a:latin typeface="Times New Roman"/>
              </a:rPr>
              <a:t>Acuarelas de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981080" y="51055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3300"/>
                </a:solidFill>
                <a:latin typeface="Times New Roman"/>
              </a:rPr>
              <a:t>Marcel Reynae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857680" y="6000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663300"/>
                </a:solidFill>
                <a:latin typeface="Times New Roman"/>
              </a:rPr>
              <a:t>Musica: Roger Willi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10 CuadroTexto"/>
          <p:cNvSpPr/>
          <p:nvPr/>
        </p:nvSpPr>
        <p:spPr>
          <a:xfrm>
            <a:off x="2102400" y="3905280"/>
            <a:ext cx="48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PROVERBIOS CON HUM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052" descr="aqua17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1143000"/>
            <a:ext cx="67867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54"/>
          <p:cNvSpPr/>
          <p:nvPr/>
        </p:nvSpPr>
        <p:spPr>
          <a:xfrm>
            <a:off x="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Times New Roman"/>
              </a:rPr>
              <a:t>Los jóvenes piensan que los viejos son tontos; los viejos saben que los jóvenes lo so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Rectángulo"/>
          <p:cNvSpPr/>
          <p:nvPr/>
        </p:nvSpPr>
        <p:spPr>
          <a:xfrm>
            <a:off x="500040" y="57150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-Mi mujer es un ángel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-¡Que suerte tienes, la mía todavía vive"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aqua13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71720" y="1071720"/>
            <a:ext cx="6715080" cy="4857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500040" y="54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madurez del hombre es haber vuelto a encontrar la seriedad con la que jugaba cuando era niñ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4 Rectángulo"/>
          <p:cNvSpPr/>
          <p:nvPr/>
        </p:nvSpPr>
        <p:spPr>
          <a:xfrm>
            <a:off x="1214280" y="604836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Mi tía toca el violín y mi tío, la viol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aqua12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357200" y="785880"/>
            <a:ext cx="6715080" cy="4857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85716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Nada va más deprisa que los añ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4 Rectángulo"/>
          <p:cNvSpPr/>
          <p:nvPr/>
        </p:nvSpPr>
        <p:spPr>
          <a:xfrm>
            <a:off x="642960" y="578628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No importa el tamaño de la pieza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no el tiempo  que esté ties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aqua6Copy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83" name="Text Box 10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uando era joven decía: “ ya verás cuando tenga cincuenta años” Tengo cincuenta años y no he visto nad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4 Rectángulo"/>
          <p:cNvSpPr/>
          <p:nvPr/>
        </p:nvSpPr>
        <p:spPr>
          <a:xfrm>
            <a:off x="428760" y="58579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er viejo no es un problema ni un estorbo, pues  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viejos son los caminos y  todavía echan polvo"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aqua9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4280" y="928800"/>
            <a:ext cx="6715440" cy="4429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1280" y="3240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En los ojos del joven arde la llama, en los ojos del viejo  brilla la luz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Rectángulo"/>
          <p:cNvSpPr/>
          <p:nvPr/>
        </p:nvSpPr>
        <p:spPr>
          <a:xfrm>
            <a:off x="142920" y="53989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Cuando una dama dice: ¡no!, quiere decir quizás; 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cuando dice ¡quizás!, quiere  decir sí; y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 dice sí, ¡no es una dama!"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aqua5Copy"/>
          <p:cNvPicPr/>
          <p:nvPr/>
        </p:nvPicPr>
        <p:blipFill>
          <a:blip r:embed="rId1"/>
          <a:stretch/>
        </p:blipFill>
        <p:spPr>
          <a:xfrm>
            <a:off x="785880" y="1000080"/>
            <a:ext cx="7572240" cy="471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071720" y="0"/>
            <a:ext cx="695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iniciativa de la juventud vale tanto como la experiencia de los viej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4 Rectángulo"/>
          <p:cNvSpPr/>
          <p:nvPr/>
        </p:nvSpPr>
        <p:spPr>
          <a:xfrm>
            <a:off x="642960" y="571500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*"Sea consciente ¡use condón!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   Más vale prevenir que  alimentar"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59"/>
          <p:cNvPicPr/>
          <p:nvPr/>
        </p:nvPicPr>
        <p:blipFill>
          <a:blip r:embed="rId1"/>
          <a:stretch/>
        </p:blipFill>
        <p:spPr>
          <a:xfrm>
            <a:off x="1143000" y="785880"/>
            <a:ext cx="6715080" cy="4857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92" name="Text Box 7"/>
          <p:cNvSpPr/>
          <p:nvPr/>
        </p:nvSpPr>
        <p:spPr>
          <a:xfrm>
            <a:off x="1214280" y="123840"/>
            <a:ext cx="67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Siempre hay un niño en todos los hombr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4 Rectángulo"/>
          <p:cNvSpPr/>
          <p:nvPr/>
        </p:nvSpPr>
        <p:spPr>
          <a:xfrm>
            <a:off x="928800" y="56894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*"Hay tres tipos de Mujeres:  1)las lindas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  2)las  inteligentes y  3)la mayoría."  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55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857160" y="6072120"/>
            <a:ext cx="74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A cada edad le cae bien una conducta diferent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Rectángulo"/>
          <p:cNvSpPr/>
          <p:nvPr/>
        </p:nvSpPr>
        <p:spPr>
          <a:xfrm>
            <a:off x="1643040" y="0"/>
            <a:ext cx="57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sexo sin boda es tan bueno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omo el whisky sin  sod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57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285840" y="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Feliz el que fue joven en su juventud y                                    feliz el que fue sabio en su vejez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500120" y="584028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os jóvenes van en grupo, los adultos en parejas, y los viejos van sol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hampagne"/>
          <p:cNvPicPr/>
          <p:nvPr/>
        </p:nvPicPr>
        <p:blipFill>
          <a:blip r:embed="rId1"/>
          <a:stretch/>
        </p:blipFill>
        <p:spPr>
          <a:xfrm>
            <a:off x="857160" y="857160"/>
            <a:ext cx="7500960" cy="5000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304920" y="5867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ESTO DE LOS AÑOS YO NO LO ENTIENDO, QUE AUNQUE ES BUENO CUMPLIRLOS, NO LO ES TENERL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6"/>
          <p:cNvSpPr/>
          <p:nvPr/>
        </p:nvSpPr>
        <p:spPr>
          <a:xfrm>
            <a:off x="1143000" y="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Todos deseamos llegar a viejos y todos negamos que hemos llegad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aqua3Copy"/>
          <p:cNvPicPr/>
          <p:nvPr/>
        </p:nvPicPr>
        <p:blipFill>
          <a:blip r:embed="rId1"/>
          <a:stretch/>
        </p:blipFill>
        <p:spPr>
          <a:xfrm>
            <a:off x="1214280" y="928800"/>
            <a:ext cx="6715440" cy="485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95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nvejecer es el único medio de vivir mucho tiemp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1071720" y="5832360"/>
            <a:ext cx="70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i Marìa concibió sin pecar ¿Por qué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yo no puedo  pecar sin concebir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5" descr="45"/>
          <p:cNvPicPr/>
          <p:nvPr/>
        </p:nvPicPr>
        <p:blipFill>
          <a:blip r:embed="rId1"/>
          <a:stretch/>
        </p:blipFill>
        <p:spPr>
          <a:xfrm>
            <a:off x="1143000" y="571680"/>
            <a:ext cx="671508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4 Rectángulo"/>
          <p:cNvSpPr/>
          <p:nvPr/>
        </p:nvSpPr>
        <p:spPr>
          <a:xfrm>
            <a:off x="285840" y="507204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urioso pensamiento:"Todo aquel  que profane mi tumba tendra años de sufrimientos y sus seguidores moriran en lotes“.                       Simon Bolivar......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3 Imagen" descr="1cib2.gif"/>
          <p:cNvPicPr/>
          <p:nvPr/>
        </p:nvPicPr>
        <p:blipFill>
          <a:blip r:embed="rId2"/>
          <a:stretch/>
        </p:blipFill>
        <p:spPr>
          <a:xfrm>
            <a:off x="8215200" y="600084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aqua7Copy"/>
          <p:cNvPicPr/>
          <p:nvPr/>
        </p:nvPicPr>
        <p:blipFill>
          <a:blip r:embed="rId1"/>
          <a:stretch/>
        </p:blipFill>
        <p:spPr>
          <a:xfrm>
            <a:off x="1214280" y="1071720"/>
            <a:ext cx="6715440" cy="4857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71280" y="1173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edad madura es aquella en la cual se es todavía joven, pero con mucho más esfuerz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4 Rectángulo"/>
          <p:cNvSpPr/>
          <p:nvPr/>
        </p:nvSpPr>
        <p:spPr>
          <a:xfrm>
            <a:off x="714240" y="590400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Después de hacer el amor, da las gracias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 ... Por  educación sexual"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2"/>
          <p:cNvPicPr/>
          <p:nvPr/>
        </p:nvPicPr>
        <p:blipFill>
          <a:blip r:embed="rId1"/>
          <a:stretch/>
        </p:blipFill>
        <p:spPr>
          <a:xfrm>
            <a:off x="1214280" y="1357200"/>
            <a:ext cx="6715440" cy="4500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De mis disparates de juventud, lo que me da más pena,       no es el haberlos cometido, sino el no poder volver                 a cometerl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4 Rectángulo"/>
          <p:cNvSpPr/>
          <p:nvPr/>
        </p:nvSpPr>
        <p:spPr>
          <a:xfrm>
            <a:off x="428760" y="5761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abogado y las prostitutas son igualitos: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  si  no le pagas por  adelantado: ¡no se mueven!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qua4 copyCopy"/>
          <p:cNvPicPr/>
          <p:nvPr/>
        </p:nvPicPr>
        <p:blipFill>
          <a:blip r:embed="rId1"/>
          <a:stretch/>
        </p:blipFill>
        <p:spPr>
          <a:xfrm>
            <a:off x="1214280" y="928800"/>
            <a:ext cx="6715440" cy="4857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9" name="Text Box 7"/>
          <p:cNvSpPr/>
          <p:nvPr/>
        </p:nvSpPr>
        <p:spPr>
          <a:xfrm>
            <a:off x="495360" y="1951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nvejecer es pasar de la pasión a la compas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4 Rectángulo"/>
          <p:cNvSpPr/>
          <p:nvPr/>
        </p:nvSpPr>
        <p:spPr>
          <a:xfrm>
            <a:off x="1143000" y="59770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La leche en polvo... ¿No es redundancia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39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929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Muchas personas no cumplen los ochenta porque intentan durante demasiado tiempo quedarse en los cuarent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4 Rectángulo"/>
          <p:cNvSpPr/>
          <p:nvPr/>
        </p:nvSpPr>
        <p:spPr>
          <a:xfrm>
            <a:off x="285840" y="583236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amor es como la enfermedad: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empre termina en  la cama"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4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4280" y="1428840"/>
            <a:ext cx="6715440" cy="450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250920" y="7128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El que no es bello a los veinte, ni fuerte a los treinta, ni rico a los cuarenta, ni sabio a los cincuenta, nunca será ni bello, ni fuerte, ni rico, ni sabi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4 Rectángulo"/>
          <p:cNvSpPr/>
          <p:nvPr/>
        </p:nvSpPr>
        <p:spPr>
          <a:xfrm>
            <a:off x="642960" y="61196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La rama femenina va siempre detrás del tronco"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39 bis"/>
          <p:cNvPicPr/>
          <p:nvPr/>
        </p:nvPicPr>
        <p:blipFill>
          <a:blip r:embed="rId1"/>
          <a:stretch/>
        </p:blipFill>
        <p:spPr>
          <a:xfrm>
            <a:off x="1357200" y="1071720"/>
            <a:ext cx="6715080" cy="4857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307800" y="4608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A los veinte años reina la  voluntad, a los treinta el espíritu, a los cuarenta el juici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Rectángulo"/>
          <p:cNvSpPr/>
          <p:nvPr/>
        </p:nvSpPr>
        <p:spPr>
          <a:xfrm>
            <a:off x="928800" y="583236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ubstancia nueva contra el SIDA: 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Nitrato Demeterlo.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44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s verdad que cuando se pasa de los sesenta son muy pocas las cosas que nos parecen disparat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4 Rectángulo"/>
          <p:cNvSpPr/>
          <p:nvPr/>
        </p:nvSpPr>
        <p:spPr>
          <a:xfrm>
            <a:off x="1357200" y="60483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Vagina llena... ¡ con razón contenta !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21:25:02Z</dcterms:created>
  <dc:creator/>
  <dc:description/>
  <dc:language>en-US</dc:language>
  <cp:lastModifiedBy/>
  <dcterms:modified xsi:type="dcterms:W3CDTF">2012-02-09T03:10:07Z</dcterms:modified>
  <cp:revision>32</cp:revision>
  <dc:subject/>
  <dc:title>ACQUARELAS</dc:title>
</cp:coreProperties>
</file>