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rnesto%20Cortazar%20-%20leaves_in_the_wind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7BC-A760-4464-8D77-62258D21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F28-873F-4918-9735-20973664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4CF-D520-4799-A24A-6BF43364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B5E-B039-4854-81E2-8C39B4AD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CFB-F5A3-4F15-87F3-C76E9429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DDF-8EA2-42D6-9636-FC4633A3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DBC-7FB9-4B95-BA3C-8CC65AF1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D78-6763-4646-BD21-6FBDB7CF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71A-3CBB-48B0-8990-E1FF4498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D1D-87EC-44EE-B0C4-D0F8E9C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9AB-41F8-4AB3-A607-70349380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883-3748-40EC-AC0A-5B673190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68F-3D93-429A-97C3-C96DAEB79C6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rnesto%20Cortazar%20-%20leaves_in_the_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962440" y="3100320"/>
            <a:ext cx="321912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(Med) NationalGeographicsPhotos2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071720" y="428760"/>
            <a:ext cx="692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braham llevó a su hijo al desierto... Lo ató a un árbol y comenzó a hacer una fogata debajo de sus p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(Med) NationalGeographicsPhotos2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357200" y="428760"/>
            <a:ext cx="635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 las alturas una voz retumb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Abraham, Abraham que hac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Señor, estoy sacrificando a mi hijo, conforme a tu voluntad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75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45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(Med) NationalGeographicsPhotos2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28800" y="428760"/>
            <a:ext cx="72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No Abraham, yo solo quería medir tu fe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Pero Señor...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Suelta al niñ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!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Abraham soltó a su hijo que salió corrien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15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45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8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(Med) NationalGeographicsPhotos2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42960" y="428760"/>
            <a:ext cx="78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entras el niño corría Abraham grita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Vuelve, hijo. Vuelve, el Señor te liberó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El niño paró bien lejos, y grit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Liberó un caraj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 yo no fuera ventrílocuo estaría quema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6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45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8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2:33:03Z</dcterms:created>
  <dc:creator>Beth Norling</dc:creator>
  <dc:description/>
  <dc:language>en-US</dc:language>
  <cp:lastModifiedBy>Elvira</cp:lastModifiedBy>
  <dcterms:modified xsi:type="dcterms:W3CDTF">2008-02-29T02:22:48Z</dcterms:modified>
  <cp:revision>14</cp:revision>
  <dc:subject/>
  <dc:title>A_verdade</dc:title>
</cp:coreProperties>
</file>