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rnesto%20Cortazar%20-%20leaves_in_the_wind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DE1-EE83-4914-9330-0D593E69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780-E8E7-4470-96B9-1543458B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6A9-3AFD-4F73-9462-C46794F2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719-CF00-453C-9BCE-F43E060E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0B2-A4F7-4110-A2B8-A61E4ABB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14E-D0CC-4502-9394-DC815E0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4A6-8244-42A3-9FCE-908B8A9E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63D-245B-4125-A8AA-54957D66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ED7-6018-4552-9628-61171E1C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B33-95AA-47D3-8CC0-930230F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609-294A-4D2E-A660-6B55C84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E47-3553-454B-A81B-7DFE7834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91AE-BE97-4E9A-B7CA-1C738435A3F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nesto%20Cortazar%20-%20leaves_in_the_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962440" y="3100320"/>
            <a:ext cx="321912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(Med) NationalGeographicsPhotos2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071720" y="428760"/>
            <a:ext cx="692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braham llevó a su hijo al desierto... Lo ató a un árbol y comenzó a hacer una fogata debajo de sus p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(Med) NationalGeographicsPhotos2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357200" y="428760"/>
            <a:ext cx="635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 las alturas una voz retumb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Abraham, Abraham que hac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Señor, estoy sacrificando a mi hijo, conforme a tu voluntad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75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45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(Med) NationalGeographicsPhotos2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28800" y="428760"/>
            <a:ext cx="72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No Abraham, yo solo quería medir tu fe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Pero Señor...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Suelta al niñ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!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Abraham soltó a su hijo que salió corrien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15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45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8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(Med) NationalGeographicsPhotos20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42960" y="428760"/>
            <a:ext cx="78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ientras el niño corría Abraham grita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Vuelve, hijo. Vuelve, el Señor te liberó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El niño paró bien lejos, y grit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- Liberó un caraj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 yo no fuera ventrílocuo estaría quema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2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6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45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8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2:33:03Z</dcterms:created>
  <dc:creator>Beth Norling</dc:creator>
  <dc:description/>
  <dc:language>en-US</dc:language>
  <cp:lastModifiedBy>Elvira</cp:lastModifiedBy>
  <dcterms:modified xsi:type="dcterms:W3CDTF">2008-02-29T02:22:48Z</dcterms:modified>
  <cp:revision>14</cp:revision>
  <dc:subject/>
  <dc:title>A_verdade</dc:title>
</cp:coreProperties>
</file>