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4591-C972-4AF3-9A25-6DEC3CAF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AE4A-4FD3-427F-BAFB-A7473935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530-8BA0-4C74-83C5-C6405859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709-C9D4-412D-94F5-136886B8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367-7935-4153-91A5-DF931ED5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13B7-4EF9-4093-AAA4-2136114B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CD8-07B9-4BBB-9D7C-304E15A6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623-2BE7-4CCA-B273-4E4C8960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3229-D799-489D-9092-F9482BE4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7CD-9880-4425-9C4A-EDE147C8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C15A-F502-4266-8652-8C7DD1C1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EEE9-5E9F-4266-AB7D-0FCE4D32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8BFC-EE7B-435C-BD41-2A7B64D1F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1139040"/>
            <a:ext cx="720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 las siguientes fotos puedes observar a varias mujeres, las cuales tienen una expresión similar en sus ros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  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recen estar en un momento muy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Podrías determinar cuál es la causa o razón para que tengan esta expres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571680" y="700200"/>
            <a:ext cx="8001000" cy="5536800"/>
            <a:chOff x="571680" y="700200"/>
            <a:chExt cx="8001000" cy="55368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914400" y="70020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2971800" y="70020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5029200" y="70020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7086600" y="70020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571680" y="227628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6"/>
            <a:stretch/>
          </p:blipFill>
          <p:spPr>
            <a:xfrm>
              <a:off x="2286000" y="227628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4000680" y="227628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8"/>
            <a:stretch/>
          </p:blipFill>
          <p:spPr>
            <a:xfrm>
              <a:off x="5715000" y="227628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9"/>
            <a:stretch/>
          </p:blipFill>
          <p:spPr>
            <a:xfrm>
              <a:off x="7429680" y="227628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0"/>
            <a:stretch/>
          </p:blipFill>
          <p:spPr>
            <a:xfrm>
              <a:off x="571680" y="3868560"/>
              <a:ext cx="1143000" cy="85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11"/>
            <a:stretch/>
          </p:blipFill>
          <p:spPr>
            <a:xfrm>
              <a:off x="2286000" y="3868560"/>
              <a:ext cx="1143000" cy="85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2"/>
            <a:stretch/>
          </p:blipFill>
          <p:spPr>
            <a:xfrm>
              <a:off x="4000680" y="3868560"/>
              <a:ext cx="1143000" cy="85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3"/>
            <a:stretch/>
          </p:blipFill>
          <p:spPr>
            <a:xfrm>
              <a:off x="5715000" y="3868560"/>
              <a:ext cx="1143000" cy="85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4"/>
            <a:stretch/>
          </p:blipFill>
          <p:spPr>
            <a:xfrm>
              <a:off x="7429680" y="3868560"/>
              <a:ext cx="1143000" cy="85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5"/>
            <a:stretch/>
          </p:blipFill>
          <p:spPr>
            <a:xfrm>
              <a:off x="571680" y="537984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6"/>
            <a:stretch/>
          </p:blipFill>
          <p:spPr>
            <a:xfrm>
              <a:off x="2286000" y="537984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7"/>
            <a:stretch/>
          </p:blipFill>
          <p:spPr>
            <a:xfrm>
              <a:off x="4000680" y="537984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8"/>
            <a:stretch/>
          </p:blipFill>
          <p:spPr>
            <a:xfrm>
              <a:off x="5715000" y="537984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9"/>
            <a:stretch/>
          </p:blipFill>
          <p:spPr>
            <a:xfrm>
              <a:off x="7429680" y="5379840"/>
              <a:ext cx="114300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24040" y="2165760"/>
            <a:ext cx="7495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¡¡Todas están a punto de estornuda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 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n embar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bo admitir qu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e encanta tu forma de pens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1:27:49Z</dcterms:created>
  <dc:creator>José Ignacio Sánchez Amezua</dc:creator>
  <dc:description/>
  <dc:language>en-US</dc:language>
  <cp:lastModifiedBy>José Ignacio Sánchez Amezua</cp:lastModifiedBy>
  <dcterms:modified xsi:type="dcterms:W3CDTF">2010-04-18T11:30:54Z</dcterms:modified>
  <cp:revision>1</cp:revision>
  <dc:subject/>
  <dc:title>Diapositiva 1</dc:title>
</cp:coreProperties>
</file>