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5167-D8D4-4C8F-BEE2-1490B7324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82DF-5F01-4C31-9A4B-096F00833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5D29-6401-4F4D-A499-F33A074CB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4C96-BD48-4A10-AC42-1F2B687FD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73D3-A1B7-4C93-9FF2-F37DBC425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83BF-4E27-4F11-9885-A0257D6D0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1B21-1115-4297-9292-6116BE6F2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9DB1-FB31-4668-9263-AF59AB6B2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827F-270B-40C3-952E-01FE3A6C7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AF7C-8821-4E50-B473-BDE70D296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88B8-D824-4FDD-BB86-3CE7DBDC3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B2BA-72CA-4B33-9A35-652B06A3E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BB560-9BBD-4982-8776-3129B38255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71640" y="1139040"/>
            <a:ext cx="7200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n las siguientes fotos puedes observar a varias mujeres, las cuales tienen una expresión similar en sus rostr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  </a:t>
            </a:r>
            <a:br>
              <a:rPr sz="2800"/>
            </a:b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arecen estar en un momento muy pers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¿Podrías determinar cuál es la causa o razón para que tengan esta expresió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571680" y="700200"/>
            <a:ext cx="8001000" cy="5536800"/>
            <a:chOff x="571680" y="700200"/>
            <a:chExt cx="8001000" cy="553680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914400" y="700200"/>
              <a:ext cx="114300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2971800" y="700200"/>
              <a:ext cx="114300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5029200" y="700200"/>
              <a:ext cx="114300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7086600" y="700200"/>
              <a:ext cx="114300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5"/>
            <a:stretch/>
          </p:blipFill>
          <p:spPr>
            <a:xfrm>
              <a:off x="571680" y="2276280"/>
              <a:ext cx="114300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6"/>
            <a:stretch/>
          </p:blipFill>
          <p:spPr>
            <a:xfrm>
              <a:off x="2286000" y="2276280"/>
              <a:ext cx="114300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7"/>
            <a:stretch/>
          </p:blipFill>
          <p:spPr>
            <a:xfrm>
              <a:off x="4000680" y="2276280"/>
              <a:ext cx="114300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8"/>
            <a:stretch/>
          </p:blipFill>
          <p:spPr>
            <a:xfrm>
              <a:off x="5715000" y="2276280"/>
              <a:ext cx="114300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9"/>
            <a:stretch/>
          </p:blipFill>
          <p:spPr>
            <a:xfrm>
              <a:off x="7429680" y="2276280"/>
              <a:ext cx="114300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10"/>
            <a:stretch/>
          </p:blipFill>
          <p:spPr>
            <a:xfrm>
              <a:off x="571680" y="3868560"/>
              <a:ext cx="1143000" cy="85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11"/>
            <a:stretch/>
          </p:blipFill>
          <p:spPr>
            <a:xfrm>
              <a:off x="2286000" y="3868560"/>
              <a:ext cx="1143000" cy="85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12"/>
            <a:stretch/>
          </p:blipFill>
          <p:spPr>
            <a:xfrm>
              <a:off x="4000680" y="3868560"/>
              <a:ext cx="1143000" cy="85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13"/>
            <a:stretch/>
          </p:blipFill>
          <p:spPr>
            <a:xfrm>
              <a:off x="5715000" y="3868560"/>
              <a:ext cx="1143000" cy="85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14"/>
            <a:stretch/>
          </p:blipFill>
          <p:spPr>
            <a:xfrm>
              <a:off x="7429680" y="3868560"/>
              <a:ext cx="1143000" cy="85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15"/>
            <a:stretch/>
          </p:blipFill>
          <p:spPr>
            <a:xfrm>
              <a:off x="571680" y="5379840"/>
              <a:ext cx="114300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" descr=""/>
            <p:cNvPicPr/>
            <p:nvPr/>
          </p:nvPicPr>
          <p:blipFill>
            <a:blip r:embed="rId16"/>
            <a:stretch/>
          </p:blipFill>
          <p:spPr>
            <a:xfrm>
              <a:off x="2286000" y="5379840"/>
              <a:ext cx="114300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17"/>
            <a:stretch/>
          </p:blipFill>
          <p:spPr>
            <a:xfrm>
              <a:off x="4000680" y="5379840"/>
              <a:ext cx="114300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18"/>
            <a:stretch/>
          </p:blipFill>
          <p:spPr>
            <a:xfrm>
              <a:off x="5715000" y="5379840"/>
              <a:ext cx="114300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19"/>
            <a:stretch/>
          </p:blipFill>
          <p:spPr>
            <a:xfrm>
              <a:off x="7429680" y="5379840"/>
              <a:ext cx="1143000" cy="85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824040" y="2165760"/>
            <a:ext cx="7495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¡¡Todas están a punto de estornudar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  </a:t>
            </a:r>
            <a:br>
              <a:rPr sz="3200"/>
            </a:b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in embarg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debo admitir qu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me encanta tu forma de pens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8T11:27:49Z</dcterms:created>
  <dc:creator>José Ignacio Sánchez Amezua</dc:creator>
  <dc:description/>
  <dc:language>en-US</dc:language>
  <cp:lastModifiedBy>José Ignacio Sánchez Amezua</cp:lastModifiedBy>
  <dcterms:modified xsi:type="dcterms:W3CDTF">2010-04-18T11:30:54Z</dcterms:modified>
  <cp:revision>1</cp:revision>
  <dc:subject/>
  <dc:title>Diapositiva 1</dc:title>
</cp:coreProperties>
</file>