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camera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713CF-9478-4CD6-904A-E4496D92C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187D4-FEA2-43A4-8927-E114DA465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8E8A4-29A1-4992-9E4F-CEEAF693F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11F03-BE91-48FB-A13F-16CA32373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B9794-9B9A-4A4E-A051-BB695D9A5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BD688-DEA9-40DC-AEDE-2C7C44EDD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2BE05-8543-4188-B01D-70595118E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4F686-809D-4E67-881D-1EE05C3E4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39160-5196-4265-AF33-B54FCDA65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F0ECE-4039-4D3C-A53C-92E141020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59516-EA7C-40FE-AF86-043B1E7BD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056E2-3237-4943-8E2C-E69A08EAE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639EB-4A58-4A5C-9259-5554EF38E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970C5-28A4-4869-A71E-127ACA9C3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377F2-1AB4-4EEF-96B9-C554354E4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9C2C6-5F6A-4C49-A3FF-E3079D459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D171A-69AE-4458-988B-D442B82A2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4CDA1-8E0D-4CDC-A795-5A8DF06CF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E55F4-4B8F-4C96-9341-47B133F0C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56B24-A7F2-449A-8A90-E91B585E9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53898-0A2D-4CB3-8EDC-B301EBBE7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CC08D-A193-4427-B977-2E5338CBA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ADC30-5EFC-47D2-BF27-7143667EF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62EB7-B16E-4DC6-AAA6-85BCF2ED5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5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Rectangle 26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Rectangle 27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Rectangle 28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7" name="Picture 33" descr="anabnr2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Rectangle 34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BD8B9-3063-4CE1-9D27-376B5E55E2E5}" type="slidenum">
              <a:rPr b="0" lang="es-E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3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Picture 7" descr="ANABNR2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19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E6657-2CF7-49C4-8F32-82BEB86F152D}" type="slidenum">
              <a:rPr b="0" lang="es-E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2"/>
          <p:cNvSpPr/>
          <p:nvPr/>
        </p:nvSpPr>
        <p:spPr>
          <a:xfrm>
            <a:off x="762120" y="2346480"/>
            <a:ext cx="80769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EL REY Y SUS CUATRO ESPOSAS</a:t>
            </a:r>
            <a:r>
              <a:rPr b="0" lang="es-ES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1" name="camera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2"/>
          <p:cNvSpPr/>
          <p:nvPr/>
        </p:nvSpPr>
        <p:spPr>
          <a:xfrm>
            <a:off x="1295280" y="1219320"/>
            <a:ext cx="7162920" cy="53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es-ES" sz="4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¡Ni pensarlo! Contestó la cuarta esposa y se alejó sin decir más palabras. 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Su respuesta penetró en su corazón como un cuchillo filoso. 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1" name="camera.wav"/>
      </p:stSnd>
    </p:sndAc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4"/>
          <p:cNvSpPr/>
          <p:nvPr/>
        </p:nvSpPr>
        <p:spPr>
          <a:xfrm>
            <a:off x="1143000" y="1371600"/>
            <a:ext cx="7467480" cy="49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El entristecido monarca le pregunto a su tercera esposa: Te he amado toda mi vida. Ahora que estoy muriendo,</a:t>
            </a:r>
            <a:r>
              <a:rPr b="1" lang="es-MX" sz="4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es-ES" sz="4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¿estarías dispuesta a seguirme y ser mi compañía?</a:t>
            </a:r>
            <a:endParaRPr b="0" lang="en-US" sz="42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1" name="camera.wav"/>
      </p:stSnd>
    </p:sndAc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8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2"/>
          <p:cNvSpPr/>
          <p:nvPr/>
        </p:nvSpPr>
        <p:spPr>
          <a:xfrm>
            <a:off x="1523880" y="1143000"/>
            <a:ext cx="7162920" cy="48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0" lang="es-ES" sz="4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¡No! Contestó su tercera esposa. ¡La vida es demasiado buena! ¡Cuándo mueras, pienso volverme a casar!" 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 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Su corazón experimentó una fuerte sacudida y se puso fr</a:t>
            </a:r>
            <a:r>
              <a:rPr b="0" lang="es-MX" sz="4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ío</a:t>
            </a:r>
            <a:r>
              <a:rPr b="0" lang="es-ES" sz="4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.</a:t>
            </a:r>
            <a:r>
              <a:rPr b="0" lang="es-ES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1" name="camera.wav"/>
      </p:stSnd>
    </p:sndAc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2"/>
          <p:cNvSpPr/>
          <p:nvPr/>
        </p:nvSpPr>
        <p:spPr>
          <a:xfrm>
            <a:off x="990720" y="1371600"/>
            <a:ext cx="7391160" cy="49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Entonces preguntó a su segunda esposa: "Siempre he venido a ti por ayuda y siempre has estado allí para mí. Cuando muera, ¿estarías dispuesta a seguirme y ser mi compañía?</a:t>
            </a:r>
            <a:endParaRPr b="0" lang="en-US" sz="4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1" name="camera.wav"/>
      </p:stSnd>
    </p:sndAc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2"/>
          <p:cNvSpPr/>
          <p:nvPr/>
        </p:nvSpPr>
        <p:spPr>
          <a:xfrm>
            <a:off x="1219320" y="1066680"/>
            <a:ext cx="7315200" cy="533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¡Lo siento, no puedo ayudarte esta vez!". Contestó la segunda esposa. "Lo más que puedo hacer por ti es enterrarte". </a:t>
            </a:r>
            <a:endParaRPr b="0" lang="en-US" sz="38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38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</a:t>
            </a:r>
            <a:r>
              <a:rPr b="1" lang="es-ES" sz="3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Su respuesta vino como un relámpago estruendoso que devastó al rey. </a:t>
            </a:r>
            <a:endParaRPr b="0" lang="en-US" sz="3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1" name="camera.wav"/>
      </p:stSnd>
    </p:sndAc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2"/>
          <p:cNvSpPr/>
          <p:nvPr/>
        </p:nvSpPr>
        <p:spPr>
          <a:xfrm>
            <a:off x="1066680" y="1179360"/>
            <a:ext cx="7543800" cy="554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es-ES" sz="3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Entonces escuchó una voz: "Me iré contigo y te seguiré dondequiera tu vayas". El rey dirigió la mirada en dirección de la voz y allí estaba su primera esposa. Sé veía tan delgaducha, sufría de desnutrición. Profundamente afectado, el monarca dijo: ¡Debí haberte atendido mejor cuando tuve la oportunidad de hacerlo! </a:t>
            </a:r>
            <a:endParaRPr b="0" lang="en-US" sz="3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1" name="camera.wav"/>
      </p:stSnd>
    </p:sndAc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2"/>
          <p:cNvSpPr/>
          <p:nvPr/>
        </p:nvSpPr>
        <p:spPr>
          <a:xfrm>
            <a:off x="1143000" y="2222640"/>
            <a:ext cx="7315200" cy="26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6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En realidad, todos tenemos cuatro esposas en nuestras vidas.</a:t>
            </a:r>
            <a:r>
              <a:rPr b="0" lang="es-ES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1" name="camera.wav"/>
      </p:stSnd>
    </p:sndAc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4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2"/>
          <p:cNvSpPr/>
          <p:nvPr/>
        </p:nvSpPr>
        <p:spPr>
          <a:xfrm>
            <a:off x="1143000" y="1555920"/>
            <a:ext cx="7315200" cy="42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es-ES" sz="4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Nuestra cuarta esposa es nuestro cuerpo. </a:t>
            </a:r>
            <a:endParaRPr b="0" lang="en-US" sz="42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No importa cuanto tiempo y esfuerzo invirtamos en hacerlo lucir bien, nos dejará cuando muramos. </a:t>
            </a:r>
            <a:endParaRPr b="0" lang="en-US" sz="4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1" name="camera.wav"/>
      </p:stSnd>
    </p:sndAc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2"/>
          <p:cNvSpPr/>
          <p:nvPr/>
        </p:nvSpPr>
        <p:spPr>
          <a:xfrm>
            <a:off x="1143000" y="1397160"/>
            <a:ext cx="7543800" cy="50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es-ES" sz="46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Nuestra tercera esposa son nuestras posesiones, condición social y riqueza. </a:t>
            </a:r>
            <a:endParaRPr b="0" lang="en-US" sz="46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6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Cuando muramos, irán a parar a otros.</a:t>
            </a:r>
            <a:r>
              <a:rPr b="0" lang="es-ES" sz="46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endParaRPr b="0" lang="en-US" sz="4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1" name="camera.wav"/>
      </p:stSnd>
    </p:sndAc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2"/>
          <p:cNvSpPr/>
          <p:nvPr/>
        </p:nvSpPr>
        <p:spPr>
          <a:xfrm>
            <a:off x="1143000" y="1371600"/>
            <a:ext cx="7391520" cy="49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es-ES" sz="4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Nuestra segunda esposa es nuestra familia y amigos. </a:t>
            </a:r>
            <a:endParaRPr b="0" lang="en-US" sz="42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No importa cuanto nos hayan sido de apoyo a nosotros aquí, lo m</a:t>
            </a:r>
            <a:r>
              <a:rPr b="1" lang="es-MX" sz="4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á</a:t>
            </a:r>
            <a:r>
              <a:rPr b="1" lang="es-ES" sz="4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s que podrán hacer es acompañarnos hasta el sepulcro. </a:t>
            </a:r>
            <a:endParaRPr b="0" lang="en-US" sz="4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1" name="camera.wav"/>
      </p:stSnd>
    </p:sndAc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7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2"/>
          <p:cNvSpPr/>
          <p:nvPr/>
        </p:nvSpPr>
        <p:spPr>
          <a:xfrm>
            <a:off x="1219320" y="2514600"/>
            <a:ext cx="72388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Había una vez un rey que ten</a:t>
            </a:r>
            <a:r>
              <a:rPr b="0" lang="es-MX" sz="6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í</a:t>
            </a:r>
            <a:r>
              <a:rPr b="0" lang="es-ES" sz="6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a cuatro esposas. </a:t>
            </a:r>
            <a:endParaRPr b="0" lang="en-US" sz="6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1" name="camera.wav"/>
      </p:stSnd>
    </p:sndAc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2"/>
          <p:cNvSpPr/>
          <p:nvPr/>
        </p:nvSpPr>
        <p:spPr>
          <a:xfrm>
            <a:off x="990720" y="990720"/>
            <a:ext cx="7391160" cy="55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9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Y nuestra primera esposa es nuestra alma, frecuentemente ignorada en la búsqueda </a:t>
            </a:r>
            <a:endParaRPr b="0" lang="en-US" sz="39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9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Sin embargo, nuestra alma es la única que nos acompañar</a:t>
            </a:r>
            <a:r>
              <a:rPr b="1" lang="es-MX" sz="39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á</a:t>
            </a:r>
            <a:r>
              <a:rPr b="1" lang="es-ES" sz="39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dondequiera que vayamos. ¡Así que, cultívala, fortalécela y cuídala ahora!</a:t>
            </a:r>
            <a:r>
              <a:rPr b="0" lang="es-ES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1" name="camera.wav"/>
      </p:stSnd>
    </p:sndAc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2"/>
          <p:cNvSpPr/>
          <p:nvPr/>
        </p:nvSpPr>
        <p:spPr>
          <a:xfrm>
            <a:off x="1143000" y="1432080"/>
            <a:ext cx="7010280" cy="422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es-ES" sz="6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Es el más grande regalo que puedes ofrecerle al mundo. </a:t>
            </a:r>
            <a:endParaRPr b="0" lang="en-US" sz="60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¡Hazla brillar! </a:t>
            </a:r>
            <a:endParaRPr b="0" lang="en-US" sz="6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1" name="camera.wav"/>
      </p:stSnd>
    </p:sndAc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2"/>
          <p:cNvSpPr/>
          <p:nvPr/>
        </p:nvSpPr>
        <p:spPr>
          <a:xfrm>
            <a:off x="1219320" y="2408400"/>
            <a:ext cx="7162560" cy="28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es-ES" sz="4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Haz </a:t>
            </a:r>
            <a:r>
              <a:rPr b="1" lang="es-MX" sz="4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la siguiente</a:t>
            </a:r>
            <a:r>
              <a:rPr b="1" lang="es-ES" sz="4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oración por quienes te han enviado esta reflexión</a:t>
            </a:r>
            <a:r>
              <a:rPr b="0" lang="es-ES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es-MX" sz="4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: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1" name="camera.wav"/>
      </p:stSnd>
    </p:sndAc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9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>
            <a:off x="990720" y="990720"/>
            <a:ext cx="77724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es-ES" sz="36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"Padre nuestro que estás en los cielos</a:t>
            </a:r>
            <a:r>
              <a:rPr b="1" lang="es-MX" sz="36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,</a:t>
            </a:r>
            <a:r>
              <a:rPr b="1" lang="es-ES" sz="36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santificado sea tu nombre</a:t>
            </a:r>
            <a:r>
              <a:rPr b="1" lang="es-MX" sz="36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;</a:t>
            </a:r>
            <a:r>
              <a:rPr b="1" lang="es-ES" sz="36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venga a nosotros tu reino, hágase tu voluntad así en la Tierra como en el cielo. D</a:t>
            </a:r>
            <a:r>
              <a:rPr b="1" lang="es-MX" sz="36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á</a:t>
            </a:r>
            <a:r>
              <a:rPr b="1" lang="es-ES" sz="36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nos hoy nuestro pan de cada día, perdona nuestras ofensas, como también nosotros perdonamos a los que nos ofenden</a:t>
            </a:r>
            <a:r>
              <a:rPr b="1" lang="es-MX" sz="36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;</a:t>
            </a:r>
            <a:r>
              <a:rPr b="1" lang="es-ES" sz="36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no nos dejes caer en tentación y líbranos de todo mal</a:t>
            </a:r>
            <a:r>
              <a:rPr b="1" lang="es-MX" sz="36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”</a:t>
            </a:r>
            <a:r>
              <a:rPr b="1" lang="es-ES" sz="36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Amén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1" name="camera.wav"/>
      </p:stSnd>
    </p:sndAc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2"/>
          <p:cNvSpPr/>
          <p:nvPr/>
        </p:nvSpPr>
        <p:spPr>
          <a:xfrm>
            <a:off x="1066680" y="914400"/>
            <a:ext cx="7543800" cy="572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Ahora, por tu bien envíala a otras diez o más personas.</a:t>
            </a:r>
            <a:endParaRPr b="0" lang="en-US" sz="38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¿Sabes por qué?. </a:t>
            </a:r>
            <a:endParaRPr b="0" lang="en-US" sz="38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</a:t>
            </a:r>
            <a:r>
              <a:rPr b="1" lang="es-ES" sz="3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En un rato mas, diez personas habrán orado por t</a:t>
            </a:r>
            <a:r>
              <a:rPr b="1" lang="es-MX" sz="3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í</a:t>
            </a:r>
            <a:r>
              <a:rPr b="1" lang="es-ES" sz="3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y habrás logrado que muchas personas recen a Dios por otras personas.</a:t>
            </a:r>
            <a:r>
              <a:rPr b="1" lang="es-ES" sz="4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1" name="camera.wav"/>
      </p:stSnd>
    </p:sndAc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2"/>
          <p:cNvSpPr/>
          <p:nvPr/>
        </p:nvSpPr>
        <p:spPr>
          <a:xfrm>
            <a:off x="1066680" y="1066680"/>
            <a:ext cx="7315200" cy="56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es-ES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Luego, piensa por un momento y aprecia el poder de Dios en tu vida, por hacer lo que t</a:t>
            </a:r>
            <a:r>
              <a:rPr b="1" lang="es-MX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ú</a:t>
            </a:r>
            <a:r>
              <a:rPr b="1" lang="es-ES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sabes que a Él le encanta</a:t>
            </a:r>
            <a:r>
              <a:rPr b="1" lang="es-MX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:</a:t>
            </a:r>
            <a:r>
              <a:rPr b="1" lang="es-ES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Orar.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</a:t>
            </a:r>
            <a:r>
              <a:rPr b="1" lang="es-ES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Si no tienes vergüenza de hacer esto, por favor, sigue las instrucciones.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</a:t>
            </a:r>
            <a:r>
              <a:rPr b="1" lang="es-ES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Jesucristo dijo</a:t>
            </a:r>
            <a:r>
              <a:rPr b="1" lang="es-MX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:</a:t>
            </a:r>
            <a:r>
              <a:rPr b="1" lang="es-ES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es-MX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“</a:t>
            </a:r>
            <a:r>
              <a:rPr b="1" lang="es-ES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Si te avergüenzas de mí, yo me avergonzaré de ti ante mi Padre".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Si no tienes vergüenza, envía este Mensaje...s</a:t>
            </a:r>
            <a:r>
              <a:rPr b="1" lang="es-MX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ó</a:t>
            </a:r>
            <a:r>
              <a:rPr b="1" lang="es-ES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lo si crees en ello.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1" name="camera.wav"/>
      </p:stSnd>
    </p:sndAc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0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2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2"/>
          <p:cNvSpPr/>
          <p:nvPr/>
        </p:nvSpPr>
        <p:spPr>
          <a:xfrm>
            <a:off x="1143000" y="1457280"/>
            <a:ext cx="7391520" cy="45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S</a:t>
            </a:r>
            <a:r>
              <a:rPr b="1" lang="es-MX" sz="36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í</a:t>
            </a:r>
            <a:r>
              <a:rPr b="1" lang="es-ES" sz="36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, amo a Dios. Él es mi fuente de existencia y mi salvador. Él me mantiene funcionando día y noche. Sin Él, nada soy, pero, con Él todo lo puedo, en Cristo que me da fuerza. 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Filipenses 4:1 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1" name="camera.wav"/>
      </p:stSnd>
    </p:sndAc>
  </p:transition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0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4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2"/>
          <p:cNvSpPr/>
          <p:nvPr/>
        </p:nvSpPr>
        <p:spPr>
          <a:xfrm>
            <a:off x="1143000" y="1219320"/>
            <a:ext cx="7315200" cy="54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El que alguien toque mi vida es un privilegio</a:t>
            </a:r>
            <a:r>
              <a:rPr b="1" lang="es-MX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.</a:t>
            </a:r>
            <a:r>
              <a:rPr b="1" lang="es-ES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Tocar la vida de alguien es un honor, pero el ayudar a que otros toquen sus propias vidas es una fuerza muy poderosa que produce grandes beneficios para todos.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¡Dios te bendiga!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8" name="Text Box 3"/>
          <p:cNvSpPr/>
          <p:nvPr/>
        </p:nvSpPr>
        <p:spPr>
          <a:xfrm>
            <a:off x="8077320" y="62485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5b5249"/>
                </a:solidFill>
                <a:latin typeface="Times New Roman"/>
              </a:rPr>
              <a:t>aam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1" name="camera.wav"/>
      </p:stSnd>
    </p:sndAc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0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500"/>
                            </p:stCondLst>
                            <p:childTnLst>
                              <p:par>
                                <p:cTn id="25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2"/>
          <p:cNvSpPr/>
          <p:nvPr/>
        </p:nvSpPr>
        <p:spPr>
          <a:xfrm>
            <a:off x="380880" y="1128600"/>
            <a:ext cx="8686800" cy="52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Él amaba a su cuarta esposa más que a las demás y la adornaba con ricas vestiduras y la complacía con las delicadezas más finas. Sólo le daba lo mejor.</a:t>
            </a:r>
            <a:r>
              <a:rPr b="0" lang="es-ES" sz="5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endParaRPr b="0" lang="en-US" sz="5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1" name="camera.wav"/>
      </p:stSnd>
    </p:sndAc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2"/>
          <p:cNvSpPr/>
          <p:nvPr/>
        </p:nvSpPr>
        <p:spPr>
          <a:xfrm>
            <a:off x="533520" y="914400"/>
            <a:ext cx="838188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También amaba mucho a su tercera esposa y siempre la exhibía en los reinos vecinos. </a:t>
            </a:r>
            <a:endParaRPr b="0" lang="en-US" sz="52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Sin embargo, temía que algún día ella se fuera con otro.</a:t>
            </a:r>
            <a:r>
              <a:rPr b="0" lang="es-ES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1" name="camera.wav"/>
      </p:stSnd>
    </p:sndAc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2"/>
          <p:cNvSpPr/>
          <p:nvPr/>
        </p:nvSpPr>
        <p:spPr>
          <a:xfrm>
            <a:off x="762120" y="1144440"/>
            <a:ext cx="8076960" cy="45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También amaba a su segunda esposa. Ella era su confidente y siempre se mostraba bondadosa, considerada y paciente con él. Cada vez que el rey tenía un problema, confiaba en ella para ayudarle a salir de los tiempos difíciles.</a:t>
            </a:r>
            <a:r>
              <a:rPr b="0" lang="es-ES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1" name="camera.wav"/>
      </p:stSnd>
    </p:sndAc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77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0" dur="770" fill="hold"/>
                                        <p:tgtEl>
                                          <p:spTgt spid="9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2" dur="77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4" dur="77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2"/>
          <p:cNvSpPr/>
          <p:nvPr/>
        </p:nvSpPr>
        <p:spPr>
          <a:xfrm>
            <a:off x="762120" y="1022400"/>
            <a:ext cx="7924680" cy="48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La primera esposa del rey era una compañera muy leal y había hecho grandes contribuciones para mantener tanto la riqueza como el reino del monarca. </a:t>
            </a:r>
            <a:endParaRPr b="0" lang="en-US" sz="5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1" name="camera.wav"/>
      </p:stSnd>
    </p:sndAc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2"/>
          <p:cNvSpPr/>
          <p:nvPr/>
        </p:nvSpPr>
        <p:spPr>
          <a:xfrm>
            <a:off x="838080" y="1509840"/>
            <a:ext cx="8077320" cy="40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Sin embargo, él no amaba a su primera esposa y aunque ella le amaba profundamente, él apenas se fijaba en ella.</a:t>
            </a:r>
            <a:r>
              <a:rPr b="0" lang="es-ES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1" name="camera.wav"/>
      </p:stSnd>
    </p:sndAc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2"/>
          <p:cNvSpPr/>
          <p:nvPr/>
        </p:nvSpPr>
        <p:spPr>
          <a:xfrm>
            <a:off x="1447920" y="1371600"/>
            <a:ext cx="7010280" cy="46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Un día, el rey enfermó y se dió cuenta de que le quedaba poco tiempo. Pensó acerca de su vida de lujo y caviló: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es-ES" sz="4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"Ahora tengo cuatro esposas conmigo pero, cuando muera, estaré solo". 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1" name="camera.wav"/>
      </p:stSnd>
    </p:sndAc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2"/>
          <p:cNvSpPr/>
          <p:nvPr/>
        </p:nvSpPr>
        <p:spPr>
          <a:xfrm>
            <a:off x="1295280" y="1066680"/>
            <a:ext cx="7315200" cy="560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Así que le pregunto a su cuarta esposa: "Te he amado más que a las demás, te he dotado con las mejores vestimentas y te he cuidado con esmero. Ahora que estoy muriendo,</a:t>
            </a:r>
            <a:r>
              <a:rPr b="1" lang="es-MX" sz="3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es-ES" sz="3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¿estarías dispuesta a seguirme y ser mi compañía?</a:t>
            </a:r>
            <a:endParaRPr b="0" lang="en-US" sz="3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1" name="camera.wav"/>
      </p:stSnd>
    </p:sndAc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3T16:04:45Z</dcterms:created>
  <dc:creator>.</dc:creator>
  <dc:description/>
  <dc:language>en-US</dc:language>
  <cp:lastModifiedBy>.</cp:lastModifiedBy>
  <dcterms:modified xsi:type="dcterms:W3CDTF">2009-05-03T16:33:26Z</dcterms:modified>
  <cp:revision>1</cp:revision>
  <dc:subject/>
  <dc:title>Diapositiva 1</dc:title>
</cp:coreProperties>
</file>