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306-4388-4A60-AD96-B6B097CD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90A-A763-4BEB-9431-C6AD5E0C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151-63D8-4A26-92AE-B2223428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2A0-8B13-489D-A4A2-C63DCDFC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3583-730C-43A3-B161-6ADD8F57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9FA0-651C-4A4D-A922-9F4F873D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0BE2-729A-4FA7-8804-C07EDBAC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3424-2F22-4109-B626-91FA32BF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284A-1F6C-429F-A347-B22BA878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5B8C-167D-4C31-B10D-B3102EFB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7A4D-36EE-4907-800B-A4AF7D4C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1D9-5510-45E9-9573-996DDB82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8614-9846-47E4-97BA-7CDA5682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EB0F-A310-4D16-8D61-84F490A6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A0CE-1238-4EEC-9D50-93A4C03C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6387-8DD6-4711-9AF9-DDAE9473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2440-E196-42DF-9AD3-8C42EC39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A9A-47BF-441C-ACFE-F72B8034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1C7-25B5-4042-A19A-2A96AB8A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3B1-33B2-4CEF-8F6F-76C44FE6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C66-73AA-44E2-BC3B-45235FEF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3E8-1F4A-411C-81C7-85AD181C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494-9A53-495B-8200-99712854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41E-ABDA-421B-B1F0-82D7ACC1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9D91-20A6-478F-9E42-8432F927C5C6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12BA-2287-40C8-BC03-2EFA986B4E6D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762120" y="234648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L REY Y SUS CUATRO ESPOSAS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295280" y="1219320"/>
            <a:ext cx="71629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¡Ni pensarlo! Contestó la cuarta esposa y se alejó sin decir más palabras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u respuesta penetró en su corazón como un cuchillo filoso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143000" y="1371600"/>
            <a:ext cx="746748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l entristecido monarca le pregunto a su tercera esposa: Te he amado toda mi vida. Ahora que estoy muriendo,</a:t>
            </a:r>
            <a:r>
              <a:rPr b="1" lang="es-MX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¿estarías dispuesta a seguirme y ser mi compañía?</a:t>
            </a: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523880" y="1143000"/>
            <a:ext cx="716292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¡No! Contestó su tercera esposa. ¡La vida es demasiado buena! ¡Cuándo mueras, pienso volverme a casar!"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u corazón experimentó una fuerte sacudida y se puso fr</a:t>
            </a:r>
            <a:r>
              <a:rPr b="0" lang="es-MX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ío</a:t>
            </a:r>
            <a:r>
              <a:rPr b="0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990720" y="1371600"/>
            <a:ext cx="73911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tonces preguntó a su segunda esposa: "Siempre he venido a ti por ayuda y siempre has estado allí para mí. Cuando muera, ¿estarías dispuesta a seguirme y ser mi compañía?</a:t>
            </a: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219320" y="1066680"/>
            <a:ext cx="731520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¡Lo siento, no puedo ayudarte esta vez!". Contestó la segunda esposa. "Lo más que puedo hacer por ti es enterrarte". </a:t>
            </a:r>
            <a:endParaRPr b="0" lang="en-US" sz="3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3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</a:t>
            </a: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u respuesta vino como un relámpago estruendoso que devastó al rey. </a:t>
            </a:r>
            <a:endParaRPr b="0" lang="en-US" sz="3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066680" y="1179360"/>
            <a:ext cx="7543800" cy="55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3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tonces escuchó una voz: "Me iré contigo y te seguiré dondequiera tu vayas". El rey dirigió la mirada en dirección de la voz y allí estaba su primera esposa. Sé veía tan delgaducha, sufría de desnutrición. Profundamente afectado, el monarca dijo: ¡Debí haberte atendido mejor cuando tuve la oportunidad de hacerlo! </a:t>
            </a:r>
            <a:endParaRPr b="0" lang="en-US" sz="3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43000" y="2222640"/>
            <a:ext cx="73152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 realidad, todos tenemos cuatro esposas en nuestras vidas.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1555920"/>
            <a:ext cx="73152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uestra cuarta esposa es nuestro cuerpo. </a:t>
            </a: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o importa cuanto tiempo y esfuerzo invirtamos en hacerlo lucir bien, nos dejará cuando muramos. </a:t>
            </a: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143000" y="1397160"/>
            <a:ext cx="7543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4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uestra tercera esposa son nuestras posesiones, condición social y riqueza. </a:t>
            </a:r>
            <a:endParaRPr b="0" lang="en-US" sz="4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uando muramos, irán a parar a otros.</a:t>
            </a:r>
            <a:r>
              <a:rPr b="0" lang="es-ES" sz="4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4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143000" y="1371600"/>
            <a:ext cx="739152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uestra segunda esposa es nuestra familia y amigos. </a:t>
            </a: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o importa cuanto nos hayan sido de apoyo a nosotros aquí, lo m</a:t>
            </a:r>
            <a:r>
              <a:rPr b="1" lang="es-MX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á</a:t>
            </a:r>
            <a:r>
              <a:rPr b="1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 que podrán hacer es acompañarnos hasta el sepulcro. </a:t>
            </a: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219320" y="25146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Había una vez un rey que ten</a:t>
            </a:r>
            <a:r>
              <a:rPr b="0" lang="es-MX" sz="6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í</a:t>
            </a:r>
            <a:r>
              <a:rPr b="0" lang="es-ES" sz="6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 cuatro esposas. 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990720" y="990720"/>
            <a:ext cx="739116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Y nuestra primera esposa es nuestra alma, frecuentemente ignorada en la búsqueda </a:t>
            </a:r>
            <a:endParaRPr b="0" lang="en-US" sz="39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n embargo, nuestra alma es la única que nos acompañar</a:t>
            </a:r>
            <a:r>
              <a:rPr b="1" lang="es-MX" sz="39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á</a:t>
            </a:r>
            <a:r>
              <a:rPr b="1" lang="es-ES" sz="39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dondequiera que vayamos. ¡Así que, cultívala, fortalécela y cuídala ahora!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43000" y="1432080"/>
            <a:ext cx="70102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6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s el más grande regalo que puedes ofrecerle al mundo. 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¡Hazla brillar! 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219320" y="2408400"/>
            <a:ext cx="71625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Haz </a:t>
            </a:r>
            <a:r>
              <a:rPr b="1" lang="es-MX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a siguiente</a:t>
            </a: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oración por quienes te han enviado esta reflexión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MX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990720" y="99072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"Padre nuestro que estás en los cielos</a:t>
            </a:r>
            <a:r>
              <a:rPr b="1" lang="es-MX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,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santificado sea tu nombre</a:t>
            </a:r>
            <a:r>
              <a:rPr b="1" lang="es-MX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;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venga a nosotros tu reino, hágase tu voluntad así en la Tierra como en el cielo. D</a:t>
            </a:r>
            <a:r>
              <a:rPr b="1" lang="es-MX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á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os hoy nuestro pan de cada día, perdona nuestras ofensas, como también nosotros perdonamos a los que nos ofenden</a:t>
            </a:r>
            <a:r>
              <a:rPr b="1" lang="es-MX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;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no nos dejes caer en tentación y líbranos de todo mal</a:t>
            </a:r>
            <a:r>
              <a:rPr b="1" lang="es-MX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”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Amé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066680" y="914400"/>
            <a:ext cx="754380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hora, por tu bien envíala a otras diez o más personas.</a:t>
            </a:r>
            <a:endParaRPr b="0" lang="en-US" sz="3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¿Sabes por qué?. </a:t>
            </a:r>
            <a:endParaRPr b="0" lang="en-US" sz="3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</a:t>
            </a: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 un rato mas, diez personas habrán orado por t</a:t>
            </a:r>
            <a:r>
              <a:rPr b="1" lang="es-MX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í</a:t>
            </a: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y habrás logrado que muchas personas recen a Dios por otras personas.</a:t>
            </a: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066680" y="1066680"/>
            <a:ext cx="73152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uego, piensa por un momento y aprecia el poder de Dios en tu vida, por hacer lo que t</a:t>
            </a:r>
            <a:r>
              <a:rPr b="1" lang="es-MX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ú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sabes que a Él le encanta</a:t>
            </a:r>
            <a:r>
              <a:rPr b="1" lang="es-MX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: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Orar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 no tienes vergüenza de hacer esto, por favor, sigue las instrucciones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Jesucristo dijo</a:t>
            </a:r>
            <a:r>
              <a:rPr b="1" lang="es-MX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: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 te avergüenzas de mí, yo me avergonzaré de ti ante mi Padre"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 no tienes vergüenza, envía este Mensaje...s</a:t>
            </a:r>
            <a:r>
              <a:rPr b="1" lang="es-MX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ó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o si crees en ello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43000" y="1457280"/>
            <a:ext cx="73915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</a:t>
            </a:r>
            <a:r>
              <a:rPr b="1" lang="es-MX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í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, amo a Dios. Él es mi fuente de existencia y mi salvador. Él me mantiene funcionando día y noche. Sin Él, nada soy, pero, con Él todo lo puedo, en Cristo que me da fuerza.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Filipenses 4:1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43000" y="1219320"/>
            <a:ext cx="73152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l que alguien toque mi vida es un privilegio</a:t>
            </a:r>
            <a:r>
              <a:rPr b="1" lang="es-MX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.</a:t>
            </a:r>
            <a:r>
              <a:rPr b="1" lang="es-E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Tocar la vida de alguien es un honor, pero el ayudar a que otros toquen sus propias vidas es una fuerza muy poderosa que produce grandes beneficios para todo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¡Dios te bendiga!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07732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b5249"/>
                </a:solidFill>
                <a:latin typeface="Times New Roman"/>
              </a:rPr>
              <a:t>aa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0880" y="1128600"/>
            <a:ext cx="8686800" cy="52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Él amaba a su cuarta esposa más que a las demás y la adornaba con ricas vestiduras y la complacía con las delicadezas más finas. Sólo le daba lo mejor.</a:t>
            </a:r>
            <a:r>
              <a:rPr b="0" lang="es-ES" sz="5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33520" y="91440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ambién amaba mucho a su tercera esposa y siempre la exhibía en los reinos vecinos. </a:t>
            </a:r>
            <a:endParaRPr b="0" lang="en-US" sz="5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n embargo, temía que algún día ella se fuera con otro.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762120" y="1144440"/>
            <a:ext cx="80769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ambién amaba a su segunda esposa. Ella era su confidente y siempre se mostraba bondadosa, considerada y paciente con él. Cada vez que el rey tenía un problema, confiaba en ella para ayudarle a salir de los tiempos difíciles.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762120" y="1022400"/>
            <a:ext cx="79246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a primera esposa del rey era una compañera muy leal y había hecho grandes contribuciones para mantener tanto la riqueza como el reino del monarca. </a:t>
            </a:r>
            <a:endParaRPr b="0" lang="en-US" sz="5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838080" y="1509840"/>
            <a:ext cx="80773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n embargo, él no amaba a su primera esposa y aunque ella le amaba profundamente, él apenas se fijaba en ella.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447920" y="1371600"/>
            <a:ext cx="701028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n día, el rey enfermó y se dió cuenta de que le quedaba poco tiempo. Pensó acerca de su vida de lujo y caviló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"Ahora tengo cuatro esposas conmigo pero, cuando muera, estaré solo"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95280" y="1066680"/>
            <a:ext cx="731520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sí que le pregunto a su cuarta esposa: "Te he amado más que a las demás, te he dotado con las mejores vestimentas y te he cuidado con esmero. Ahora que estoy muriendo,</a:t>
            </a:r>
            <a:r>
              <a:rPr b="1" lang="es-MX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¿estarías dispuesta a seguirme y ser mi compañía?</a:t>
            </a:r>
            <a:endParaRPr b="0" lang="en-US" sz="3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6:04:45Z</dcterms:created>
  <dc:creator>.</dc:creator>
  <dc:description/>
  <dc:language>en-US</dc:language>
  <cp:lastModifiedBy>.</cp:lastModifiedBy>
  <dcterms:modified xsi:type="dcterms:W3CDTF">2009-05-03T16:33:26Z</dcterms:modified>
  <cp:revision>1</cp:revision>
  <dc:subject/>
  <dc:title>Diapositiva 1</dc:title>
</cp:coreProperties>
</file>