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an1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B0F-DACF-4F53-B79A-0938EB34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675-EDAB-47CC-B2E4-72F3D65F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434-8217-4F26-98E7-B83440E6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9E7-4523-46D0-848C-17EA7142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B36-03F5-463E-9E4D-EC7FE908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546-003B-44D3-908D-60448162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896-16DF-457B-8D93-6F58BB1D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7AD-455F-4692-9270-4773D1CE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30B-F664-4E60-B6EE-95A3280A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934-E9FD-45B5-994A-8FADF8C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392-200E-467C-B722-FF9838C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027-20AB-40B8-B941-6624C1C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D841-2CBD-40BA-B79C-56C9149B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an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3186720"/>
            <a:ext cx="8532720" cy="3506040"/>
          </a:xfrm>
          <a:prstGeom prst="rect">
            <a:avLst/>
          </a:prstGeom>
          <a:solidFill>
            <a:srgbClr val="cccc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tarde, un pequeño se acercó a su madre que preparaba la cena en la cocina, entregándole una hoja de papel en la que había escrito algo. Después de secarse las manos y quitarse el delantal, ella leyó lo que decía la not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29760" y="2057400"/>
            <a:ext cx="29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546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Cortar el césped del jardín...         1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mpiar mi cuarto esta semana…     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Cuidar de mi hermano...                 5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Ir a la panadería...                         0.5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Sacar la basura toda la semana…     2.5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breta con buenas calificaciones… 50.00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Limpiar el patio...                           5.00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- TOTAL ADEUDADO...                     83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52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La madre lo miró con fijeza mientras él aguardaba expectante.  La madre tomó un lapicero y en el reverso de la misma hoja anotó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79884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llevarte 9 meses en mi vientr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y darte la vida...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     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antas noches de desvelo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curarte y rezar por ti 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la alegría y el amor de nuestra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familia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emor y preocupaciones cuando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enfermabas 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comida, ropa y educación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- Por tomar tu mano y darte apoyo...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353400"/>
            <a:ext cx="891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el niño terminó de leer lo que había escrito su madre,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enía los ojos llenos de lágrimas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miró a los ojos y le dijo: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"Te quiero mamá...";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uego tomó el lapicero y escribió con letra muy grande: “TOTALMENTE PAGAD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61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Así somos las personas, como niños, queriendo recompensa por las buenas acciones que hacemos. </a:t>
            </a:r>
            <a:br>
              <a:rPr sz="3600"/>
            </a:b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Es difícil entender que la mejor recompensa es el AMOR y, que para nuestra suerte, </a:t>
            </a:r>
            <a:br>
              <a:rPr sz="3600"/>
            </a:b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es totalmente GRATI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5876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Tahoma"/>
              </a:rPr>
              <a:t>Feliz sema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16:14:15Z</dcterms:created>
  <dc:creator>....</dc:creator>
  <dc:description/>
  <dc:language>en-US</dc:language>
  <cp:lastModifiedBy>Abraham</cp:lastModifiedBy>
  <dcterms:modified xsi:type="dcterms:W3CDTF">2007-06-11T05:28:17Z</dcterms:modified>
  <cp:revision>17</cp:revision>
  <dc:subject/>
  <dc:title>Presentación de PowerPoint</dc:title>
</cp:coreProperties>
</file>