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uan1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B1F-B9F0-43F5-9952-7E568F52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CC1-7E3E-4110-AEA5-144B1C48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3D5-C57D-4179-861D-1CB05C26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403-B538-4024-A349-EEEA86A1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40F-D55A-4EDA-AB6A-D771CA9A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C52-4F8E-4B5A-927D-12BB2ABD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152-E999-4BEE-81E5-0975EC15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69C-1201-4282-8B96-5598BC3A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390-B0F2-44E8-AD8B-30E997C9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C4E-7593-4DF0-B80F-1FB6449F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1B6-06E0-42D0-88A9-E169A3AA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C70-A805-4EA4-B7F8-364F5D85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B45F-DDBF-4EF7-BABD-EB120250D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uan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3186720"/>
            <a:ext cx="8532720" cy="3506040"/>
          </a:xfrm>
          <a:prstGeom prst="rect">
            <a:avLst/>
          </a:prstGeom>
          <a:solidFill>
            <a:srgbClr val="cccc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a tarde, un pequeño se acercó a su madre que preparaba la cena en la cocina, entregándole una hoja de papel en la que había escrito algo. Después de secarse las manos y quitarse el delantal, ella leyó lo que decía la not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29760" y="2057400"/>
            <a:ext cx="299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546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Cortar el césped del jardín...         15.00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Limpiar mi cuarto esta semana…     5.00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Cuidar de mi hermano...                 5.00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Ir a la panadería...                         0.50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Sacar la basura toda la semana…     2.50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Libreta con buenas calificaciones… 50.00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Limpiar el patio...                           5.00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TOTAL ADEUDADO...                     83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524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La madre lo miró con fijeza mientras él aguardaba expectante.  La madre tomó un lapicero y en el reverso de la misma hoja anotó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798840"/>
            <a:ext cx="784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 Por llevarte 9 meses en mi vientr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y darte la vida...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ADA      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 Por tantas noches de desvelo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curarte y rezar por ti ..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ADA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 Por la alegría y el amor de nuestra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familia..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ADA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 Por temor y preocupaciones cuando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enfermabas ..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ADA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 Por comida, ropa y educación..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ADA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 Por tomar tu mano y darte apoyo..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353400"/>
            <a:ext cx="8915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ando el niño terminó de leer lo que había escrito su madre,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enía los ojos llenos de lágrimas.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miró a los ojos y le dijo: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"Te quiero mamá...";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uego tomó el lapicero y escribió con letra muy grande: “TOTALMENTE PAGAD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5614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cc"/>
                </a:solidFill>
                <a:latin typeface="Tahoma"/>
              </a:rPr>
              <a:t>Así somos las personas, como niños, queriendo recompensa por las buenas acciones que hacemos. </a:t>
            </a:r>
            <a:br>
              <a:rPr sz="3600"/>
            </a:br>
            <a:r>
              <a:rPr b="0" lang="es-ES_tradnl" sz="3600" spc="-1" strike="noStrike">
                <a:solidFill>
                  <a:srgbClr val="0066cc"/>
                </a:solidFill>
                <a:latin typeface="Tahoma"/>
              </a:rPr>
              <a:t>Es difícil entender que la mejor recompensa es el AMOR y, que para nuestra suerte, </a:t>
            </a:r>
            <a:br>
              <a:rPr sz="3600"/>
            </a:br>
            <a:r>
              <a:rPr b="0" lang="es-ES_tradnl" sz="3600" spc="-1" strike="noStrike">
                <a:solidFill>
                  <a:srgbClr val="0066cc"/>
                </a:solidFill>
                <a:latin typeface="Tahoma"/>
              </a:rPr>
              <a:t>es totalmente GRATIS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5876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cc"/>
                </a:solidFill>
                <a:latin typeface="Tahoma"/>
              </a:rPr>
              <a:t>Feliz sema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16:14:15Z</dcterms:created>
  <dc:creator>....</dc:creator>
  <dc:description/>
  <dc:language>en-US</dc:language>
  <cp:lastModifiedBy>Abraham</cp:lastModifiedBy>
  <dcterms:modified xsi:type="dcterms:W3CDTF">2007-06-11T05:28:17Z</dcterms:modified>
  <cp:revision>17</cp:revision>
  <dc:subject/>
  <dc:title>Presentación de PowerPoint</dc:title>
</cp:coreProperties>
</file>