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E3A-634F-44B9-B5BD-C61426B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7ED-A82A-45E1-AF8F-CCECDE3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11E-6145-47D7-9643-B2D48A7F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6D8-DF5F-460C-8203-91840F3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352D-93C4-4D1B-9D67-31C970A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161-CB78-4386-9EDD-D2A2B90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A745-5193-4135-BA75-C8C31669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3E72-9A29-42A0-A0AD-4581C60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A1B-1349-4CB1-A11C-0AD3BE7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512-37FC-4699-8DC1-AD16B00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78C0-A05D-4BE1-A4CC-B877C1E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33D-9707-4FD2-A072-5C2AD4C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5D34-1CA5-4F0F-AAE1-2F829F3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B19-4E9B-427B-A13B-47776F8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0A4-5A33-4488-B6E6-031E82C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6EBC-3DEF-4FEF-A1FF-FE5BF79B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E6F-344C-4883-AED4-B16FBF30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ABE-6FA3-4533-9F75-307FC1DB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266-ADDA-4B55-8DBB-932416E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C83-81CB-4BB0-84A1-5DA49A5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325-5DF6-4C60-B36F-75D8E9FE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C5E-C2CA-4103-883E-6118F36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3F3-CC42-43AC-9552-6E13EEB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DF1-94DA-4191-830C-903191F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8CF-C55A-4987-BFAC-91C2BCC6F662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9E9-194E-46FA-BDD5-2F45AD0266EF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physical_science/chemistry/h2o2_molecule_big_gif_image.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ex.com.br/tabuas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45720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-1312560" y="2836080"/>
            <a:ext cx="5410440" cy="18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Monotype Corsiva"/>
              </a:rPr>
              <a:t>Águ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3860640"/>
            <a:ext cx="6172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Oxigenad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5867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Tablas para la carne y otros utensilios son desinfectados luego de su uso, con un poco de agua oxigenada.  </a:t>
            </a:r>
            <a:br>
              <a:rPr sz="3200"/>
            </a:b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l producto mata cualquier bacteria o germen, incluida la salmonel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59092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Aplicada en los pies evita los problemas de hongos que causan afecciones en los pies, inclusive los del mal o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828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Aplicada en la herida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coagula hemorragia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vita infecciones 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ayuda en la cicatr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Hasta casos de gangr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se remiten con su u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280" y="2438280"/>
            <a:ext cx="7775640" cy="33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En una mezc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del 50% con agua pur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puede ser goteada 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la nariz en resfriados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y sinusitis. Esperar algunos  instantes y son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Esto mata gérmenes y otros microorganismos noc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203640" cy="240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 poco de agua oxigenada en el agua de la bañera ayuda a mantener la piel saludable, pudiendo ser usada en casos de micosis u hon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Bruxa1.jpg"/>
          <p:cNvPicPr/>
          <p:nvPr/>
        </p:nvPicPr>
        <p:blipFill>
          <a:blip r:embed="rId1"/>
          <a:stretch/>
        </p:blipFill>
        <p:spPr>
          <a:xfrm>
            <a:off x="2362320" y="304812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20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Ropas que precisen desinfección    (toallas, pañuelos, faldas, etc.), o aquéllas en contacto con secreciones corporales y sangre, pueden ser totalmente desinfectadas si se remojan en una solución conteniendo agua oxigenada, antes del lavado norma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374920" cy="2438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0666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0.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Con estos datos, ciertamente encontrarás otras formas de usar el agua oxigenad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84360" y="2728800"/>
            <a:ext cx="4496040" cy="4129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871720"/>
            <a:ext cx="8839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Úsala moderadamente y debido a su principio activo, guárdala de la luz so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99"/>
                </a:solidFill>
                <a:latin typeface="Tahoma"/>
              </a:rPr>
              <a:t>Realización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99"/>
                </a:solidFill>
                <a:latin typeface="Tahoma"/>
              </a:rPr>
              <a:t>Mon Ville Alimentação Ltda, Brazi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¿Piensas que el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Agua Oxigenad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es de poca ultilidad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221000"/>
            <a:ext cx="72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ues entonces sorprénde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gua Oxigenada se desarrolló en la década de 1920, por científicos y con el objetivo de contener infecciones y gangrenas de soldados en el frente de batalla. En la Segunda Guerra Mundial disminuyó el número de amputaciones por su uso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7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557360"/>
            <a:ext cx="8305920" cy="464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l invento 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Barat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Transport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Almacenamient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Utilizació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Sin efectos colaterales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n una solución al 3%, es uno de los mas potentes desinfectantes que exist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¿Por qué está tan poco difundida su utilización?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952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80"/>
                </a:solidFill>
                <a:latin typeface="Verdana"/>
                <a:ea typeface="Times New Roman"/>
              </a:rPr>
              <a:t>No hay casi rentabil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170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¿Por qué no se difunde su u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09680"/>
            <a:ext cx="2459160" cy="60984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124080"/>
            <a:ext cx="2529000" cy="53352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mple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648320"/>
            <a:ext cx="3124440" cy="68580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ácil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5181840" cy="68580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uede ser utilizado para muchos f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819520"/>
            <a:ext cx="4419720" cy="2743200"/>
          </a:xfrm>
          <a:prstGeom prst="flowChartPreparation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mpite con car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ctos desarrol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r farmaceút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 industrias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sinfectantes, domést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y  hospitalari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43828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38862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4290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581280" y="3885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La eficacia </a:t>
            </a:r>
            <a:br>
              <a:rPr sz="7500"/>
            </a:b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doméstica del </a:t>
            </a:r>
            <a:br>
              <a:rPr sz="7500"/>
            </a:b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Agua Oxigenada:</a:t>
            </a:r>
            <a:endParaRPr b="0" lang="en-US" sz="7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</a:t>
            </a:r>
            <a:r>
              <a:rPr b="0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a cucharada de este producto usada para gárgaras y mantenida en la boca durante algunos minutos y luego eliminada, mata los gérmenes bucales, blanqueando los dient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1360" cy="2289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Mantener los cepillos de dientes en una solución de agua oxigenada, conserva los cepillos libres de las bacterias que causan gengivitis y otros problemas bucal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 poco de agua oxigenada en un paño, desinfecta las  superficies mejor que cualquier otro producto. Excelente para usar en cocinas y b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3:20:16Z</dcterms:created>
  <dc:creator>Um usuário do Microsoft Office satisfeito</dc:creator>
  <dc:description/>
  <dc:language>en-US</dc:language>
  <cp:lastModifiedBy>NSC</cp:lastModifiedBy>
  <dcterms:modified xsi:type="dcterms:W3CDTF">2008-02-29T11:28:41Z</dcterms:modified>
  <cp:revision>64</cp:revision>
  <dc:subject/>
  <dc:title>Apresentação do PowerPoint</dc:title>
</cp:coreProperties>
</file>