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4C8-D8AF-4516-8D21-932485BC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552-5A66-4962-86BF-85CDE65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95E-4B1B-4560-817A-40D80117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671-C2BB-4284-A6EB-FAD5CD9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92C-EE5F-43BD-AE53-41AE57E3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4674-4098-41B7-AB4E-5CA60BB0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4584-217D-48D7-AC3A-843E4D8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129-3FC8-4A3C-8C2C-8A5F602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3969-7B4D-4030-B082-C4E90FB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26C-C5BE-448C-8EB0-D2A4B04D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CADF-E4F4-4E03-8BEA-5687601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B9E-16AF-4ACD-AEF4-2023348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CA7-67D9-444A-A5BC-2AD5707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347-C4AE-48EA-BAAE-C8B9364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AC7-1255-4411-BE45-10D37C18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9509-235B-454A-B0A3-E9F75879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6B6-81F8-4732-B995-AA722663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224-8F58-4DD6-A4A9-D429BBC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EC4-A9A4-4833-8115-D759020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551-733A-4EB2-B768-7C69928C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6BA-16AB-43C0-8072-863FB015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7BF-994D-4527-890F-D0E122E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873-0D50-4453-9715-D1D6B71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05F-CF76-4640-8E78-FD8D4B57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756-F5CA-45BE-868D-B01B08FD2C14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0A0-F63A-4D59-8C5A-7F31DE68247D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physical_science/chemistry/h2o2_molecule_big_gif_image.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ex.com.br/tabuas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45720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5400000">
            <a:off x="-1312560" y="2836080"/>
            <a:ext cx="5410440" cy="18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Monotype Corsiva"/>
              </a:rPr>
              <a:t>Águ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56000" y="3860640"/>
            <a:ext cx="6172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Oxigenada</a:t>
            </a:r>
            <a:endParaRPr b="1" i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5867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Tablas para la carne y otros utensilios son desinfectados luego de su uso, con un poco de agua oxigenada.  </a:t>
            </a:r>
            <a:br>
              <a:rPr sz="3200"/>
            </a:b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l producto mata cualquier bacteria o germen, incluida la salmonel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914400"/>
            <a:ext cx="259092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Aplicada en los pies evita los problemas de hongos que causan afecciones en los pies, inclusive los del mal o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828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Aplicada en la herida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coagula hemorragia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vita infecciones 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ayuda en la cicatr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Hasta casos de gangr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se remiten con su u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280" y="2438280"/>
            <a:ext cx="7775640" cy="33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En una mezc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del 50% con agua pur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puede ser goteada 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la nariz en resfriados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y sinusitis. Esperar algunos  instantes y son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 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Esto mata gérmenes y otros microorganismos noc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203640" cy="240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 poco de agua oxigenada en el agua de la bañera ayuda a mantener la piel saludable, pudiendo ser usada en casos de micosis u hon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Bruxa1.jpg"/>
          <p:cNvPicPr/>
          <p:nvPr/>
        </p:nvPicPr>
        <p:blipFill>
          <a:blip r:embed="rId1"/>
          <a:stretch/>
        </p:blipFill>
        <p:spPr>
          <a:xfrm>
            <a:off x="2362320" y="304812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20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Ropas que precisen desinfección    (toallas, pañuelos, faldas, etc.), o aquéllas en contacto con secreciones corporales y sangre, pueden ser totalmente desinfectadas si se remojan en una solución conteniendo agua oxigenada, antes del lavado norma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374920" cy="2438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0666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0.</a:t>
            </a:r>
            <a:r>
              <a:rPr b="1" lang="pt-BR" sz="28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Con estos datos, ciertamente encontrarás otras formas de usar el agua oxigenad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84360" y="2728800"/>
            <a:ext cx="4496040" cy="4129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871720"/>
            <a:ext cx="8839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Úsala moderadamente y debido a su principio activo, guárdala de la luz so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99"/>
                </a:solidFill>
                <a:latin typeface="Tahoma"/>
              </a:rPr>
              <a:t>Realización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99"/>
                </a:solidFill>
                <a:latin typeface="Tahoma"/>
              </a:rPr>
              <a:t>Mon Ville Alimentação Ltda, Brazi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¿Piensas que el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Agua Oxigenad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es de poca ultilidad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221000"/>
            <a:ext cx="72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Pues entonces sorprénde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gua Oxigenada se desarrolló en la década de 1920, por científicos y con el objetivo de contener infecciones y gangrenas de soldados en el frente de batalla. En la Segunda Guerra Mundial disminuyó el número de amputaciones por su uso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7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557360"/>
            <a:ext cx="8305920" cy="464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l invento 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Barat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Transport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Almacenamient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Fácil Utilizació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Times New Roman"/>
              </a:rPr>
              <a:t>Sin efectos colaterales</a:t>
            </a: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En una solución al 3%, es uno de los mas potentes desinfectantes que exist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¿Por qué está tan poco difundida su utilización?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952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80"/>
                </a:solidFill>
                <a:latin typeface="Verdana"/>
                <a:ea typeface="Times New Roman"/>
              </a:rPr>
              <a:t>No hay casi rentabil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6170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¿Por qué no se difunde su u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09680"/>
            <a:ext cx="2459160" cy="60984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124080"/>
            <a:ext cx="2529000" cy="53352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mple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648320"/>
            <a:ext cx="3124440" cy="68580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ácil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5181840" cy="68580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uede ser utilizado para muchos f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819520"/>
            <a:ext cx="4419720" cy="2743200"/>
          </a:xfrm>
          <a:prstGeom prst="flowChartPreparation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mpite con car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ctos desarrol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r farmaceút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 industrias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sinfectantes, doméstic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y  hospitalario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43828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733920" y="38862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4290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581280" y="3885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La eficacia </a:t>
            </a:r>
            <a:br>
              <a:rPr sz="7500"/>
            </a:b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doméstica del </a:t>
            </a:r>
            <a:br>
              <a:rPr sz="7500"/>
            </a:br>
            <a:r>
              <a:rPr b="0" lang="pt-BR" sz="7500" spc="-1" strike="noStrike">
                <a:solidFill>
                  <a:srgbClr val="333399"/>
                </a:solidFill>
                <a:latin typeface="Tahoma"/>
              </a:rPr>
              <a:t>Agua Oxigenada:</a:t>
            </a:r>
            <a:endParaRPr b="0" lang="en-US" sz="7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</a:t>
            </a:r>
            <a:r>
              <a:rPr b="0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a cucharada de este producto usada para gárgaras y mantenida en la boca durante algunos minutos y luego eliminada, mata los gérmenes bucales, blanqueando los dient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1360" cy="2289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000080"/>
                </a:solidFill>
                <a:latin typeface="Verdana"/>
                <a:ea typeface="Times New Roman"/>
              </a:rPr>
              <a:t>Mantener los cepillos de dientes en una solución de agua oxigenada, conserva los cepillos libres de las bacterias que causan gengivitis y otros problemas bucal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7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52480" y="18288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80"/>
                </a:solidFill>
                <a:latin typeface="Verdana"/>
                <a:ea typeface="Times New Roman"/>
              </a:rPr>
              <a:t>Un poco de agua oxigenada en un paño, desinfecta las  superficies mejor que cualquier otro producto. Excelente para usar en cocinas y bañ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196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3:20:16Z</dcterms:created>
  <dc:creator>Um usuário do Microsoft Office satisfeito</dc:creator>
  <dc:description/>
  <dc:language>en-US</dc:language>
  <cp:lastModifiedBy>NSC</cp:lastModifiedBy>
  <dcterms:modified xsi:type="dcterms:W3CDTF">2008-02-29T11:28:41Z</dcterms:modified>
  <cp:revision>64</cp:revision>
  <dc:subject/>
  <dc:title>Apresentação do PowerPoint</dc:title>
</cp:coreProperties>
</file>