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1330-8036-4B62-828B-1F71B5E8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947-82AF-4CC4-89F9-30370662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34F-A388-4F5B-8DA4-450277C1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A0B6-1EA0-4522-8594-55586F22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BA09-8848-4276-ABE0-C385E7D7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58F-B418-4728-81FC-150C6AC8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148-B90A-4F6A-9733-D7A2D8F2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1C07-2F0C-4B25-816F-D7EF29F7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DC9-285D-4930-BBC8-7B780B00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D3D-E740-4777-8D21-C4BF4EFB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0781-A6A6-4CB8-AA00-E0BBFA08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22A-FCBE-44CB-AD8A-1F56764D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A153-348D-47ED-9D15-2F763514C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079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¿EXPERIENCI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Poco después entra en un McDonald's y le hace la misma pregunta a la caje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La chica le contesta:</a:t>
            </a:r>
            <a:br>
              <a:rPr sz="4000"/>
            </a:b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- "Yo diría que alrededor de 29.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La mujer le responde, con una amplia sonrisa:</a:t>
            </a:r>
            <a:br>
              <a:rPr sz="4000"/>
            </a:b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- "No, tengo 50.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La mujer se siente genial, rejuvenecida, nuev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Se detiene en una farmacia. Va al mostrador a pedir unos caramelos de menta y le pregunta al dependiente lo mism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El dependiente le contesta:</a:t>
            </a:r>
            <a:br>
              <a:rPr sz="4000"/>
            </a:b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- "Oh, yo te echaría 30 años.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Orgullosamente, ella le replica:</a:t>
            </a:r>
            <a:br>
              <a:rPr sz="4000"/>
            </a:b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- "¡Tengo 50, pero muchas gracias!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Ya en la parada del autobús que la llevará a su casa, le hace </a:t>
            </a:r>
            <a:br>
              <a:rPr sz="4000"/>
            </a:b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la misma pregunta a un viejito de aspecto inofensivo, que también espe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Y él le dice:</a:t>
            </a:r>
            <a:br>
              <a:rPr sz="4000"/>
            </a:b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- "Señorita, yo ya tengo 78 años y mi visión es muy pobre.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“… </a:t>
            </a: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Sin embargo, cuando yo era joven, tenía un método infalible para averiguar la edad de una mujer 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Al llegar a sus 50 años, una mujer decide rejuvenecerse con una operación de cirugía plástica en la ca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5640" y="2204640"/>
            <a:ext cx="692316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“… </a:t>
            </a: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Tal vez le parezca muy atrevido, pero debería dejarme meter las manos en su sujetador 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“… </a:t>
            </a: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Sólo de esa manera, y de ninguna otra, podré decirle EXACTAMENTE </a:t>
            </a:r>
            <a:br>
              <a:rPr sz="4000"/>
            </a:b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cuántos años tiene usted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La mujer observa en silencio al anciano, en la calle vací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Hasta que no puede más con la curios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Ya sabéis como son las mujer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Y, sin pensárselo más, le dice al ancian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- "¡Qué diablos! ¡A ver, aplique su método!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El anciano coloca sus manos bajo la blusa de ella, y empieza a </a:t>
            </a:r>
            <a:br>
              <a:rPr sz="4000"/>
            </a:b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palpar muy despacio y suavemen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Levanta cada pecho y, delicadamente, aprieta los pezones, varias ve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Ajusta un pecho con el otro y los frota entre sí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Se gasta 15.000 €, y se queda asombrada al ver los resultados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Después de unos cinco minutos de todo esto, ella dice:</a:t>
            </a:r>
            <a:br>
              <a:rPr sz="4000"/>
            </a:b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- “Ya está bien, ya está bien... ¿cuántos años tengo?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Él da un último apretón a las tetas, saca las manos y le dice: </a:t>
            </a:r>
            <a:br>
              <a:rPr sz="4000"/>
            </a:b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- “Señorita, usted tiene 50 años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Muy sorprendida, la mujer contesta:</a:t>
            </a:r>
            <a:br>
              <a:rPr sz="4000"/>
            </a:b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- “És realmente increíble, ¿cómo </a:t>
            </a:r>
            <a:br>
              <a:rPr sz="4000"/>
            </a:b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lo hizo para saberlo?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El anciano responde:</a:t>
            </a:r>
            <a:br>
              <a:rPr sz="4000"/>
            </a:b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- "¿Me promete que no se enfadará …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00"/>
                </a:solidFill>
                <a:latin typeface="Arial"/>
              </a:rPr>
              <a:t>- "Se lo prometo“-, dice el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660000"/>
                </a:solidFill>
                <a:latin typeface="Arial"/>
              </a:rPr>
              <a:t>- “¡Yo estaba detrás de usted en la cola del McDonald's!!!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Tras el alta, al emprender el regreso a casa, se detiene en un puesto de venta de periódicos, para comprar una revis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Antes de irse, le dice al vendedo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- "Espero que no se </a:t>
            </a:r>
            <a:br>
              <a:rPr sz="4000"/>
            </a:b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moleste si le pregunto algo,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… </a:t>
            </a: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¿cuántos años cree que tengo?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- "Alrededor de 32“-, responde el homb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- "¡No! Exactamente tengo 50", contesta muy feliz la mujer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08:07:23Z</dcterms:created>
  <dc:creator>papá</dc:creator>
  <dc:description/>
  <dc:language>en-US</dc:language>
  <cp:lastModifiedBy>Lozano Suñer, Francisco</cp:lastModifiedBy>
  <dcterms:modified xsi:type="dcterms:W3CDTF">2007-06-08T14:46:18Z</dcterms:modified>
  <cp:revision>3</cp:revision>
  <dc:subject/>
  <dc:title>¿EXPERIENCIA?</dc:title>
</cp:coreProperties>
</file>