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FE28-58B7-4A44-B01A-C3B5E357D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F206-3699-4133-BB94-1E76D626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595F-0214-4F35-90BC-517EE9868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B686-5100-4A57-A9F0-EA18EB0D9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5F3F-2189-411B-8454-0A592BBA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F104-34B4-4A96-9954-2B4F086E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BF94-FC81-4D18-BDDF-83E15220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C409-192B-4C14-AE4F-500622DE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912C-7E0F-4A06-8A96-1CB78D12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0C4B-1FD1-4C7E-8CFE-1EEB2B75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330C-9EC9-4618-B25C-FF0D8A17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512F-7926-4073-A502-1286C323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E6F6-E362-459F-8B7C-CCF8F89E3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0792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¿EXPERIENCIA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00"/>
                </a:solidFill>
                <a:latin typeface="Arial"/>
              </a:rPr>
              <a:t>Poco después entra en un McDonald's y le hace la misma pregunta a la cajer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La chica le contesta:</a:t>
            </a:r>
            <a:br>
              <a:rPr sz="4000"/>
            </a:b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- "Yo diría que alrededor de 29.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La mujer le responde, con una amplia sonrisa:</a:t>
            </a:r>
            <a:br>
              <a:rPr sz="4000"/>
            </a:b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- "No, tengo 50.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La mujer se siente genial, rejuvenecida, nuev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Se detiene en una farmacia. Va al mostrador a pedir unos caramelos de menta y le pregunta al dependiente lo mism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00"/>
                </a:solidFill>
                <a:latin typeface="Arial"/>
              </a:rPr>
              <a:t>El dependiente le contesta:</a:t>
            </a:r>
            <a:br>
              <a:rPr sz="4000"/>
            </a:br>
            <a:r>
              <a:rPr b="1" lang="es-MX" sz="4000" spc="-1" strike="noStrike">
                <a:solidFill>
                  <a:srgbClr val="660000"/>
                </a:solidFill>
                <a:latin typeface="Arial"/>
              </a:rPr>
              <a:t>- "Oh, yo te echaría 30 años.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Orgullosamente, ella le replica:</a:t>
            </a:r>
            <a:br>
              <a:rPr sz="4000"/>
            </a:b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- "¡Tengo 50, pero muchas gracias!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Ya en la parada del autobús que la llevará a su casa, le hace </a:t>
            </a:r>
            <a:br>
              <a:rPr sz="4000"/>
            </a:b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la misma pregunta a un viejito de aspecto inofensivo, que también esper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Y él le dice:</a:t>
            </a:r>
            <a:br>
              <a:rPr sz="4000"/>
            </a:b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- "Señorita, yo ya tengo 78 años y mi visión es muy pobre.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“… </a:t>
            </a: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Sin embargo, cuando yo era joven, tenía un método infalible para averiguar la edad de una mujer …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Al llegar a sus 50 años, una mujer decide rejuvenecerse con una operación de cirugía plástica en la car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5640" y="2204640"/>
            <a:ext cx="692316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“… </a:t>
            </a: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Tal vez le parezca muy atrevido, pero debería dejarme meter las manos en su sujetador …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“… </a:t>
            </a: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Sólo de esa manera, y de ninguna otra, podré decirle EXACTAMENTE </a:t>
            </a:r>
            <a:br>
              <a:rPr sz="4000"/>
            </a:b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cuántos años tiene usted"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La mujer observa en silencio al anciano, en la calle vací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Hasta que no puede más con la curiosi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00"/>
                </a:solidFill>
                <a:latin typeface="Arial"/>
              </a:rPr>
              <a:t>Ya sabéis como son las mujer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Y, sin pensárselo más, le dice al ancian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- "¡Qué diablos! ¡A ver, aplique su método!"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El anciano coloca sus manos bajo la blusa de ella, y empieza a </a:t>
            </a:r>
            <a:br>
              <a:rPr sz="4000"/>
            </a:b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palpar muy despacio y suavemen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Levanta cada pecho y, delicadamente, aprieta los pezones, varias vec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Ajusta un pecho con el otro y los frota entre sí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Se gasta 15.000 €, y se queda asombrada al ver los resultados.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Después de unos cinco minutos de todo esto, ella dice:</a:t>
            </a:r>
            <a:br>
              <a:rPr sz="4000"/>
            </a:b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- “Ya está bien, ya está bien... ¿cuántos años tengo?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00"/>
                </a:solidFill>
                <a:latin typeface="Arial"/>
              </a:rPr>
              <a:t>Él da un último apretón a las tetas, saca las manos y le dice: </a:t>
            </a:r>
            <a:br>
              <a:rPr sz="4000"/>
            </a:br>
            <a:r>
              <a:rPr b="1" lang="es-MX" sz="4000" spc="-1" strike="noStrike">
                <a:solidFill>
                  <a:srgbClr val="660000"/>
                </a:solidFill>
                <a:latin typeface="Arial"/>
              </a:rPr>
              <a:t>- “Señorita, usted tiene 50 años"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00"/>
                </a:solidFill>
                <a:latin typeface="Arial"/>
              </a:rPr>
              <a:t>Muy sorprendida, la mujer contesta:</a:t>
            </a:r>
            <a:br>
              <a:rPr sz="4000"/>
            </a:br>
            <a:r>
              <a:rPr b="1" lang="es-MX" sz="4000" spc="-1" strike="noStrike">
                <a:solidFill>
                  <a:srgbClr val="660000"/>
                </a:solidFill>
                <a:latin typeface="Arial"/>
              </a:rPr>
              <a:t>- “És realmente increíble, ¿cómo </a:t>
            </a:r>
            <a:br>
              <a:rPr sz="4000"/>
            </a:br>
            <a:r>
              <a:rPr b="1" lang="es-MX" sz="4000" spc="-1" strike="noStrike">
                <a:solidFill>
                  <a:srgbClr val="660000"/>
                </a:solidFill>
                <a:latin typeface="Arial"/>
              </a:rPr>
              <a:t>lo hizo para saberlo?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El anciano responde:</a:t>
            </a:r>
            <a:br>
              <a:rPr sz="4000"/>
            </a:b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- "¿Me promete que no se enfadará …?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00"/>
                </a:solidFill>
                <a:latin typeface="Arial"/>
              </a:rPr>
              <a:t>- "Se lo prometo“-, dice ell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660000"/>
                </a:solidFill>
                <a:latin typeface="Arial"/>
              </a:rPr>
              <a:t>- “¡Yo estaba detrás de usted en la cola del McDonald's!!!"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Tras el alta, al emprender el regreso a casa, se detiene en un puesto de venta de periódicos, para comprar una revist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Antes de irse, le dice al vendedor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- "Espero que no se </a:t>
            </a:r>
            <a:br>
              <a:rPr sz="4000"/>
            </a:b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moleste si le pregunto algo,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… </a:t>
            </a: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¿cuántos años cree que tengo?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- "Alrededor de 32“-, responde el homb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5000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00"/>
                </a:solidFill>
                <a:latin typeface="Arial"/>
              </a:rPr>
              <a:t>- "¡No! Exactamente tengo 50", contesta muy feliz la mujer.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8T08:07:23Z</dcterms:created>
  <dc:creator>papá</dc:creator>
  <dc:description/>
  <dc:language>en-US</dc:language>
  <cp:lastModifiedBy>Lozano Suñer, Francisco</cp:lastModifiedBy>
  <dcterms:modified xsi:type="dcterms:W3CDTF">2007-06-08T14:46:18Z</dcterms:modified>
  <cp:revision>3</cp:revision>
  <dc:subject/>
  <dc:title>¿EXPERIENCIA?</dc:title>
</cp:coreProperties>
</file>