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33.gif" ContentType="image/gif"/>
  <Override PartName="/ppt/media/image2.jpeg" ContentType="image/jpeg"/>
  <Override PartName="/ppt/media/image23.jpeg" ContentType="image/jpeg"/>
  <Override PartName="/ppt/media/bell%20airport%20theme.wav" ContentType="audio/x-wav"/>
  <Override PartName="/ppt/media/image1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3C53-5ECC-4469-AEB4-8D01158BD25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1FF0-7332-4E38-A4D9-23DC7DE657B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E5D8-59A7-4666-B4B9-BA60F25B063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9CE3-86B2-45D3-A0EB-0EC87E59202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191C-DBB4-4036-907F-99FA1EB403D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8146-544B-4DCC-B52D-91423C904CF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1EB8-BF0E-4E2C-9CEF-C6F9C261D40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6D9C-52F5-4BEF-B029-B522248BAB7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00FB-DD3D-477F-B7A4-195F7869D29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59E8-87B1-4C56-AF99-F1CEBE3E2BC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FB97-54C5-4BEB-B3AA-12A7A74C38F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B29C-032B-4150-8619-6CA270C319B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96DD-F215-4EB6-88FC-AC3472B1C38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946F-55CE-4B7A-B89A-6ABF3DC4426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0EB6-93E4-4543-8A87-3134F1557D9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0CE5-312C-439E-99F2-0198EDF3EFB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7F8C-45B1-4C13-BB6F-322E4491090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E2E7-1183-4EC5-AF29-894F528455E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028F-4576-437F-BDB2-FD35F60D7BD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1AFD-D2E6-4BE4-9B14-389BFA3C10B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ACCE-7EF9-4E2E-9E17-AAFEFACBCFF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4958-8D63-4106-87C9-69398C33398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4392-12E7-44AD-998B-209EFCFDBC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C0D5-017F-41F4-AC29-61486835D87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8A4E-8A06-48AD-8CA3-5086B969B69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BC2B-4727-44E1-9525-F70B9C2BE1B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E39B-A2FF-4E7F-A5A2-CB44CA14222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5982-FD76-49E1-8272-A719030EE37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2FCB-818F-4DDF-8C9A-4BD69102C78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19B5-125F-472C-B61F-913316EDEA0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E30E-9EC3-4DAA-BA17-028D6CEB997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2509-48DE-44F9-9AE9-6F72A8134C7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7B0-C95F-4E55-8F78-4F3A49BB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F68B-FB53-46BB-998F-3A52F7FF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607BE-7567-49CD-9972-DD323EB3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2A70C-0B5C-4D93-B486-C4D744AC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C9E5B-B7D8-457B-897F-6C4E7FF0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921B8-6269-4BDA-9099-F5C236D3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86480-3991-471E-9549-BF809AC3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FE088-5E4E-4D70-8AAB-A337AD67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38F26-6EB0-4F1F-9414-D6F0C162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5737D-BE51-4E08-AAC1-9828AF9A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3BD53-2F64-4D2A-BAA0-70B829DD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6B3B4-ADB1-4368-938C-9430A898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889-CD28-4849-AFE6-42192AD2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6AEF3-C57C-45E8-AB22-D1634E8A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9CC4E-9135-4246-9AE6-C7AB773D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298DC-18F8-43EC-9BF6-C57AAA5F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807B0-73C6-4964-A1EC-44FD061C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A9F92-B021-46EB-A633-3385541B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2AE67-9E00-4E36-908A-C4CE852D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60365-9921-4660-BC5C-5FA432FB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66AB7-25CC-4CC3-ABA1-0EA1BAF1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51936-442F-4219-A742-5124BF1B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B4C79-DE25-407B-99B6-818B11A1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29E-C089-4E41-810F-370596A3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695B5-C70E-4356-B285-A2F83F37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91134-C923-463F-B891-DF4ED1E2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3A327-EC2D-42C9-BCCB-BD01FC62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85201-BA9E-4D24-8A14-8A14F019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CA4D8-4B98-42AB-B93F-F1442DD9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C6443-5B41-488B-A70A-16EEC247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6E4A3-3D39-430A-9482-7294F293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7DB8E-3ED0-4A38-813A-32041329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B37F9-2721-4577-B2CE-50467908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52F60-EA8B-42B8-8AD9-163197E7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C12B-6B86-4B93-A377-EADC53FC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500EF-5260-47E6-8C31-667B2C14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4A349-7E2B-4896-AF90-5EA276EF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D762B-24E4-40BE-BF0F-F03403A0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3679E-EA34-4F39-AD33-BB00495A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49D25-904D-4701-99C6-DFCAF35C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E126E-E31F-493B-834B-719D6E28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D74D8-F1AF-42B4-97F2-7076E914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B37FE-AE16-4F79-A6A6-AC6A070D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C2A9F-1B3B-433E-8F46-D7970C64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DDA8B-F43B-497C-91F3-5514D1DF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FE93-DD31-44B9-9ED2-3AB78BA4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2347C-4C9C-4013-B0A1-A8258444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C6989-09E0-43EA-934B-CE777CFD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EEFA8-68DB-4A6E-A0F2-66813A81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6CD0D-FF8D-47A5-B53D-1B8FDE3A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17151-53CE-4C0E-AAAC-C252BBBA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ED91-DAD2-4B05-872B-5AFDA4F8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5230-8690-4907-B33A-A588A193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0A38-DA55-4D57-B731-9668492D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433C-43AF-4A30-909A-DE44AAF2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FCA9-045E-4471-9C05-35673178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1CE-44C2-486D-8DEE-C3B890C1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DCBD-7136-4905-9023-5B463C70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B7C2-D6E7-4A9C-BD29-3D9D497C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A285-7848-42A7-8279-8709ECB7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8B4C-783C-458A-B992-C827A13A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9E8A-5687-4CFC-9983-554C1057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2A370-25DE-41BE-8023-B8F8B15C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BC9D0-F71D-4828-B199-0FC49F3C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809CA-A779-44EF-89F0-1C4BF575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81A61-5642-415E-9B2C-2DD6D0DB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6F7DB-B0BF-4850-823B-EABDE045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8F3A-6C08-45F5-AE58-9A1986FF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85E51-5326-4DD4-BDD7-EBD1D39F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A5C49-D7EB-46C5-B508-80140CFD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DA7C4-353E-4571-8757-597FFEF5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70BA0-4B3D-4076-8B9F-225EE3F8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7339F-6D52-4266-9983-BE2D5E46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C2329-0ECD-4FAD-AF6B-8E9D7B3C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39692-993E-482A-A4C6-DA2956C4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299BE-DB32-413A-9934-34DCB77C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BFFB9-2D1E-488E-BA34-F83FA9AD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D1EE5-176C-4B20-8607-343C13E2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B086-735E-4065-81F4-5DB1A754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14CD1-C621-4224-ABC8-8095AB71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68512-912D-4D40-8090-2CC044AE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0431C-167B-4A17-B88E-86DC9858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B8332-515A-4AE1-A46E-92C39AC1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E5C10-296B-4BB7-96E1-80A0B933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9E3B4-C03A-41C8-8865-696449C5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8BB78-28B5-46FA-BD48-4F25038E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5014D-98E9-489E-9981-CDFED368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EE778-3DEC-4E83-BD64-516773B4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ACDEE-721C-4518-8D24-A768944B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6B79-7BC3-4F25-8FD9-A0759567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A0C31-BCC7-49B0-BB5A-10F62D0F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D1939-71E6-4377-88B6-3CFA02C1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73904-D074-4E10-925B-4555F77B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EB20A-256A-4205-870D-E1662E28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981F6-EB6C-47BE-8391-020A2940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6A389-4093-49DC-841F-6421918F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44D74-4093-4C2E-A7B2-FA884631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CD850-368E-4615-9AEC-0036C520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11C53-B757-4CAA-8702-594DEEA2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07E0F-1462-4293-B711-B2A5410F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C95A-D256-460B-A074-8B9BEBA1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9435C-1497-4C15-8C5C-3281EA8C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0B8B3-AFBA-467C-A363-48ECFADA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15229-BD78-40EF-9751-73CABCE2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6277C-A58E-4043-AF37-118683F2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27BB4-A01F-4613-B195-183B768F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743C3-4999-4BCF-9324-6F68A355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4EFE4-FD6B-427B-8242-230FCD0F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4C189-59A4-49DE-B406-FC22F567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488FE-C20C-4223-B321-E451F559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8C576-E7F1-4F0F-B8FC-DC8345EB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C5F7-2530-43AA-B98E-C0718D01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3635B-719C-4645-80BE-1B084F09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DF544-51E5-4F08-AF43-08AAA026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E010C-AEFE-4657-AF00-F3E7D59D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2FA7D-26BE-4672-93F7-178A8FA5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A20A0-889A-40D8-A1B5-E4397F10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BA0ED-D560-4BAF-BA6C-1AFFD448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6C9A8-42DE-4EF6-B6F4-015ADC53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E1F49-1DBC-4D26-8DC4-6CEC4FEB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A9919-80A7-4390-B90A-8C88E731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F1758-7604-4628-A4D8-E1CFB827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2A52-4196-4261-A3CE-7B782888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0F875-86A9-4BB0-8AF0-C78DCFBD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9609D-B6E8-41B7-8918-0815F0CB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AB3F7-C516-496B-899E-81DC8084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C6183-8454-4122-9BB9-515B62B5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DCC6A-2A7E-40B7-88C5-C26D3875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526D4-A8D6-493C-8344-21A03AA9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D6518-E5E7-47A1-97BC-074ADC2F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F3BBE-BA1F-472A-A637-67E6C77D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29F82-C3AE-41CF-A538-0ABEBAF4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F8A0A-69D5-49C7-94BF-FDD7C7EF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585-6300-454B-9AD6-A8043B80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E2718-B2F8-4769-BE96-E7B51DDA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830C5-F069-43CA-B928-25E03875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44FF8-DC7F-4654-B855-4D9938A8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43EA3-652A-42B1-B95A-1648A7D1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5B5C8-6F11-4FF6-946C-9DD6A5D7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D3309-2076-479B-B8ED-CF2A83D4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FEAC5-81EC-4FAB-A74A-FB3C0DDF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1864D-5E8C-4427-BFDD-386463AC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20D23-21A6-4309-801C-28FE1B11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A4BF3-C52E-4367-9141-51220541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2829-17FB-4C9E-B1F0-8E4E7B1BD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27F4-A08D-45CD-8103-91D400AC0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CECA-32F5-4C31-9C78-77BFD1F0E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35FE-34D2-435F-99E7-D139DBEFE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7E26-FC8F-4769-A02D-970FCFEC0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73BD-6F9A-40DB-9B0C-693A0770C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971A-7E59-46E3-91AC-E02EC15E2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5F4C-D535-4450-BDFC-9B2753892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D6C7-4A77-484E-8F3D-D2D22FF39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0984-7A52-4650-B791-A9FEA8AAE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6C6D-2C75-420B-A426-5E49078BB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A057-1607-49E9-B87D-5AD434E41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ell%20airport%20theme.wav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WordArt 2"/>
          <p:cNvSpPr txBox="1"/>
          <p:nvPr/>
        </p:nvSpPr>
        <p:spPr>
          <a:xfrm>
            <a:off x="3962520" y="304920"/>
            <a:ext cx="48387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olando...</a:t>
            </a:r>
            <a:endParaRPr b="1" i="1" lang="en-US" sz="5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-37440" y="6308640"/>
            <a:ext cx="38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empus Sans ITC"/>
              </a:rPr>
              <a:t>Música: tema de “Aeropuerto” </a:t>
            </a:r>
            <a:endParaRPr b="1" i="1" lang="en-US" sz="20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501" name="3 CuadroTexto"/>
          <p:cNvSpPr/>
          <p:nvPr/>
        </p:nvSpPr>
        <p:spPr>
          <a:xfrm>
            <a:off x="4643280" y="6000840"/>
            <a:ext cx="32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empus Sans ITC"/>
              </a:rPr>
              <a:t>No usar el ratón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12000">
    <p:zoom dir="out"/>
    <p:sndAc>
      <p:stSnd>
        <p:snd r:embed="rId2" name="bell%20airport%20them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3"/>
          <p:cNvSpPr/>
          <p:nvPr/>
        </p:nvSpPr>
        <p:spPr>
          <a:xfrm>
            <a:off x="3564000" y="6165720"/>
            <a:ext cx="558000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las cataratas del Niágara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907560" y="333360"/>
            <a:ext cx="217548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Cuba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395280" y="260280"/>
            <a:ext cx="743580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el glaciar Perito Moreno, Argentina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365040" y="324000"/>
            <a:ext cx="658332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66"/>
                </a:solidFill>
                <a:latin typeface="Tempus Sans ITC"/>
              </a:rPr>
              <a:t>Sobre el volcán Popocatepetl, México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380880" y="552600"/>
            <a:ext cx="303876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Indonesia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5580000" y="333360"/>
            <a:ext cx="302436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empus Sans ITC"/>
              </a:rPr>
              <a:t>Sobre los Andes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593640" y="324000"/>
            <a:ext cx="426564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la selva boliviana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2916360" y="260280"/>
            <a:ext cx="622764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empus Sans ITC"/>
              </a:rPr>
              <a:t>Sobre las cataratas Victoria, Africa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1 CuadroTexto"/>
          <p:cNvSpPr/>
          <p:nvPr/>
        </p:nvSpPr>
        <p:spPr>
          <a:xfrm>
            <a:off x="1714680" y="1357200"/>
            <a:ext cx="45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Volando…</a:t>
            </a:r>
            <a:endParaRPr b="1" i="1" lang="en-US" sz="36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6342120" y="6021360"/>
            <a:ext cx="280188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Turquía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3"/>
          <p:cNvSpPr/>
          <p:nvPr/>
        </p:nvSpPr>
        <p:spPr>
          <a:xfrm>
            <a:off x="380880" y="380880"/>
            <a:ext cx="527076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los fiordos de Noruega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593640" y="552600"/>
            <a:ext cx="376236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empus Sans ITC"/>
              </a:rPr>
              <a:t>Sobre Río de Janeiro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395280" y="476280"/>
            <a:ext cx="513864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las dunas de Namibia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4065120" y="6021360"/>
            <a:ext cx="47998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lagunas de sal, EEUU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441360" y="5877000"/>
            <a:ext cx="4922640" cy="520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el monte Fuji, Japón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Sin título3"/>
          <p:cNvPicPr/>
          <p:nvPr/>
        </p:nvPicPr>
        <p:blipFill>
          <a:blip r:embed="rId1"/>
          <a:stretch/>
        </p:blipFill>
        <p:spPr>
          <a:xfrm>
            <a:off x="158760" y="549360"/>
            <a:ext cx="8825040" cy="5759280"/>
          </a:xfrm>
          <a:prstGeom prst="rect">
            <a:avLst/>
          </a:prstGeom>
          <a:ln w="9360">
            <a:solidFill>
              <a:srgbClr val="b2cce6"/>
            </a:solidFill>
            <a:miter/>
          </a:ln>
        </p:spPr>
      </p:pic>
      <p:sp>
        <p:nvSpPr>
          <p:cNvPr id="525" name="2 CuadroTexto"/>
          <p:cNvSpPr/>
          <p:nvPr/>
        </p:nvSpPr>
        <p:spPr>
          <a:xfrm>
            <a:off x="1000080" y="51436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empus Sans ITC"/>
              </a:rPr>
              <a:t>Volando…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4284720" y="6093000"/>
            <a:ext cx="3527280" cy="52056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empus Sans ITC"/>
              </a:rPr>
              <a:t>Sobre Cádiz, Spain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216000" y="6165720"/>
            <a:ext cx="558000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empus Sans ITC"/>
              </a:rPr>
              <a:t>Sobre las líneas de Nazca, Perú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365040" y="476280"/>
            <a:ext cx="255132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Roma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5770080" y="333360"/>
            <a:ext cx="26802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empus Sans ITC"/>
              </a:rPr>
              <a:t>Sobre Islandia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517680" y="399960"/>
            <a:ext cx="506232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empus Sans ITC"/>
              </a:rPr>
              <a:t>Tormenta sobre Puerto Rico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705240" y="260280"/>
            <a:ext cx="770004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empus Sans ITC"/>
              </a:rPr>
              <a:t>Tormenta sobre Hanoi, a 5000 pies de altura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152280" y="5734080"/>
            <a:ext cx="549936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2200"/>
                </a:solidFill>
                <a:latin typeface="Tempus Sans ITC"/>
              </a:rPr>
              <a:t>Sobre las pirámides de Egipto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595440" y="552600"/>
            <a:ext cx="757692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empus Sans ITC"/>
              </a:rPr>
              <a:t>Sobre la torre Sutro, San Francisco, EEUU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6040800" y="6127920"/>
            <a:ext cx="257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1" i="1" lang="en-US" sz="2000" spc="-1" strike="noStrike">
                <a:solidFill>
                  <a:srgbClr val="ffffff"/>
                </a:solidFill>
                <a:latin typeface="Tempus Sans ITC"/>
              </a:rPr>
              <a:t>N</a:t>
            </a:r>
            <a:r>
              <a:rPr b="1" i="1" lang="es-ES" sz="2000" spc="-1" strike="noStrike">
                <a:solidFill>
                  <a:srgbClr val="ffffff"/>
                </a:solidFill>
                <a:latin typeface="Tempus Sans ITC"/>
              </a:rPr>
              <a:t>or</a:t>
            </a:r>
            <a:r>
              <a:rPr b="1" i="1" lang="en-US" sz="2000" spc="-1" strike="noStrike">
                <a:solidFill>
                  <a:srgbClr val="ffffff"/>
                </a:solidFill>
                <a:latin typeface="Tempus Sans ITC"/>
              </a:rPr>
              <a:t>@ </a:t>
            </a:r>
            <a:r>
              <a:rPr b="1" i="1" lang="es-ES" sz="2000" spc="-1" strike="noStrike">
                <a:solidFill>
                  <a:srgbClr val="ffffff"/>
                </a:solidFill>
                <a:latin typeface="Tempus Sans ITC"/>
              </a:rPr>
              <a:t>- Enero 2008</a:t>
            </a:r>
            <a:endParaRPr b="1" i="1" lang="en-US" sz="2000" spc="-1" strike="noStrike">
              <a:solidFill>
                <a:srgbClr val="ffffff"/>
              </a:solidFill>
              <a:latin typeface="Tempus Sans ITC"/>
            </a:endParaRPr>
          </a:p>
        </p:txBody>
      </p:sp>
      <p:pic>
        <p:nvPicPr>
          <p:cNvPr id="537" name="Picture 3" descr="_plaquinhaTHEEND8"/>
          <p:cNvPicPr/>
          <p:nvPr/>
        </p:nvPicPr>
        <p:blipFill>
          <a:blip r:embed="rId2"/>
          <a:stretch/>
        </p:blipFill>
        <p:spPr>
          <a:xfrm>
            <a:off x="6948360" y="5229360"/>
            <a:ext cx="1086120" cy="571320"/>
          </a:xfrm>
          <a:prstGeom prst="rect">
            <a:avLst/>
          </a:prstGeom>
          <a:ln w="0">
            <a:noFill/>
          </a:ln>
        </p:spPr>
      </p:pic>
      <p:sp>
        <p:nvSpPr>
          <p:cNvPr id="538" name="3 Marcador de fecha"/>
          <p:cNvSpPr/>
          <p:nvPr/>
        </p:nvSpPr>
        <p:spPr>
          <a:xfrm>
            <a:off x="685800" y="3857760"/>
            <a:ext cx="81723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Una abraçade avui i sempre  </a:t>
            </a:r>
            <a:endParaRPr b="1" i="1" lang="en-US" sz="2000" spc="-1" strike="noStrike">
              <a:solidFill>
                <a:srgbClr val="ffffff"/>
              </a:solidFill>
              <a:latin typeface="Tempus Sans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469F-66BE-4D4B-826C-15923BAB202E}" type="datetime2">
              <a:rPr b="1" lang="es-ES" sz="2000" spc="-1" strike="noStrike">
                <a:solidFill>
                  <a:srgbClr val="000000"/>
                </a:solidFill>
                <a:latin typeface="Comic Sans MS"/>
              </a:rPr>
              <a:t>miércoles, 29 de julio de 2026</a:t>
            </a:fld>
            <a:endParaRPr b="1" i="1" lang="en-US" sz="2000" spc="-1" strike="noStrike">
              <a:solidFill>
                <a:srgbClr val="ffffff"/>
              </a:solidFill>
              <a:latin typeface="Tempus Sans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 las </a:t>
            </a:r>
            <a:fld id="{AE8B94DE-A5C1-4E3C-968C-0B2BD7E85028}" type="datetime11">
              <a:rPr b="1" lang="es-ES" sz="2000" spc="-1" strike="noStrike">
                <a:solidFill>
                  <a:srgbClr val="000000"/>
                </a:solidFill>
                <a:latin typeface="Comic Sans MS"/>
              </a:rPr>
              <a:t>07:39:29</a:t>
            </a:fld>
            <a:endParaRPr b="1" i="1" lang="en-US" sz="20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15000">
    <p:zoom dir="ou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77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770" fill="hold"/>
                                        <p:tgtEl>
                                          <p:spTgt spid="5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441360" y="399960"/>
            <a:ext cx="269064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empus Sans ITC"/>
              </a:rPr>
              <a:t>Sobre el Tibet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4286160" y="285840"/>
            <a:ext cx="417348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1600"/>
                </a:solidFill>
                <a:latin typeface="Tempus Sans ITC"/>
              </a:rPr>
              <a:t>Sobre el Río Amazonas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3"/>
          <p:cNvSpPr/>
          <p:nvPr/>
        </p:nvSpPr>
        <p:spPr>
          <a:xfrm>
            <a:off x="1214280" y="357120"/>
            <a:ext cx="206244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Irán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1000080" y="571680"/>
            <a:ext cx="407664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Amanecer sobre Israel  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2556000" y="6338880"/>
            <a:ext cx="5796000" cy="52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empus Sans ITC"/>
              </a:rPr>
              <a:t>Sobre las Islas Faroe, Dinamarca</a:t>
            </a:r>
            <a:endParaRPr b="1" i="1" lang="en-US" sz="28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1 CuadroTexto"/>
          <p:cNvSpPr/>
          <p:nvPr/>
        </p:nvSpPr>
        <p:spPr>
          <a:xfrm>
            <a:off x="500040" y="128592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igue volando….</a:t>
            </a:r>
            <a:endParaRPr b="1" i="1" lang="en-US" sz="3200" spc="-1" strike="noStrike">
              <a:solidFill>
                <a:srgbClr val="ffffff"/>
              </a:solidFill>
              <a:latin typeface="Tempus Sans ITC"/>
            </a:endParaRPr>
          </a:p>
        </p:txBody>
      </p:sp>
    </p:spTree>
  </p:cSld>
  <p:transition spd="slow" advTm="8000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20:02:20Z</dcterms:created>
  <dc:creator>Nora - Uruguay</dc:creator>
  <dc:description/>
  <dc:language>en-US</dc:language>
  <cp:lastModifiedBy>Ana Dominguez</cp:lastModifiedBy>
  <dcterms:modified xsi:type="dcterms:W3CDTF">2010-10-11T17:12:24Z</dcterms:modified>
  <cp:revision>29</cp:revision>
  <dc:subject/>
  <dc:title>Presentación de PowerPoint</dc:title>
</cp:coreProperties>
</file>