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2.jpeg" ContentType="image/jpeg"/>
  <Override PartName="/ppt/media/image23.jpeg" ContentType="image/jpeg"/>
  <Override PartName="/ppt/media/bell%20airport%20theme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3433-8085-40F7-91E4-4616839F37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635-9919-4A86-8FEA-71F50B3A70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2CC-5B7A-4032-901F-60A2C8EDB8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C18-E0AE-444F-A0C1-B8229A167B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8B1-F9FB-4640-BD93-6D20F9A2BB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5A4-35EF-40AD-AB3C-6E6C991B84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093-DC4A-483D-8BA3-1A585F3D1C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42B-9B69-4BBE-98C5-D8A564CF15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0BB-695D-40DB-9141-6B3BC95ECA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76F-0C0F-44AF-AA3B-C06AFC80A5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C3E-F26B-4E77-8E27-3DAD93EE8D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DBCF-0AF2-4194-831F-052EB13DD8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7A55-1338-42DD-B318-B6935F5F4F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6A6-DA4E-4DB0-8D88-3615A1C4DA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74F-4C25-4DBE-A806-FAD01B4993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B9F-E4EE-4959-890E-9FE757A989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565C-7AAB-4858-8C04-FF674ED73B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7A3E-9D05-46C1-8801-0A297A70D0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601A-4539-4ACA-BF49-780D491F68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53F-B8C0-46A3-AAE2-5E4CC7E603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2B0A-C6BD-47BA-AA9A-2B55C270E3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153-6D4A-4CE7-B5F5-B1AF755A76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82D-6C9E-4272-AEEF-93EC193E37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2948-C2BA-4617-A7B6-8BB2652E59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C0C0-93E9-4C4D-B870-2DEA7199D1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E91-5464-484D-AF14-64A5CCB82D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EC7-DAFA-4DC1-825A-26DF0F1332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FAE-8BE9-457A-A485-CC55B8E0AE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34A-5B06-4B8A-BAC5-9011E53525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EC5-73D7-4DF4-8B60-DEFC833214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B35-796E-4057-85D3-550CE82B44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5943-060E-4971-BEA7-BDF3EA8D44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030-557E-43A1-A941-A68517AE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702-9EA6-409E-ACE9-A46754B8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2CAF2-D8B8-4832-8CA4-CE43950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975EF-06DD-4608-92A8-D48A09A8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63369-3BDB-47A1-B467-692BD807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37F3-0A1D-4D18-83EA-358349B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632EE-ECD0-4562-BFA3-0C391DB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856B2-8BCC-4466-923D-4FE0D30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1129-4B63-40FF-AA9C-DD6BBB9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C5B6A-9E7A-4198-8A0B-F2CEA390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BF019-901C-4792-8042-C8919437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1BC86-8064-4D0B-90C2-08D4A9CB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531-9525-4EE7-BDCB-ED26A68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7BE76-641D-465F-879A-1AB657C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09C70-E1A0-4CEE-9E25-28BD712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1C441-2DF7-4D28-8963-E29A6388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3816E-4F29-4A2D-80AE-8D032014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85390-6F8D-4BA5-8EA7-79BCECA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252F-72EA-4D50-8147-44C54C1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3CF65-4BA1-491A-98E3-117D4E9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2AABB-E86E-49A4-939B-E9F17F7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09BEC-E0B8-48A1-A497-1A822DC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52F4-9BD9-4DD0-A2D1-D15B2C6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C80-39BB-4A84-904C-C187ED1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CE4B1-CF9C-43BE-B67D-F055B270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CF42E-1A20-46DA-9971-2E5BEC3F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9B7D7-1DD8-4157-9821-0FF1116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5B44-5C02-4179-9EA7-EE60E74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F269D-8E22-4C3E-B4D5-67F6095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1CD6-9092-4BA5-8C9B-622759E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95310-D521-4C3E-ABDB-273EC2D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E9FB5-B2F8-48B6-8F6C-A7EC9B4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190C-0804-427D-A2B8-765B9FE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9E1B2-A65E-4E6F-983D-637DD5B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AA4C-B929-49D2-A15E-6DC32A81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3FF27-B296-451F-AEB2-D7D0A73D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D5A4-C406-46B5-8D01-761DACA6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F2F09-ACA4-4831-8F55-6C7837B0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C66BC-B391-49FA-AB35-FB204F09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A75A1-A4FA-46A7-8CF8-84C91AB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C0AD5-0534-48B5-9BFA-EE600A7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16ED1-0870-4208-9CC4-8E62F7C1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8A91A-881F-4578-9CB1-D2D25D4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F7C66-8560-40BA-B6C5-77640FBC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B6D4C-8B53-4276-B537-F9FFDCA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08A-66F9-4043-9603-A2CF6CF0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9B00F-994E-4EA1-A4D2-AEFBC43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D5844-5866-422A-8236-D776582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4539-7C6A-481C-8B58-786F222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BAECA-6832-4C4B-86A3-2579D3CB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8B908-C545-43E8-B62F-EA022E09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D1D0-BE32-4900-9718-438BC87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5933-A6ED-4846-9CEF-4554D89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3230-152C-46A5-AC52-2893EAF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C7F6-0079-4056-B5E5-BA047626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BBB-A858-4BD6-B827-B5D71C2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193-3A89-4288-A29C-434D707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2F03-C23F-4C0C-9639-49C049A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B84-02EF-4F34-8634-1B93F5F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9CCD-9EB2-487D-887F-D4A5816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B5DC-7824-481E-9035-6D4FD755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F10-4CB2-446E-B376-C8762D58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8E90-C3D0-4C71-B39F-BA44D0F1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26EC-41E7-406C-ACCE-152CBF54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3029-A9CE-43EB-8567-74A269A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6499-F3C4-4489-A65B-63497B6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A784-9E62-430C-881B-1BCC724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207-B970-4178-BBC0-617ECE7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847C-9D8F-4FD4-A6B5-98A1231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DCB7-52E1-44C7-86B1-9BD2EB04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8359-039B-424B-9B8E-161E45D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444E-DD65-4B85-A932-A08A66D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B9F5-E89E-41D1-A1EE-71FCD49B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FC43-0915-4702-AE54-3E0A5E31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0781-543E-4D0A-ADAB-8557910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DA6E-A982-4554-985B-36F3960D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F03E-81E9-45E9-B4B3-658750A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25C2-4111-4BDF-A893-4BEA8DE0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973-8FDD-4342-A3F9-211BD62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3EBC-55B7-43CA-9D23-052FDB12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A5D1-856F-4462-9A73-92D2DBD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0A23-7AEF-4C47-B53D-B0735F1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AB8E-9E05-4697-94B5-B6AED2D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22DE-1D34-4A13-B3D8-8423FD5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6E09-0405-4030-9F42-68BAD06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C963-E24C-4AC0-B6B6-4F0B202C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F66F-A04C-4C65-870C-1BE5AD7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9809-F394-4A0E-BD39-5E79D345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F4DAF-8123-41F7-9092-7ECF7322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097-9394-4F92-A3FF-A8DC1F9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DC3F-413E-484C-BE6B-38DC8DB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8B26-71CE-4B8C-B5A5-A01158FF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95DC-8E79-4FE1-AF62-F8CC557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1239-38B8-4FAE-9C09-3EDF39D2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33AA-80B0-42FF-B56F-78F878CC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A64A-4051-4D32-A069-33874C4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2896-2090-4608-ADE2-5CA2D4F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E60F-2365-470A-B2AD-84C4F60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0971-2FC8-4C03-BA52-582EA6C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618B-BE0D-4427-B776-DB8C1F64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450-1C80-4424-B1EC-E85325E3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130B6-9FF4-41C8-8BDD-A3CE4B7D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4733-CE59-4560-B1AB-216383C6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F41D-BD59-4DED-8735-CA41371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23B8-A988-43DB-B6D7-4CB8D87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2509-BC76-448C-9A46-DCC1384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4170-BB2F-41C4-9894-67A80C9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00C1-A075-47F1-B13C-09DA9199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4AE5-2E65-4382-9A32-CABE452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283F-8402-4205-A643-064074F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78CF-A216-4284-91ED-C9E60672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493-49C1-40CB-AA98-7AF4385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C59F-8C11-4F98-8744-90D2ACA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6E83-B41F-4ECF-998C-E89F306C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10F2-1675-44EC-A65A-C7369C07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44C7-EFD2-4BE0-90F3-AE2AA61C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A1F3-6391-4328-9265-37151CFE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67560-30E1-4979-9055-982F7EDC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B654-FCB6-42FE-9F31-83ED3EB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5E5C-AFF0-49C0-9408-8A0FA2EE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6D34-BE0C-435C-9DA2-5E2886B0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DE1E-021C-4F4F-B584-362BACF3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9FA-45C2-4C8B-8890-6004C69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6ED21-868D-4179-918A-14C2327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99EF-CF5D-4B44-B408-8686724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3CB7B-4966-49B4-BDA3-55EE89B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89931-CB29-4109-A4D1-894D7E0E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2065-551C-47E1-9092-5D693D4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D854-F03B-4679-9ACC-8AE3C1A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F6B9-E17B-4308-ABFB-EF59693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41E3-CE73-41EF-894B-0C5AA35A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A417E-77B1-4DB6-B24E-E781FA6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EC96-5BEB-4961-992F-CA531D0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C29-9257-450F-AB81-687C02F3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AEF8-5A2B-405A-8015-37E2FF9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8603-0BF9-4B7B-84C8-E28CEE8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A075-9462-4331-9548-B670BF4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E2FE7-F905-48F3-989C-E4C18F1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ED265-4650-4451-8EF9-A306038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4822-5AE8-414E-AFDA-B82E6303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A0DDF-9BC0-42DE-841F-E077C0E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4EAC-1D7E-49DA-B8B3-A5371784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FE76-8AE4-4630-BF2B-3D83537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A4DE1-E444-4FFF-9C6B-AE77E59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A3D-E4E0-40C1-91D8-5CAEB030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06E1-01EA-4CC9-86CF-E6318B209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EE1-C84D-45C7-92C3-D4BF1FD8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88C-DE9A-405E-BD54-7785B75E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4C6-8C74-4BD7-BC8B-FD209EE8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766-DC0E-404E-BBD7-87AAFE91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872-F1ED-4290-915E-66D6CB55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A64-EAAB-46FF-A304-F76E8F54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A99-DC4E-438D-8321-9E83FC8A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F6F-4A2B-424D-B08C-3CF7378FA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D0E-A615-4133-ABEF-E466D4CF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EDA-3C79-44A1-B6FB-B95781706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ll%20airport%20theme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3962520" y="304920"/>
            <a:ext cx="48387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olando...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-37440" y="630864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Música: tema de “Aeropuerto” 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4643280" y="600084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No usar el rató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12000">
    <p:zoom dir="out"/>
    <p:sndAc>
      <p:stSnd>
        <p:snd r:embed="rId2" name="bell%20airport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3564000" y="6165720"/>
            <a:ext cx="5580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cataratas del Niágar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907560" y="333360"/>
            <a:ext cx="21754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Cub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395280" y="260280"/>
            <a:ext cx="74358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el glaciar Perito Moreno, Argentin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65040" y="324000"/>
            <a:ext cx="6583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66"/>
                </a:solidFill>
                <a:latin typeface="Tempus Sans ITC"/>
              </a:rPr>
              <a:t>Sobre el volcán Popocatepetl, Méxic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80880" y="552600"/>
            <a:ext cx="30387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Indones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580000" y="333360"/>
            <a:ext cx="3024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los Andes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593640" y="324000"/>
            <a:ext cx="4265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 selva bolivian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916360" y="260280"/>
            <a:ext cx="6227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las cataratas Victoria, Afric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CuadroTexto"/>
          <p:cNvSpPr/>
          <p:nvPr/>
        </p:nvSpPr>
        <p:spPr>
          <a:xfrm>
            <a:off x="1714680" y="135720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Volando…</a:t>
            </a:r>
            <a:endParaRPr b="1" i="1" lang="en-US" sz="36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6342120" y="6021360"/>
            <a:ext cx="28018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Turquí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380880" y="380880"/>
            <a:ext cx="52707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os fiordos de Norueg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593640" y="552600"/>
            <a:ext cx="3762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Río de Janeir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476280"/>
            <a:ext cx="5138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dunas de Namib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4065120" y="6021360"/>
            <a:ext cx="47998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gunas de sal, EEUU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441360" y="5877000"/>
            <a:ext cx="49226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el monte Fuji, Japó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Sin título3"/>
          <p:cNvPicPr/>
          <p:nvPr/>
        </p:nvPicPr>
        <p:blipFill>
          <a:blip r:embed="rId1"/>
          <a:stretch/>
        </p:blipFill>
        <p:spPr>
          <a:xfrm>
            <a:off x="158760" y="549360"/>
            <a:ext cx="8825040" cy="5759280"/>
          </a:xfrm>
          <a:prstGeom prst="rect">
            <a:avLst/>
          </a:prstGeom>
          <a:ln w="9360">
            <a:solidFill>
              <a:srgbClr val="b2cce6"/>
            </a:solidFill>
            <a:miter/>
          </a:ln>
        </p:spPr>
      </p:pic>
      <p:sp>
        <p:nvSpPr>
          <p:cNvPr id="525" name="2 CuadroTexto"/>
          <p:cNvSpPr/>
          <p:nvPr/>
        </p:nvSpPr>
        <p:spPr>
          <a:xfrm>
            <a:off x="1000080" y="5143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Volando…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4284720" y="6093000"/>
            <a:ext cx="3527280" cy="5205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empus Sans ITC"/>
              </a:rPr>
              <a:t>Sobre Cádiz, Spain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216000" y="6165720"/>
            <a:ext cx="5580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Sobre las líneas de Nazca, Perú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65040" y="476280"/>
            <a:ext cx="2551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Rom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770080" y="333360"/>
            <a:ext cx="26802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Island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517680" y="399960"/>
            <a:ext cx="5062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Tormenta sobre Puerto Ric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705240" y="260280"/>
            <a:ext cx="77000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Tormenta sobre Hanoi, a 5000 pies de altur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52280" y="5734080"/>
            <a:ext cx="5499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2200"/>
                </a:solidFill>
                <a:latin typeface="Tempus Sans ITC"/>
              </a:rPr>
              <a:t>Sobre las pirámides de Egipt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595440" y="552600"/>
            <a:ext cx="75769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la torre Sutro, San Francisco, EEUU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040800" y="6127920"/>
            <a:ext cx="25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empus Sans ITC"/>
              </a:rPr>
              <a:t>or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@ </a:t>
            </a:r>
            <a:r>
              <a:rPr b="1" i="1" lang="es-ES" sz="2000" spc="-1" strike="noStrike">
                <a:solidFill>
                  <a:srgbClr val="ffffff"/>
                </a:solidFill>
                <a:latin typeface="Tempus Sans ITC"/>
              </a:rPr>
              <a:t>- Enero 2008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  <p:pic>
        <p:nvPicPr>
          <p:cNvPr id="537" name="Picture 3" descr="_plaquinhaTHEEND8"/>
          <p:cNvPicPr/>
          <p:nvPr/>
        </p:nvPicPr>
        <p:blipFill>
          <a:blip r:embed="rId2"/>
          <a:stretch/>
        </p:blipFill>
        <p:spPr>
          <a:xfrm>
            <a:off x="6948360" y="5229360"/>
            <a:ext cx="1086120" cy="571320"/>
          </a:xfrm>
          <a:prstGeom prst="rect">
            <a:avLst/>
          </a:prstGeom>
          <a:ln w="0">
            <a:noFill/>
          </a:ln>
        </p:spPr>
      </p:pic>
      <p:sp>
        <p:nvSpPr>
          <p:cNvPr id="538" name="3 Marcador de fecha"/>
          <p:cNvSpPr/>
          <p:nvPr/>
        </p:nvSpPr>
        <p:spPr>
          <a:xfrm>
            <a:off x="685800" y="3857760"/>
            <a:ext cx="8172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na abraçade avui i sempre  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F04-C516-4546-B5BF-BF2AF9AB0EE5}" type="datetime2"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iernes, 31 de julio de 2026</a:t>
            </a:fld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 las </a:t>
            </a:r>
            <a:fld id="{6D938546-40F4-4DE6-B4C6-AF5F14CB1F4A}" type="datetime11">
              <a:rPr b="1" lang="es-ES" sz="2000" spc="-1" strike="noStrike">
                <a:solidFill>
                  <a:srgbClr val="000000"/>
                </a:solidFill>
                <a:latin typeface="Comic Sans MS"/>
              </a:rPr>
              <a:t>17:04:51</a:t>
            </a:fld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15000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5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441360" y="399960"/>
            <a:ext cx="2690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el Tibet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4286160" y="285840"/>
            <a:ext cx="41734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600"/>
                </a:solidFill>
                <a:latin typeface="Tempus Sans ITC"/>
              </a:rPr>
              <a:t>Sobre el Río Amazonas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1214280" y="357120"/>
            <a:ext cx="20624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Irá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000080" y="571680"/>
            <a:ext cx="4076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Amanecer sobre Israel 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556000" y="6338880"/>
            <a:ext cx="5796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Islas Faroe, Dinamarca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1 CuadroTexto"/>
          <p:cNvSpPr/>
          <p:nvPr/>
        </p:nvSpPr>
        <p:spPr>
          <a:xfrm>
            <a:off x="500040" y="12859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igue volando….</a:t>
            </a:r>
            <a:endParaRPr b="1" i="1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2:20Z</dcterms:created>
  <dc:creator>Nora - Uruguay</dc:creator>
  <dc:description/>
  <dc:language>en-US</dc:language>
  <cp:lastModifiedBy>Ana Dominguez</cp:lastModifiedBy>
  <dcterms:modified xsi:type="dcterms:W3CDTF">2010-10-11T17:12:24Z</dcterms:modified>
  <cp:revision>29</cp:revision>
  <dc:subject/>
  <dc:title>Presentación de PowerPoint</dc:title>
</cp:coreProperties>
</file>