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ana%20winner%20-%20ich%20liebe%20dich(2)1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149-8216-4881-BC72-5F063CE3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9E0-7F26-4799-B6EB-E0C797BF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47C-7D3E-4B2B-B2FF-7646DA8F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456-85B3-418B-B713-125E1C9B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AC5-490D-4CA3-AAAB-4A9E1E8C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B85-2013-4795-877E-71E1832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92A-F2DE-4E0E-AC07-414CF9F4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DBA-39E7-4810-B19F-D0049788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6A7-B94B-42C5-82C0-070933A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867-CB7C-4A65-883A-7BC3D42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E9C-909F-4438-880D-6CD094B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0B2-55D0-4991-B4A5-96AA354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2C5-0C95-4DE6-AE71-47F49453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na%20winner%20-%20ich%20liebe%20dich(2)16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2"/>
          <p:cNvSpPr/>
          <p:nvPr/>
        </p:nvSpPr>
        <p:spPr>
          <a:xfrm>
            <a:off x="0" y="59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eneralmente, las madres, mas que amar a los hijos, se aman en los hijos”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(Friedrich Nietzs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3286080" y="3143160"/>
            <a:ext cx="58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MÁ SOLO MUERE CUANDO QU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entágono 4"/>
          <p:cNvSpPr/>
          <p:nvPr/>
        </p:nvSpPr>
        <p:spPr>
          <a:xfrm flipV="1">
            <a:off x="8286840" y="6571440"/>
            <a:ext cx="642960" cy="11772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117720"/>
              <a:gd name="textAreaBottom" fmla="*/ 117720 h 11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7" y="0"/>
                </a:lnTo>
                <a:lnTo>
                  <a:pt x="21600" y="10800"/>
                </a:lnTo>
                <a:lnTo>
                  <a:pt x="196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dana%20winner%20-%20ich%20liebe%20dich(2)166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0" name="Retângulo 2"/>
          <p:cNvSpPr/>
          <p:nvPr/>
        </p:nvSpPr>
        <p:spPr>
          <a:xfrm>
            <a:off x="1928880" y="2286000"/>
            <a:ext cx="721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pesar de todo                                      continué creyendo en la tesis de la muerte                 lenta y demorada,                                             y de a poco me 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fuí</a:t>
            </a: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 sintiendo mas distante y autónomo, aún cuando a intervalos regulares                              ella reapareciese en mi vida desempeñando papeles importantes y únicos,                                        papeles que solamente ella podría protagonizar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2" name="Retângulo 2"/>
          <p:cNvSpPr/>
          <p:nvPr/>
        </p:nvSpPr>
        <p:spPr>
          <a:xfrm>
            <a:off x="3500280" y="207180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el final de esa historia,                        al contrario de lo que siempre imaginé,  fué ella quien la defini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3286080" y="4143240"/>
            <a:ext cx="58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uando menos lo esperaba, ella decidió mori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75" name="Retângulo 2"/>
          <p:cNvSpPr/>
          <p:nvPr/>
        </p:nvSpPr>
        <p:spPr>
          <a:xfrm>
            <a:off x="2786040" y="1143000"/>
            <a:ext cx="63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sí, sin mas, ni menos, sin pedir permiso,                      sin hora marcada u ocasión para la despedid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tângulo 3"/>
          <p:cNvSpPr/>
          <p:nvPr/>
        </p:nvSpPr>
        <p:spPr>
          <a:xfrm>
            <a:off x="2928960" y="2857680"/>
            <a:ext cx="62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la simplemente se fué,                            dejando la lección: las madres son para siemp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ângulo 4"/>
          <p:cNvSpPr/>
          <p:nvPr/>
        </p:nvSpPr>
        <p:spPr>
          <a:xfrm>
            <a:off x="3357720" y="4286160"/>
            <a:ext cx="578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l contrario de lo que siempre imaginé,        son ellas quienes deciden cuanto esta eternidad puede durar en la vida, y cuanto queda relegado para el etéreo terreno de la nostalg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ixaDeTexto 5"/>
          <p:cNvSpPr/>
          <p:nvPr/>
        </p:nvSpPr>
        <p:spPr>
          <a:xfrm>
            <a:off x="4500720" y="621504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conozco el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80" name="Retângulo 3"/>
          <p:cNvSpPr/>
          <p:nvPr/>
        </p:nvSpPr>
        <p:spPr>
          <a:xfrm>
            <a:off x="2571840" y="2357280"/>
            <a:ext cx="65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sé... Si la vida es corta </a:t>
            </a:r>
            <a:br>
              <a:rPr sz="2000"/>
            </a:b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o demasiado larga para nosotros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ângulo 4"/>
          <p:cNvSpPr/>
          <p:nvPr/>
        </p:nvSpPr>
        <p:spPr>
          <a:xfrm>
            <a:off x="3000240" y="357192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olo sé                                           que debemos demostrar nuestro amor a las personas, mientras ellas están por aqui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954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2"/>
          <p:cNvSpPr/>
          <p:nvPr/>
        </p:nvSpPr>
        <p:spPr>
          <a:xfrm>
            <a:off x="4572000" y="714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s por eso que tenemos que amarla siempre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ângulo 3"/>
          <p:cNvSpPr/>
          <p:nvPr/>
        </p:nvSpPr>
        <p:spPr>
          <a:xfrm>
            <a:off x="5429160" y="16430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no matarla en vi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4572000" y="26431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unca sabremos cuando ella vá a querer partir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ângulo 8"/>
          <p:cNvSpPr/>
          <p:nvPr/>
        </p:nvSpPr>
        <p:spPr>
          <a:xfrm>
            <a:off x="4572000" y="38577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El vacío que queda, nunca conseguiremos llenarlo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ângulo 9"/>
          <p:cNvSpPr/>
          <p:nvPr/>
        </p:nvSpPr>
        <p:spPr>
          <a:xfrm>
            <a:off x="4572000" y="5072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ien aún la tiene a su lado, ámala..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ângulo 10"/>
          <p:cNvSpPr/>
          <p:nvPr/>
        </p:nvSpPr>
        <p:spPr>
          <a:xfrm>
            <a:off x="4357800" y="5929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brázala siempre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3571920" y="314316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para quien ya no la tien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2"/>
          <p:cNvSpPr/>
          <p:nvPr/>
        </p:nvSpPr>
        <p:spPr>
          <a:xfrm>
            <a:off x="4572000" y="30002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Guarda sus recuerdos en el mas precioso de los baúl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4" name="Retângulo 2"/>
          <p:cNvSpPr/>
          <p:nvPr/>
        </p:nvSpPr>
        <p:spPr>
          <a:xfrm>
            <a:off x="3500280" y="1214280"/>
            <a:ext cx="52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ondequiera que ella esté, debes saber que siempre vá a entender el mensaje...  Vá a llorar cuando llor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ângulo 4"/>
          <p:cNvSpPr/>
          <p:nvPr/>
        </p:nvSpPr>
        <p:spPr>
          <a:xfrm>
            <a:off x="3500280" y="292896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Vá a sonreir cuando sonrí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5"/>
          <p:cNvSpPr/>
          <p:nvPr/>
        </p:nvSpPr>
        <p:spPr>
          <a:xfrm>
            <a:off x="3500280" y="4143240"/>
            <a:ext cx="52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Vá a velar por tu sueño, como lo hacía cuando eras un niñ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98" name="Retângulo 2"/>
          <p:cNvSpPr/>
          <p:nvPr/>
        </p:nvSpPr>
        <p:spPr>
          <a:xfrm>
            <a:off x="3071880" y="25002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esperes su partida para darle A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0" name="Retângulo 2"/>
          <p:cNvSpPr/>
          <p:nvPr/>
        </p:nvSpPr>
        <p:spPr>
          <a:xfrm>
            <a:off x="3000240" y="257184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Un día vas a descubrir que tal vez la persona que mas te amó en la vida, fué ell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46" name="Retângulo 2"/>
          <p:cNvSpPr/>
          <p:nvPr/>
        </p:nvSpPr>
        <p:spPr>
          <a:xfrm>
            <a:off x="3143160" y="78588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o tenía 6 años                                 cuando maté a mi mamá por primera vez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2714760" y="285768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quería que estuviera junto a mí                        en mi 1º día de clas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4"/>
          <p:cNvSpPr/>
          <p:nvPr/>
        </p:nvSpPr>
        <p:spPr>
          <a:xfrm>
            <a:off x="3214800" y="492912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o me consideraba lo suficientemente fuerte            para enfrentar los desafíos                     que la nueva vida me traerí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2" name="Retângulo 2"/>
          <p:cNvSpPr/>
          <p:nvPr/>
        </p:nvSpPr>
        <p:spPr>
          <a:xfrm>
            <a:off x="3071880" y="11430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ncondicionalm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ângulo 3"/>
          <p:cNvSpPr/>
          <p:nvPr/>
        </p:nvSpPr>
        <p:spPr>
          <a:xfrm>
            <a:off x="2786040" y="285768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Desde que surgiste en esta vid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4"/>
          <p:cNvSpPr/>
          <p:nvPr/>
        </p:nvSpPr>
        <p:spPr>
          <a:xfrm>
            <a:off x="3143160" y="471492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Si ella está a tu lado, dale un beso y un abrazo, y decile lo que ella siempre quizo oí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6" name="Retângulo 2"/>
          <p:cNvSpPr/>
          <p:nvPr/>
        </p:nvSpPr>
        <p:spPr>
          <a:xfrm>
            <a:off x="2928960" y="214308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MA, YO TE AMO! GRACIAS POR EXISTI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3"/>
          <p:cNvSpPr/>
          <p:nvPr/>
        </p:nvSpPr>
        <p:spPr>
          <a:xfrm>
            <a:off x="2857680" y="385776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Y si ella ya no está a tu l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4"/>
          <p:cNvSpPr/>
          <p:nvPr/>
        </p:nvSpPr>
        <p:spPr>
          <a:xfrm>
            <a:off x="3786120" y="307188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Música: Ich Liebe Dich. Danna W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5"/>
          <p:cNvSpPr/>
          <p:nvPr/>
        </p:nvSpPr>
        <p:spPr>
          <a:xfrm>
            <a:off x="3857760" y="9288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ierra los ojos y haz una oración por ella, agradeciendo por la vida y también diciendo que la am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0" name="Retângulo 2"/>
          <p:cNvSpPr/>
          <p:nvPr/>
        </p:nvSpPr>
        <p:spPr>
          <a:xfrm>
            <a:off x="2786040" y="257184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ocas semanas después                           descubrí aliviado que ella aún estaba allí, lista para defenderme de los compañeros agresivos que me amenazaban, y para auxiliarme frente a las dificultades de mis primeras cu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2" name="Retângulo 2"/>
          <p:cNvSpPr/>
          <p:nvPr/>
        </p:nvSpPr>
        <p:spPr>
          <a:xfrm>
            <a:off x="3000240" y="221472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14 años la maté nue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3000240" y="378612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No la quería imponiéndome reglas o límites,  ni que me impidiera vivir la plenitud de los vuelos juveni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5" name="Retângulo 2"/>
          <p:cNvSpPr/>
          <p:nvPr/>
        </p:nvSpPr>
        <p:spPr>
          <a:xfrm>
            <a:off x="2786040" y="1857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enseguida, con la primera borrachera,                              felizmente la redescubrí vi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3500280" y="3786120"/>
            <a:ext cx="564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ué cuando ella no solo me curó de la resaca, sino que también impidió                                 la vergonzosa paliza que recibiría de mi padr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2"/>
          <p:cNvSpPr/>
          <p:nvPr/>
        </p:nvSpPr>
        <p:spPr>
          <a:xfrm>
            <a:off x="3000240" y="1857240"/>
            <a:ext cx="614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18 años                                          pensé que mataría a mi madre definitivamente, sin chances para la resurre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3"/>
          <p:cNvSpPr/>
          <p:nvPr/>
        </p:nvSpPr>
        <p:spPr>
          <a:xfrm>
            <a:off x="3214800" y="378612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Había entrado a la facultad, me había mudado a la capital, hacía política estudiantil,                        actividades en que la presencia materna      no cabía en ninguna hipótesi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1" name="Retângulo 2"/>
          <p:cNvSpPr/>
          <p:nvPr/>
        </p:nvSpPr>
        <p:spPr>
          <a:xfrm>
            <a:off x="3929040" y="25718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Ingenuo eng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571840" y="357192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cuando me descubrí confundido sobre que rumbo seguir, volví a la casa materna,                               único espacio posible de guarida y comprens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Retângulo 2"/>
          <p:cNvSpPr/>
          <p:nvPr/>
        </p:nvSpPr>
        <p:spPr>
          <a:xfrm>
            <a:off x="2428920" y="2286000"/>
            <a:ext cx="67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A los 23 años                                           me dí cuenta que la muerte materna era posible, solo requería lentitud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3"/>
          <p:cNvSpPr/>
          <p:nvPr/>
        </p:nvSpPr>
        <p:spPr>
          <a:xfrm>
            <a:off x="2857680" y="392904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Fué cuando me casé, planté bandera de independencia y seguí viaj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4429080" cy="5857920"/>
          </a:xfrm>
          <a:prstGeom prst="rect">
            <a:avLst/>
          </a:prstGeom>
          <a:ln w="0">
            <a:noFill/>
          </a:ln>
        </p:spPr>
      </p:pic>
      <p:sp>
        <p:nvSpPr>
          <p:cNvPr id="67" name="Retângulo 2"/>
          <p:cNvSpPr/>
          <p:nvPr/>
        </p:nvSpPr>
        <p:spPr>
          <a:xfrm>
            <a:off x="3071880" y="200016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ero bastó ver nacer a mi primera hija, para descubrir que ese ser llamado madre                      se transformaría en un especimen              aún mas vigoroso llamado abuel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ângulo 3"/>
          <p:cNvSpPr/>
          <p:nvPr/>
        </p:nvSpPr>
        <p:spPr>
          <a:xfrm>
            <a:off x="3214800" y="42148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mic Sans MS"/>
              </a:rPr>
              <a:t>Para quien aún no vivió la experiencia,  abuela es madre en dosis doble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15:37Z</dcterms:created>
  <dc:creator>Gilmar Schardosim</dc:creator>
  <dc:description/>
  <dc:language>en-US</dc:language>
  <cp:lastModifiedBy>María</cp:lastModifiedBy>
  <dcterms:modified xsi:type="dcterms:W3CDTF">2009-10-16T02:50:05Z</dcterms:modified>
  <cp:revision>53</cp:revision>
  <dc:subject/>
  <dc:title>Slide 1</dc:title>
</cp:coreProperties>
</file>