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dana%20winner%20-%20ich%20liebe%20dich(2)166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5EE-3C8F-477D-B6BA-6991C218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51C-098D-4335-B556-9DD54DC3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DC6-B718-4EE8-B77C-BCFDBD6A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F691-38F6-4BBD-BD91-43DB5B09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B963-D1B2-4D33-A531-38588B12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E64E-0659-477F-807F-7449EAF6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5C4-921F-4A31-B259-9524852D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9C0-5434-4266-A6E7-96FCA2D3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057-D210-498F-85E5-96518948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BBD-1823-4702-B481-F9376A3B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9C0-36A1-49DD-ABB8-47A69332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298-D643-4A21-AEE0-495D3A53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7D98-D26B-4C12-BB56-C7DE6343F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ana%20winner%20-%20ich%20liebe%20dich(2)166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2"/>
          <p:cNvSpPr/>
          <p:nvPr/>
        </p:nvSpPr>
        <p:spPr>
          <a:xfrm>
            <a:off x="0" y="59292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Generalmente, las madres, mas que amar a los hijos, se aman en los hijos” </a:t>
            </a: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(Friedrich Nietzsc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tângulo 3"/>
          <p:cNvSpPr/>
          <p:nvPr/>
        </p:nvSpPr>
        <p:spPr>
          <a:xfrm>
            <a:off x="3286080" y="3143160"/>
            <a:ext cx="58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AMÁ SOLO MUERE CUANDO QUI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entágono 4"/>
          <p:cNvSpPr/>
          <p:nvPr/>
        </p:nvSpPr>
        <p:spPr>
          <a:xfrm flipV="1">
            <a:off x="8286840" y="6571440"/>
            <a:ext cx="642960" cy="117720"/>
          </a:xfrm>
          <a:custGeom>
            <a:avLst/>
            <a:gdLst>
              <a:gd name="textAreaLeft" fmla="*/ 0 w 642960"/>
              <a:gd name="textAreaRight" fmla="*/ 642960 w 642960"/>
              <a:gd name="textAreaTop" fmla="*/ -360 h 117720"/>
              <a:gd name="textAreaBottom" fmla="*/ 117720 h 11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27" y="0"/>
                </a:lnTo>
                <a:lnTo>
                  <a:pt x="21600" y="10800"/>
                </a:lnTo>
                <a:lnTo>
                  <a:pt x="196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  <p:sndAc>
      <p:stSnd>
        <p:snd r:embed="rId2" name="dana%20winner%20-%20ich%20liebe%20dich(2)166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70" name="Retângulo 2"/>
          <p:cNvSpPr/>
          <p:nvPr/>
        </p:nvSpPr>
        <p:spPr>
          <a:xfrm>
            <a:off x="1928880" y="2286000"/>
            <a:ext cx="7215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 pesar de todo                                      continué creyendo en la tesis de la muerte                 lenta y demorada,                                             y de a poco me </a:t>
            </a: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fuí</a:t>
            </a: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 sintiendo mas distante y autónomo, aún cuando a intervalos regulares                              ella reapareciese en mi vida desempeñando papeles importantes y únicos,                                        papeles que solamente ella podría protagonizar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72" name="Retângulo 2"/>
          <p:cNvSpPr/>
          <p:nvPr/>
        </p:nvSpPr>
        <p:spPr>
          <a:xfrm>
            <a:off x="3500280" y="2071800"/>
            <a:ext cx="564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Pero el final de esa historia,                        al contrario de lo que siempre imaginé,  fué ella quien la defini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tângulo 3"/>
          <p:cNvSpPr/>
          <p:nvPr/>
        </p:nvSpPr>
        <p:spPr>
          <a:xfrm>
            <a:off x="3286080" y="4143240"/>
            <a:ext cx="585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cuando menos lo esperaba, ella decidió mor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75" name="Retângulo 2"/>
          <p:cNvSpPr/>
          <p:nvPr/>
        </p:nvSpPr>
        <p:spPr>
          <a:xfrm>
            <a:off x="2786040" y="1143000"/>
            <a:ext cx="635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sí, sin mas, ni menos, sin pedir permiso,                      sin hora marcada u ocasión para la despedid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tângulo 3"/>
          <p:cNvSpPr/>
          <p:nvPr/>
        </p:nvSpPr>
        <p:spPr>
          <a:xfrm>
            <a:off x="2928960" y="2857680"/>
            <a:ext cx="621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lla simplemente se fué,                            dejando la lección: las madres son para siempr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tângulo 4"/>
          <p:cNvSpPr/>
          <p:nvPr/>
        </p:nvSpPr>
        <p:spPr>
          <a:xfrm>
            <a:off x="3357720" y="4286160"/>
            <a:ext cx="5786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l contrario de lo que siempre imaginé,        son ellas quienes deciden cuanto esta eternidad puede durar en la vida, y cuanto queda relegado para el etéreo terreno de la nostalgi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ixaDeTexto 5"/>
          <p:cNvSpPr/>
          <p:nvPr/>
        </p:nvSpPr>
        <p:spPr>
          <a:xfrm>
            <a:off x="4500720" y="6215040"/>
            <a:ext cx="35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Desconozco el 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80" name="Retângulo 3"/>
          <p:cNvSpPr/>
          <p:nvPr/>
        </p:nvSpPr>
        <p:spPr>
          <a:xfrm>
            <a:off x="2571840" y="2357280"/>
            <a:ext cx="65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No sé... Si la vida es corta </a:t>
            </a: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o demasiado larga para nosotros,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tângulo 4"/>
          <p:cNvSpPr/>
          <p:nvPr/>
        </p:nvSpPr>
        <p:spPr>
          <a:xfrm>
            <a:off x="3000240" y="3571920"/>
            <a:ext cx="614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Solo sé                                           que debemos demostrar nuestro amor a las personas, mientras ellas están por aqui..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5954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83" name="Retângulo 2"/>
          <p:cNvSpPr/>
          <p:nvPr/>
        </p:nvSpPr>
        <p:spPr>
          <a:xfrm>
            <a:off x="4572000" y="7142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s por eso que tenemos que amarla siempre!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tângulo 3"/>
          <p:cNvSpPr/>
          <p:nvPr/>
        </p:nvSpPr>
        <p:spPr>
          <a:xfrm>
            <a:off x="5429160" y="164304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Y no matarla en vid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tângulo 5"/>
          <p:cNvSpPr/>
          <p:nvPr/>
        </p:nvSpPr>
        <p:spPr>
          <a:xfrm>
            <a:off x="4572000" y="26431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Nunca sabremos cuando ella vá a querer partir..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tângulo 8"/>
          <p:cNvSpPr/>
          <p:nvPr/>
        </p:nvSpPr>
        <p:spPr>
          <a:xfrm>
            <a:off x="4572000" y="38577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l vacío que queda, nunca conseguiremos llenarlo..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tângulo 9"/>
          <p:cNvSpPr/>
          <p:nvPr/>
        </p:nvSpPr>
        <p:spPr>
          <a:xfrm>
            <a:off x="4572000" y="50720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Para quien aún la tiene a su lado, ámala..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tângulo 10"/>
          <p:cNvSpPr/>
          <p:nvPr/>
        </p:nvSpPr>
        <p:spPr>
          <a:xfrm>
            <a:off x="4357800" y="5929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brázala siempre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90" name="Retângulo 2"/>
          <p:cNvSpPr/>
          <p:nvPr/>
        </p:nvSpPr>
        <p:spPr>
          <a:xfrm>
            <a:off x="3571920" y="314316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Y para quien ya no la tien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92" name="Retângulo 2"/>
          <p:cNvSpPr/>
          <p:nvPr/>
        </p:nvSpPr>
        <p:spPr>
          <a:xfrm>
            <a:off x="4572000" y="30002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Guarda sus recuerdos en el mas precioso de los baúl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94" name="Retângulo 2"/>
          <p:cNvSpPr/>
          <p:nvPr/>
        </p:nvSpPr>
        <p:spPr>
          <a:xfrm>
            <a:off x="3500280" y="1214280"/>
            <a:ext cx="52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Dondequiera que ella esté, debes saber que siempre vá a entender el mensaje...  Vá a llorar cuando llor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tângulo 4"/>
          <p:cNvSpPr/>
          <p:nvPr/>
        </p:nvSpPr>
        <p:spPr>
          <a:xfrm>
            <a:off x="3500280" y="2928960"/>
            <a:ext cx="52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Vá a sonreir cuando sonría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tângulo 5"/>
          <p:cNvSpPr/>
          <p:nvPr/>
        </p:nvSpPr>
        <p:spPr>
          <a:xfrm>
            <a:off x="3500280" y="4143240"/>
            <a:ext cx="52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Vá a velar por tu sueño, como lo hacía cuando eras un niñ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98" name="Retângulo 2"/>
          <p:cNvSpPr/>
          <p:nvPr/>
        </p:nvSpPr>
        <p:spPr>
          <a:xfrm>
            <a:off x="3071880" y="250020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No esperes su partida para darle AM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100" name="Retângulo 2"/>
          <p:cNvSpPr/>
          <p:nvPr/>
        </p:nvSpPr>
        <p:spPr>
          <a:xfrm>
            <a:off x="3000240" y="2571840"/>
            <a:ext cx="614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Un día vas a descubrir que tal vez la persona que mas te amó en la vida, fué ell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46" name="Retângulo 2"/>
          <p:cNvSpPr/>
          <p:nvPr/>
        </p:nvSpPr>
        <p:spPr>
          <a:xfrm>
            <a:off x="3143160" y="785880"/>
            <a:ext cx="600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Yo tenía 6 años                                 cuando maté a mi mamá por primera vez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tângulo 3"/>
          <p:cNvSpPr/>
          <p:nvPr/>
        </p:nvSpPr>
        <p:spPr>
          <a:xfrm>
            <a:off x="2714760" y="2857680"/>
            <a:ext cx="642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No quería que estuviera junto a mí                        en mi 1º día de clas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ângulo 4"/>
          <p:cNvSpPr/>
          <p:nvPr/>
        </p:nvSpPr>
        <p:spPr>
          <a:xfrm>
            <a:off x="3214800" y="4929120"/>
            <a:ext cx="59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Yo me consideraba lo suficientemente fuerte            para enfrentar los desafíos                     que la nueva vida me traerí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102" name="Retângulo 2"/>
          <p:cNvSpPr/>
          <p:nvPr/>
        </p:nvSpPr>
        <p:spPr>
          <a:xfrm>
            <a:off x="3071880" y="114300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Incondicionalment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tângulo 3"/>
          <p:cNvSpPr/>
          <p:nvPr/>
        </p:nvSpPr>
        <p:spPr>
          <a:xfrm>
            <a:off x="2786040" y="2857680"/>
            <a:ext cx="63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Desde que surgiste en esta vid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tângulo 4"/>
          <p:cNvSpPr/>
          <p:nvPr/>
        </p:nvSpPr>
        <p:spPr>
          <a:xfrm>
            <a:off x="3143160" y="4714920"/>
            <a:ext cx="600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Si ella está a tu lado, dale un beso y un abrazo, y decile lo que ella siempre quizo oí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106" name="Retângulo 2"/>
          <p:cNvSpPr/>
          <p:nvPr/>
        </p:nvSpPr>
        <p:spPr>
          <a:xfrm>
            <a:off x="2928960" y="214308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AMA, YO TE AMO! GRACIAS POR EXISTI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ângulo 3"/>
          <p:cNvSpPr/>
          <p:nvPr/>
        </p:nvSpPr>
        <p:spPr>
          <a:xfrm>
            <a:off x="2857680" y="385776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Y si ella ya no está a tu lad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109" name="CaixaDeTexto 4"/>
          <p:cNvSpPr/>
          <p:nvPr/>
        </p:nvSpPr>
        <p:spPr>
          <a:xfrm>
            <a:off x="3786120" y="307188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Música: Ich Liebe Dich. Danna W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aixaDeTexto 5"/>
          <p:cNvSpPr/>
          <p:nvPr/>
        </p:nvSpPr>
        <p:spPr>
          <a:xfrm>
            <a:off x="3857760" y="928800"/>
            <a:ext cx="392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Cierra los ojos y haz una oración por ella, agradeciendo por la vida y también diciendo que la ama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50" name="Retângulo 2"/>
          <p:cNvSpPr/>
          <p:nvPr/>
        </p:nvSpPr>
        <p:spPr>
          <a:xfrm>
            <a:off x="2786040" y="2571840"/>
            <a:ext cx="635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Pocas semanas después                           descubrí aliviado que ella aún estaba allí, lista para defenderme de los compañeros agresivos que me amenazaban, y para auxiliarme frente a las dificultades de mis primeras cuen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52" name="Retângulo 2"/>
          <p:cNvSpPr/>
          <p:nvPr/>
        </p:nvSpPr>
        <p:spPr>
          <a:xfrm>
            <a:off x="3000240" y="2214720"/>
            <a:ext cx="614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 los 14 años la maté nuevament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ângulo 3"/>
          <p:cNvSpPr/>
          <p:nvPr/>
        </p:nvSpPr>
        <p:spPr>
          <a:xfrm>
            <a:off x="3000240" y="3786120"/>
            <a:ext cx="614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No la quería imponiéndome reglas o límites,  ni que me impidiera vivir la plenitud de los vuelos juvenil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55" name="Retângulo 2"/>
          <p:cNvSpPr/>
          <p:nvPr/>
        </p:nvSpPr>
        <p:spPr>
          <a:xfrm>
            <a:off x="2786040" y="1857240"/>
            <a:ext cx="63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Pero enseguida, con la primera borrachera,                              felizmente la redescubrí viv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ângulo 3"/>
          <p:cNvSpPr/>
          <p:nvPr/>
        </p:nvSpPr>
        <p:spPr>
          <a:xfrm>
            <a:off x="3500280" y="3786120"/>
            <a:ext cx="564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fué cuando ella no solo me curó de la resaca, sino que también impidió                                 la vergonzosa paliza que recibiría de mi padr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58" name="Retângulo 2"/>
          <p:cNvSpPr/>
          <p:nvPr/>
        </p:nvSpPr>
        <p:spPr>
          <a:xfrm>
            <a:off x="3000240" y="1857240"/>
            <a:ext cx="614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 los 18 años                                          pensé que mataría a mi madre definitivamente, sin chances para la resurre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ângulo 3"/>
          <p:cNvSpPr/>
          <p:nvPr/>
        </p:nvSpPr>
        <p:spPr>
          <a:xfrm>
            <a:off x="3214800" y="3786120"/>
            <a:ext cx="59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Había entrado a la facultad, me había mudado a la capital, hacía política estudiantil,                        actividades en que la presencia materna      no cabía en ninguna hipótesi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61" name="Retângulo 2"/>
          <p:cNvSpPr/>
          <p:nvPr/>
        </p:nvSpPr>
        <p:spPr>
          <a:xfrm>
            <a:off x="3929040" y="257184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Ingenuo engañ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ângulo 3"/>
          <p:cNvSpPr/>
          <p:nvPr/>
        </p:nvSpPr>
        <p:spPr>
          <a:xfrm>
            <a:off x="2571840" y="3571920"/>
            <a:ext cx="657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cuando me descubrí confundido sobre que rumbo seguir, volví a la casa materna,                               único espacio posible de guarida y comprens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64" name="Retângulo 2"/>
          <p:cNvSpPr/>
          <p:nvPr/>
        </p:nvSpPr>
        <p:spPr>
          <a:xfrm>
            <a:off x="2428920" y="2286000"/>
            <a:ext cx="67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 los 23 años                                           me dí cuenta que la muerte materna era posible, solo requería lentitud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ângulo 3"/>
          <p:cNvSpPr/>
          <p:nvPr/>
        </p:nvSpPr>
        <p:spPr>
          <a:xfrm>
            <a:off x="2857680" y="3929040"/>
            <a:ext cx="628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Fué cuando me casé, planté bandera de independencia y seguí viaj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67" name="Retângulo 2"/>
          <p:cNvSpPr/>
          <p:nvPr/>
        </p:nvSpPr>
        <p:spPr>
          <a:xfrm>
            <a:off x="3071880" y="2000160"/>
            <a:ext cx="6072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Pero bastó ver nacer a mi primera hija, para descubrir que ese ser llamado madre                      se transformaría en un especimen              aún mas vigoroso llamado abuel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tângulo 3"/>
          <p:cNvSpPr/>
          <p:nvPr/>
        </p:nvSpPr>
        <p:spPr>
          <a:xfrm>
            <a:off x="3214800" y="4214880"/>
            <a:ext cx="59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Para quien aún no vivió la experiencia,  abuela es madre en dosis doble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23:15:37Z</dcterms:created>
  <dc:creator>Gilmar Schardosim</dc:creator>
  <dc:description/>
  <dc:language>en-US</dc:language>
  <cp:lastModifiedBy>María</cp:lastModifiedBy>
  <dcterms:modified xsi:type="dcterms:W3CDTF">2009-10-16T02:50:05Z</dcterms:modified>
  <cp:revision>53</cp:revision>
  <dc:subject/>
  <dc:title>Slide 1</dc:title>
</cp:coreProperties>
</file>