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4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45.jpeg" ContentType="image/jpeg"/>
  <Override PartName="/ppt/media/image55.png" ContentType="image/png"/>
  <Override PartName="/ppt/media/image46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44.png" ContentType="image/png"/>
  <Override PartName="/ppt/media/image40.jpeg" ContentType="image/jpeg"/>
  <Override PartName="/ppt/media/image5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58.jpeg" ContentType="image/jpeg"/>
  <Override PartName="/ppt/media/image37.jpeg" ContentType="image/jpeg"/>
  <Override PartName="/ppt/media/image59.jpeg" ContentType="image/jpeg"/>
  <Override PartName="/ppt/media/image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C47-EB7B-483D-BB75-A8AB0264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7E1-991D-46A4-A123-08668D8E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5E6-7674-4C1F-A857-74086516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69C-B838-485F-A377-078BC550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9F9A-016F-4EEC-A298-CAB521A1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B462-F29B-4F1F-8B5E-B79D31A0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A516-5501-40C5-879E-96DEE143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CD86-0DF6-457D-9BB8-6EE68CFD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3F90-7921-4962-A7D3-1BBEA9B1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B947-ACA0-4E9E-BD18-5C51108C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176B-4AB0-43B5-AFD0-30B305C8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9BF-4D0F-4790-95B0-8A7F7FE7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92D7-DCBB-49BB-A8BB-7BFCEB2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111A-EB0E-4478-8427-3729312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AEF1-93C6-4391-91A6-B7DBF54F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5C00-10D7-4CE4-A95F-192D668B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4B4D-A990-47DA-A1CC-0F26080A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0FB7-46C8-4BEA-A5C6-4BBC471C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A702-354E-4CF0-A6DE-040528A7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933C-FE33-4797-B27C-E07B0FBC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ED60-E40C-4F55-9071-E6881F6B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18AA-C0C3-47A5-99FE-F9A4AFE5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40B-2161-4AEE-94E0-AAB05F1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9804-C0EC-431F-A188-1300B63C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37A4-77ED-4D63-8D39-2BFF02FC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C4F34-627A-479C-81C2-1C5EC3C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9C89-BA07-4F95-A4FF-2642431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27D0-61E8-4958-A427-0CBDF6E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4843-76CF-4418-9504-F4BDF74D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2656-6238-45AB-A78C-11E6A7ED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C26F8-B692-4084-92A7-63699D4A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3621-B79F-49B6-B90A-1C4A2C07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5560-6700-463B-A1F6-4BB6C58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C13-3269-4B9A-BA1B-30ACDB12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FF63-9D9C-4325-94CD-8E7DDB1B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9715-5155-4600-8AAE-CE5908F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1807-E5E2-40C1-8DF2-7D36878A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1BEA-4098-4527-9D18-3D48F9FF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9DE80-8D6A-43A0-9484-CBD8DA61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9C02-E8C9-4100-9AE8-09E20C0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24123-D52E-4BB2-B099-7706965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F026-F386-4F22-B6A1-E5F2A3E3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4CDD-6580-44DB-AF2A-64D2FF02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B9393-40F5-4838-A9C1-332FDB09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31F-9F69-4F35-B132-DDE0B4F5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8F57-5DB0-4C0B-9D21-2B22C9B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261D8-D742-40DD-897F-6611CE27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ED91-0CD8-4789-BB48-B4FB4498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04F06-A45C-4E1C-BD94-0EF4412A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643E-3F0F-43D8-9D88-950F364E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E11E-A935-4AEF-9171-E5B496D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B654-2396-4ACF-BFEE-8947C54D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3B4B-E953-4A38-A4BA-3A1EDAB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3C757-87D3-4369-A50E-31351748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08AE-0CD2-4E57-B5C7-829532F3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8DE-E892-4B51-9729-5C6D1FB8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EFF18-0EDF-4109-A94A-90A971B1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8C57-A8C7-4459-A8DC-2AE16839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D324A-D167-4371-8E33-0FA9EDCF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31F0-2255-440D-9E2B-DB01B40E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D30D9-362F-477A-8447-2BBD1B3E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C109C-CC26-4AA7-829F-2236FF7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1E09E-A874-48F6-885D-97D88F8E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D7D4-F95A-452F-9AF4-89D23E1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8AFC4-8AB3-4853-B3F0-BBB23634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1576-501F-4710-B87C-909C77F9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7B5-6139-4356-B87D-1D1CF02C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383A7-F069-41DF-B960-F6574F15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5F851-8952-4576-9BB6-DCE9274A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111D5-0BD7-47AE-9AB3-199AFD85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30B4D-A39C-4F35-9578-DE98880C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BAEF3-46AC-4E94-A220-923BE649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60F29-0458-4FAE-A8D6-D76E54AC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76520-F7DB-4710-926E-CA2F871A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EC03E-1203-4614-8EB0-40BFA28E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825B-9D9B-47F2-94F7-855F97A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8E1BA-BF4E-4B24-8311-EE65AE9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009-8EC5-4217-A1D4-2D52E89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27AEE-B4D2-41D7-98A3-81962CE8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B68D-0F02-4AED-A5DC-ED4C062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C731-ADFB-4FCA-A5C4-FD238EED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FB41-5EA1-4C01-A5D9-B844DBE7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D04CF-9CE8-48B3-9ED2-5231B9D5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DA4-EC21-4C01-B28B-9136C510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EB7A-1427-4DA7-B9CB-49A5CB56D91B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9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5" marL="1425600" indent="-182520">
              <a:buClr>
                <a:srgbClr val="ffffff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6" marL="1425600" indent="-182520">
              <a:buClr>
                <a:srgbClr val="ffffff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C740-0B53-4CBE-9EEB-3EFEF668971C}" type="slidenum">
              <a:rPr b="0" lang="es-MX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11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5" marL="1425600" indent="-182520">
              <a:buClr>
                <a:srgbClr val="ffffff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  <a:p>
            <a:pPr lvl="6" marL="1425600" indent="-182520">
              <a:buClr>
                <a:srgbClr val="ffffff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Wingdings 2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B383-70CE-4BB4-A155-E0531697D59E}" type="slidenum">
              <a:rPr b="0" lang="es-MX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B2D6-CE80-44D6-9DA8-405B5321F847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11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3B7-5DC0-4CA0-9629-36C7B2FFF007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0FB6-7B1B-46D9-BFDD-CCED36EBBFAC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7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Wingdings 2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Wingdings 2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2" marL="995400" indent="-228600">
              <a:buClr>
                <a:srgbClr val="de6c36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3" marL="1216080" indent="-182520">
              <a:buClr>
                <a:srgbClr val="f9b639"/>
              </a:buClr>
              <a:buFont typeface="Corbe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4" marL="1425600" indent="-182520">
              <a:buClr>
                <a:srgbClr val="cf6da4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5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lvl="6" marL="1425600" indent="-182520">
              <a:buClr>
                <a:srgbClr val="000000"/>
              </a:buClr>
              <a:buFont typeface="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209-8191-4313-BBFB-5505DA41EF88}" type="slidenum">
              <a:rPr b="0" lang="es-MX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1614240"/>
          </a:xfrm>
          <a:prstGeom prst="rect">
            <a:avLst/>
          </a:prstGeom>
          <a:ln w="0">
            <a:noFill/>
          </a:ln>
        </p:spPr>
      </p:pic>
      <p:sp>
        <p:nvSpPr>
          <p:cNvPr id="304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5E1A-F096-4E1A-868D-001298036D5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5 Imagen" descr="tempFile.bmp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600200" y="2000160"/>
            <a:ext cx="5943600" cy="43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06" name="6 CuadroTexto"/>
          <p:cNvSpPr/>
          <p:nvPr/>
        </p:nvSpPr>
        <p:spPr>
          <a:xfrm>
            <a:off x="3439440" y="15717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R: CARLOS GI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7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42920" y="1428480"/>
            <a:ext cx="8429760" cy="4971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R NINGÚN MOTIVO   SEAS FIADOR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 PONERTE LA SOGA      AL CUELLO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S PAGAR POR ALGO     QUE TU NO DISFRUTASTE.   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CUERDA QUE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63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AC17-6333-4D30-9874-E07374A63AC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6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5 CuadroTexto"/>
          <p:cNvSpPr/>
          <p:nvPr/>
        </p:nvSpPr>
        <p:spPr>
          <a:xfrm>
            <a:off x="4574880" y="5487840"/>
            <a:ext cx="4286520" cy="581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ADOR = PAGAD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2" descr="prestamo.jpg"/>
          <p:cNvPicPr/>
          <p:nvPr/>
        </p:nvPicPr>
        <p:blipFill>
          <a:blip r:embed="rId2"/>
          <a:stretch/>
        </p:blipFill>
        <p:spPr>
          <a:xfrm>
            <a:off x="7858080" y="1571760"/>
            <a:ext cx="1114560" cy="1523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FiadorKnot.jpg"/>
          <p:cNvPicPr/>
          <p:nvPr/>
        </p:nvPicPr>
        <p:blipFill>
          <a:blip r:embed="rId3"/>
          <a:stretch/>
        </p:blipFill>
        <p:spPr>
          <a:xfrm>
            <a:off x="8215200" y="3571920"/>
            <a:ext cx="743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177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213840" y="1847880"/>
            <a:ext cx="72154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 NO LO PUEDES REGALAR MEJOR NO PRESTES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20480" indent="-30600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CUERDA QUE LO PRESTADO ES PARIENTE DE LO DADO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20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7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8220-7F93-4298-81AC-2F944BAAA42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2" descr="t016dh02.jpg"/>
          <p:cNvPicPr/>
          <p:nvPr/>
        </p:nvPicPr>
        <p:blipFill>
          <a:blip r:embed="rId2"/>
          <a:stretch/>
        </p:blipFill>
        <p:spPr>
          <a:xfrm>
            <a:off x="7286760" y="2071800"/>
            <a:ext cx="1523880" cy="150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040206_cont_tufam-01.jpg"/>
          <p:cNvPicPr/>
          <p:nvPr/>
        </p:nvPicPr>
        <p:blipFill>
          <a:blip r:embed="rId3"/>
          <a:stretch/>
        </p:blipFill>
        <p:spPr>
          <a:xfrm>
            <a:off x="7429680" y="421488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1 Título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9156960" cy="15001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214200" y="1847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S UNA GRAN IRRESPONSABILIDAD.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O IMPORTANTE NO ES QUE PUEDAS "PERDER" EL AUTO, SINO LOS ACCIDENTES QUE PUEDES ORIGINAR.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7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6DCA-A49B-4682-9651-AE4EC98190F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2" descr="dibujo.jpg"/>
          <p:cNvPicPr/>
          <p:nvPr/>
        </p:nvPicPr>
        <p:blipFill>
          <a:blip r:embed="rId2"/>
          <a:stretch/>
        </p:blipFill>
        <p:spPr>
          <a:xfrm>
            <a:off x="7143840" y="1928880"/>
            <a:ext cx="1523880" cy="1500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6.jpg"/>
          <p:cNvPicPr/>
          <p:nvPr/>
        </p:nvPicPr>
        <p:blipFill>
          <a:blip r:embed="rId3"/>
          <a:stretch/>
        </p:blipFill>
        <p:spPr>
          <a:xfrm>
            <a:off x="7286760" y="428616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229680" cy="1577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85840" y="1714680"/>
            <a:ext cx="7143840" cy="4659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AY ENFERMEDADES QUE TERMINAN CON TODAS LAS RESERVAS DE DINERO.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O LO CONSIDERES UN GASTO ES UNA INVERSIÓN.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3676-C936-4CFA-8C49-019E296192E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5 CuadroTexto"/>
          <p:cNvSpPr/>
          <p:nvPr/>
        </p:nvSpPr>
        <p:spPr>
          <a:xfrm>
            <a:off x="0" y="6519960"/>
            <a:ext cx="9144000" cy="304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2" descr="esta_seguro.jpg"/>
          <p:cNvPicPr/>
          <p:nvPr/>
        </p:nvPicPr>
        <p:blipFill>
          <a:blip r:embed="rId2"/>
          <a:stretch/>
        </p:blipFill>
        <p:spPr>
          <a:xfrm>
            <a:off x="7500960" y="4357800"/>
            <a:ext cx="1405080" cy="1404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medicos.jpg"/>
          <p:cNvPicPr/>
          <p:nvPr/>
        </p:nvPicPr>
        <p:blipFill>
          <a:blip r:embed="rId3"/>
          <a:stretch/>
        </p:blipFill>
        <p:spPr>
          <a:xfrm>
            <a:off x="7429680" y="185724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-109440" y="-73080"/>
            <a:ext cx="939960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285840" y="1642680"/>
            <a:ext cx="7143840" cy="473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 TIEMPOS DE VACAS GORDAS HAY QUE GUARDAR PARA EL TIEMPO DE VACAS FLACAS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 JUVENTUD FÍSICA NO ES ETERNA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Y QUE APROVECHAR LA JUVENTUD Y LA MADUREZ PARA VIVIR UNA VEJEZ DIGNA. 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C9EA-B49E-4D6A-8E49-75B8D342C75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2" descr="abuelosNP.jpg"/>
          <p:cNvPicPr/>
          <p:nvPr/>
        </p:nvPicPr>
        <p:blipFill>
          <a:blip r:embed="rId2"/>
          <a:stretch/>
        </p:blipFill>
        <p:spPr>
          <a:xfrm>
            <a:off x="7500960" y="457200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8222_BPE0033C.jpg"/>
          <p:cNvPicPr/>
          <p:nvPr/>
        </p:nvPicPr>
        <p:blipFill>
          <a:blip r:embed="rId3"/>
          <a:stretch/>
        </p:blipFill>
        <p:spPr>
          <a:xfrm>
            <a:off x="7286760" y="192888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Título" descr=""/>
          <p:cNvPicPr/>
          <p:nvPr/>
        </p:nvPicPr>
        <p:blipFill>
          <a:blip r:embed="rId1"/>
          <a:stretch/>
        </p:blipFill>
        <p:spPr>
          <a:xfrm>
            <a:off x="-152280" y="-85680"/>
            <a:ext cx="9485280" cy="13539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285840" y="1885680"/>
            <a:ext cx="7572240" cy="4329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FRUTA EN VIDA LO QUE TANTO TRABAJO TE COSTO GANAR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NTÉNLOS INTERESADOS EN TI MIENTRAS ESTÉS VIV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O SI: DEJA TESTAMENTO PARA EVITAR PROBLEMAS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94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A900-AF8F-42C2-9530-71D483BCF9C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2" descr="animcct.gif"/>
          <p:cNvPicPr/>
          <p:nvPr/>
        </p:nvPicPr>
        <p:blipFill>
          <a:blip r:embed="rId2"/>
          <a:stretch/>
        </p:blipFill>
        <p:spPr>
          <a:xfrm>
            <a:off x="7753320" y="4572000"/>
            <a:ext cx="1390680" cy="1523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homepic3.jpg"/>
          <p:cNvPicPr/>
          <p:nvPr/>
        </p:nvPicPr>
        <p:blipFill>
          <a:blip r:embed="rId3"/>
          <a:stretch/>
        </p:blipFill>
        <p:spPr>
          <a:xfrm>
            <a:off x="7620120" y="2286000"/>
            <a:ext cx="15238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11412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42920" y="1571760"/>
            <a:ext cx="8215200" cy="4829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UERDATE QUE "PAPELITO HABLA“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RUIR ES FÁCIL, PERO DESPUÉS SIEMPRE HAY CODICIA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STA EL PARENTEZCO TERMINA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 VERDADERAS BATALLAS CAMPALES ENTRE PARIENTES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UERADATE: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0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7B9-B38C-4636-8412-F99322D4DD4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5 CuadroTexto"/>
          <p:cNvSpPr/>
          <p:nvPr/>
        </p:nvSpPr>
        <p:spPr>
          <a:xfrm>
            <a:off x="0" y="6519960"/>
            <a:ext cx="9144000" cy="304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7 CuadroTexto"/>
          <p:cNvSpPr/>
          <p:nvPr/>
        </p:nvSpPr>
        <p:spPr>
          <a:xfrm>
            <a:off x="4183920" y="4670280"/>
            <a:ext cx="32302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CASADO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8 CuadroTexto"/>
          <p:cNvSpPr/>
          <p:nvPr/>
        </p:nvSpPr>
        <p:spPr>
          <a:xfrm>
            <a:off x="4088160" y="5500800"/>
            <a:ext cx="343296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ASA-DO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Picture 2" descr="construir.gif"/>
          <p:cNvPicPr/>
          <p:nvPr/>
        </p:nvPicPr>
        <p:blipFill>
          <a:blip r:embed="rId2"/>
          <a:stretch/>
        </p:blipFill>
        <p:spPr>
          <a:xfrm>
            <a:off x="7572240" y="3357720"/>
            <a:ext cx="15242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-6480" y="-60480"/>
            <a:ext cx="9156960" cy="10242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42920" y="1571400"/>
            <a:ext cx="7572240" cy="480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BERÍA ESTAR PROHIBID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DA QUIEN DEBE TENER SUS PROPIOS RECURSOS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S RECURSOS SE PUEDEN UNIR TEMPORALMENTE SIEMPRE Y CUANDO HAYA CONSENTIMIENT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0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02BB-48A2-423C-9227-2A8C595FA7C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2" descr="BODA.gif"/>
          <p:cNvPicPr/>
          <p:nvPr/>
        </p:nvPicPr>
        <p:blipFill>
          <a:blip r:embed="rId2"/>
          <a:stretch/>
        </p:blipFill>
        <p:spPr>
          <a:xfrm>
            <a:off x="7429680" y="1714680"/>
            <a:ext cx="1438200" cy="1523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ivorcio.jpg"/>
          <p:cNvPicPr/>
          <p:nvPr/>
        </p:nvPicPr>
        <p:blipFill>
          <a:blip r:embed="rId3"/>
          <a:stretch/>
        </p:blipFill>
        <p:spPr>
          <a:xfrm>
            <a:off x="7286760" y="4286160"/>
            <a:ext cx="15238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3348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1499760"/>
            <a:ext cx="7186680" cy="4900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 UNA FORMA DE AUTODEVALUACIÓN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 HACER QUE LA GENTE TE REHUYA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 LA MEJOR FORMA DE CERRARTE PUERTAS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ITA AL MÁXIMO PEDIR PRESTAD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8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 SI TE PRESTAN: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¡PAGA!</a:t>
            </a:r>
            <a:endParaRPr b="0" lang="en-US" sz="6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13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DA38-A034-4B8B-948A-5EF47525576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2" descr="x9121s36.gif"/>
          <p:cNvPicPr/>
          <p:nvPr/>
        </p:nvPicPr>
        <p:blipFill>
          <a:blip r:embed="rId2"/>
          <a:stretch/>
        </p:blipFill>
        <p:spPr>
          <a:xfrm>
            <a:off x="7620120" y="485784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uesta1.jpg"/>
          <p:cNvPicPr/>
          <p:nvPr/>
        </p:nvPicPr>
        <p:blipFill>
          <a:blip r:embed="rId3"/>
          <a:stretch/>
        </p:blipFill>
        <p:spPr>
          <a:xfrm>
            <a:off x="7500960" y="2000160"/>
            <a:ext cx="12571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77580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LCOHOL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IGARROS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ROGAS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LACIONES DESTRUCTIVAS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19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D744-2B2B-4A2B-8E0C-52A89FB4BAC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Picture 2" descr="malosv02.jpg"/>
          <p:cNvPicPr/>
          <p:nvPr/>
        </p:nvPicPr>
        <p:blipFill>
          <a:blip r:embed="rId2"/>
          <a:stretch/>
        </p:blipFill>
        <p:spPr>
          <a:xfrm>
            <a:off x="7072200" y="2000160"/>
            <a:ext cx="1457280" cy="1524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Dejar_fumar_facil_sabes.jpg"/>
          <p:cNvPicPr/>
          <p:nvPr/>
        </p:nvPicPr>
        <p:blipFill>
          <a:blip r:embed="rId3"/>
          <a:stretch/>
        </p:blipFill>
        <p:spPr>
          <a:xfrm>
            <a:off x="7000920" y="42148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ALCOHOLISMO.jpg"/>
          <p:cNvPicPr/>
          <p:nvPr/>
        </p:nvPicPr>
        <p:blipFill>
          <a:blip r:embed="rId4"/>
          <a:stretch/>
        </p:blipFill>
        <p:spPr>
          <a:xfrm>
            <a:off x="4500720" y="5143680"/>
            <a:ext cx="1409400" cy="1309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adiccionRelaciones.jpg"/>
          <p:cNvPicPr/>
          <p:nvPr/>
        </p:nvPicPr>
        <p:blipFill>
          <a:blip r:embed="rId5"/>
          <a:stretch/>
        </p:blipFill>
        <p:spPr>
          <a:xfrm>
            <a:off x="2643120" y="5214960"/>
            <a:ext cx="11430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2985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14200" y="1774800"/>
            <a:ext cx="77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S ARITMÉTICA PURA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I GASTAS MÁS DE LO QUE GANAS ESTÁS CREANDO DEUDAS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AS DEUDAS SALEN MÁS CARAS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1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B444-93D7-4C29-AAD3-4C3CEE7885B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2" descr="recreativasml3.gif"/>
          <p:cNvPicPr/>
          <p:nvPr/>
        </p:nvPicPr>
        <p:blipFill>
          <a:blip r:embed="rId2"/>
          <a:stretch/>
        </p:blipFill>
        <p:spPr>
          <a:xfrm>
            <a:off x="7715160" y="1857240"/>
            <a:ext cx="1247760" cy="1524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imagen_popup_berrio.2.jpg"/>
          <p:cNvPicPr/>
          <p:nvPr/>
        </p:nvPicPr>
        <p:blipFill>
          <a:blip r:embed="rId3"/>
          <a:stretch/>
        </p:blipFill>
        <p:spPr>
          <a:xfrm>
            <a:off x="7407360" y="4138560"/>
            <a:ext cx="15606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-55440" y="-103320"/>
            <a:ext cx="9285120" cy="13096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847880"/>
            <a:ext cx="690084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 NO SABES DONDE ESTÁ LA "FUGA" NO LA PUEDES REMEDIAR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ESUPUESTA TUS GASTOS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1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A8F-15AA-4CB3-AE80-AA35BCAAF5E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2" descr="BALANZA ARITMETICA. BRAZOS 10 CASILLAS.bis.jpg"/>
          <p:cNvPicPr/>
          <p:nvPr/>
        </p:nvPicPr>
        <p:blipFill>
          <a:blip r:embed="rId2"/>
          <a:stretch/>
        </p:blipFill>
        <p:spPr>
          <a:xfrm>
            <a:off x="7358040" y="2143080"/>
            <a:ext cx="1523880" cy="1357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presupuesto.jpg"/>
          <p:cNvPicPr/>
          <p:nvPr/>
        </p:nvPicPr>
        <p:blipFill>
          <a:blip r:embed="rId3"/>
          <a:stretch/>
        </p:blipFill>
        <p:spPr>
          <a:xfrm>
            <a:off x="7358040" y="4214880"/>
            <a:ext cx="152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8699760" cy="1279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13840" y="1714680"/>
            <a:ext cx="7572600" cy="4659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O CAPACITARTE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O ABRIR TU MENTE  A NUEVAS IDEAS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O APRENDER A HACER LAS COSAS DE MANERA DIFERENTE.</a:t>
            </a: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2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8693-2CB6-408D-82AD-6EC772F895E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Presupuesto.jpg"/>
          <p:cNvPicPr/>
          <p:nvPr/>
        </p:nvPicPr>
        <p:blipFill>
          <a:blip r:embed="rId2"/>
          <a:stretch/>
        </p:blipFill>
        <p:spPr>
          <a:xfrm>
            <a:off x="7786800" y="1928880"/>
            <a:ext cx="1123920" cy="1523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5_mente_1.jpg"/>
          <p:cNvPicPr/>
          <p:nvPr/>
        </p:nvPicPr>
        <p:blipFill>
          <a:blip r:embed="rId3"/>
          <a:stretch/>
        </p:blipFill>
        <p:spPr>
          <a:xfrm>
            <a:off x="7786800" y="4572000"/>
            <a:ext cx="1357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14200" y="1643040"/>
            <a:ext cx="7786800" cy="4757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AGARTE TU PRIMERO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 IMPORTANTE NO ES CUÁNTO AHORRAS, LO IMPORTANTE ES EMPEZAR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HORRAR Y NO INVERTIR ES UN GRAN ERROR. 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 TRATA DE QUE EL DINERO TRABAJE PARA TI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A EL PODER DEL INTERÉS COMPUESTO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2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ED53-2E22-4FC3-BC16-B3DF2BD1C94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7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11_presupuesto.jpg"/>
          <p:cNvPicPr/>
          <p:nvPr/>
        </p:nvPicPr>
        <p:blipFill>
          <a:blip r:embed="rId2"/>
          <a:stretch/>
        </p:blipFill>
        <p:spPr>
          <a:xfrm>
            <a:off x="7643880" y="1857240"/>
            <a:ext cx="1238040" cy="152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keko_ahorro.gif"/>
          <p:cNvPicPr/>
          <p:nvPr/>
        </p:nvPicPr>
        <p:blipFill>
          <a:blip r:embed="rId3"/>
          <a:stretch/>
        </p:blipFill>
        <p:spPr>
          <a:xfrm>
            <a:off x="7429680" y="4500720"/>
            <a:ext cx="1466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1 Título" descr=""/>
          <p:cNvPicPr/>
          <p:nvPr/>
        </p:nvPicPr>
        <p:blipFill>
          <a:blip r:embed="rId1"/>
          <a:stretch/>
        </p:blipFill>
        <p:spPr>
          <a:xfrm>
            <a:off x="-79200" y="-66600"/>
            <a:ext cx="8985240" cy="1457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14200" y="164304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FIAR DEMASIADO  EN TU SISTEMA DE PENSIONES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DOS LOS SISTEMAS DE PENSIONES EN EL MUNDO ESTÁN "QUEBRADOS“.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34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970B-65EA-42C1-BE44-23FFD8C8EAB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225px-RESISSSTE.svg.png"/>
          <p:cNvPicPr/>
          <p:nvPr/>
        </p:nvPicPr>
        <p:blipFill>
          <a:blip r:embed="rId2"/>
          <a:stretch/>
        </p:blipFill>
        <p:spPr>
          <a:xfrm>
            <a:off x="7429680" y="1785960"/>
            <a:ext cx="1376280" cy="1523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LEON_IMSS.jpg"/>
          <p:cNvPicPr/>
          <p:nvPr/>
        </p:nvPicPr>
        <p:blipFill>
          <a:blip r:embed="rId3"/>
          <a:stretch/>
        </p:blipFill>
        <p:spPr>
          <a:xfrm>
            <a:off x="7500960" y="4214880"/>
            <a:ext cx="1357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1 Título" descr=""/>
          <p:cNvPicPr/>
          <p:nvPr/>
        </p:nvPicPr>
        <p:blipFill>
          <a:blip r:embed="rId1"/>
          <a:stretch/>
        </p:blipFill>
        <p:spPr>
          <a:xfrm>
            <a:off x="-79200" y="-66600"/>
            <a:ext cx="9461160" cy="1577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14200" y="1571400"/>
            <a:ext cx="7715520" cy="480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S TARJETAS DE CRÉDITO SON LA NUEVA FORMA DE ESCLAVITUD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11480" indent="-29952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 MEJOR PARA SALIR DE LA TRAMPA ES NO ENTRAR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11480" indent="-299520" algn="ctr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 YA ESTÁS ADENTRO SIGUE                   EL SISTEMA                                                              70% GASTOS                                                         20% PAGO TARJETAS                                         10 % AHORRO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11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4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6345-4238-406A-8605-76BA8F16C00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credi_guillotina.jpg"/>
          <p:cNvPicPr/>
          <p:nvPr/>
        </p:nvPicPr>
        <p:blipFill>
          <a:blip r:embed="rId2"/>
          <a:stretch/>
        </p:blipFill>
        <p:spPr>
          <a:xfrm>
            <a:off x="7934400" y="214308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Tarjetas de Crédito.JPG"/>
          <p:cNvPicPr/>
          <p:nvPr/>
        </p:nvPicPr>
        <p:blipFill>
          <a:blip r:embed="rId3"/>
          <a:stretch/>
        </p:blipFill>
        <p:spPr>
          <a:xfrm>
            <a:off x="7715160" y="4429080"/>
            <a:ext cx="1228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1"/>
          <a:stretch/>
        </p:blipFill>
        <p:spPr>
          <a:xfrm>
            <a:off x="-55440" y="-73080"/>
            <a:ext cx="9291600" cy="11588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213840" y="1642680"/>
            <a:ext cx="7358040" cy="473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RAR A CRÉDITO BIENES SUPERFLUOS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USAR DE LAS COMPRAS A MESES SIN INTERESES. 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 TODAS FORMAS LO VAS A PAGAR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RAR A CRÉDITO ES VENDER BARATO TUS MAÑANAS POR UN POCO DE HOY.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46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E0EB-81A4-4063-98B7-7D315E3BE50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6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tema4.gif"/>
          <p:cNvPicPr/>
          <p:nvPr/>
        </p:nvPicPr>
        <p:blipFill>
          <a:blip r:embed="rId2"/>
          <a:stretch/>
        </p:blipFill>
        <p:spPr>
          <a:xfrm>
            <a:off x="7858080" y="1857240"/>
            <a:ext cx="1004760" cy="1785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12meses.JPG"/>
          <p:cNvPicPr/>
          <p:nvPr/>
        </p:nvPicPr>
        <p:blipFill>
          <a:blip r:embed="rId3"/>
          <a:stretch/>
        </p:blipFill>
        <p:spPr>
          <a:xfrm>
            <a:off x="7620120" y="4643280"/>
            <a:ext cx="1523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1 Título" descr=""/>
          <p:cNvPicPr/>
          <p:nvPr/>
        </p:nvPicPr>
        <p:blipFill>
          <a:blip r:embed="rId1"/>
          <a:stretch/>
        </p:blipFill>
        <p:spPr>
          <a:xfrm>
            <a:off x="-6480" y="219240"/>
            <a:ext cx="9174240" cy="10191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1280" y="1357200"/>
            <a:ext cx="6072480" cy="41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 COMO "VENDERLE"      TU ALMA  AL DIABLO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INGÚN DINERO MAL HABIDO SE PUEDE DISFRUTAR.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-318960">
              <a:lnSpc>
                <a:spcPct val="100000"/>
              </a:lnSpc>
              <a:buClr>
                <a:srgbClr val="b83d68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L ORDEN NATURAL           DE  LAS COSAS ES: 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5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37D2-683F-4C55-BC78-8944A81A6F9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5 CuadroTexto"/>
          <p:cNvSpPr/>
          <p:nvPr/>
        </p:nvSpPr>
        <p:spPr>
          <a:xfrm>
            <a:off x="0" y="6519960"/>
            <a:ext cx="9144000" cy="338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fotog.jpeg"/>
          <p:cNvPicPr/>
          <p:nvPr/>
        </p:nvPicPr>
        <p:blipFill>
          <a:blip r:embed="rId2"/>
          <a:stretch/>
        </p:blipFill>
        <p:spPr>
          <a:xfrm>
            <a:off x="7620120" y="157176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5502c7bbe.jpg"/>
          <p:cNvPicPr/>
          <p:nvPr/>
        </p:nvPicPr>
        <p:blipFill>
          <a:blip r:embed="rId3"/>
          <a:stretch/>
        </p:blipFill>
        <p:spPr>
          <a:xfrm>
            <a:off x="6191280" y="1500120"/>
            <a:ext cx="1452600" cy="1357560"/>
          </a:xfrm>
          <a:prstGeom prst="rect">
            <a:avLst/>
          </a:prstGeom>
          <a:ln w="0">
            <a:noFill/>
          </a:ln>
        </p:spPr>
      </p:pic>
      <p:sp>
        <p:nvSpPr>
          <p:cNvPr id="356" name="7 CuadroTexto"/>
          <p:cNvSpPr/>
          <p:nvPr/>
        </p:nvSpPr>
        <p:spPr>
          <a:xfrm>
            <a:off x="4643280" y="5357880"/>
            <a:ext cx="1549440" cy="1008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rbel"/>
              </a:rPr>
              <a:t>SER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8 CuadroTexto"/>
          <p:cNvSpPr/>
          <p:nvPr/>
        </p:nvSpPr>
        <p:spPr>
          <a:xfrm>
            <a:off x="5429160" y="4429080"/>
            <a:ext cx="258948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rbel"/>
              </a:rPr>
              <a:t>HACER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9 CuadroTexto"/>
          <p:cNvSpPr/>
          <p:nvPr/>
        </p:nvSpPr>
        <p:spPr>
          <a:xfrm>
            <a:off x="6336360" y="3357720"/>
            <a:ext cx="2838600" cy="1099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rbel"/>
              </a:rPr>
              <a:t>TENER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6" descr="ahorro-signo-dinero.jpg"/>
          <p:cNvPicPr/>
          <p:nvPr/>
        </p:nvPicPr>
        <p:blipFill>
          <a:blip r:embed="rId4"/>
          <a:stretch/>
        </p:blipFill>
        <p:spPr>
          <a:xfrm>
            <a:off x="8001000" y="4572000"/>
            <a:ext cx="1143000" cy="1928880"/>
          </a:xfrm>
          <a:prstGeom prst="rect">
            <a:avLst/>
          </a:prstGeom>
          <a:ln w="0">
            <a:noFill/>
          </a:ln>
        </p:spPr>
      </p:pic>
      <p:sp>
        <p:nvSpPr>
          <p:cNvPr id="360" name="11 CuadroTexto"/>
          <p:cNvSpPr/>
          <p:nvPr/>
        </p:nvSpPr>
        <p:spPr>
          <a:xfrm>
            <a:off x="6929280" y="857160"/>
            <a:ext cx="14288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orbel"/>
              </a:rPr>
              <a:t>X</a:t>
            </a:r>
            <a:endParaRPr b="0" lang="en-US" sz="1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05:25:03Z</dcterms:created>
  <dc:creator>carlosgil</dc:creator>
  <dc:description/>
  <dc:language>en-US</dc:language>
  <cp:lastModifiedBy>Terminal</cp:lastModifiedBy>
  <dcterms:modified xsi:type="dcterms:W3CDTF">2008-05-27T19:36:38Z</dcterms:modified>
  <cp:revision>21</cp:revision>
  <dc:subject/>
  <dc:title>18 ERRORE$ EN LA$ FINANZA$ PER$ONALE$</dc:title>
</cp:coreProperties>
</file>