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49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45.jpeg" ContentType="image/jpeg"/>
  <Override PartName="/ppt/media/image55.png" ContentType="image/png"/>
  <Override PartName="/ppt/media/image46.jpeg" ContentType="image/jpeg"/>
  <Override PartName="/ppt/media/image41.png" ContentType="image/png"/>
  <Override PartName="/ppt/media/image48.jpeg" ContentType="image/jpeg"/>
  <Override PartName="/ppt/media/image53.jpeg" ContentType="image/jpeg"/>
  <Override PartName="/ppt/media/image44.png" ContentType="image/png"/>
  <Override PartName="/ppt/media/image40.jpeg" ContentType="image/jpeg"/>
  <Override PartName="/ppt/media/image5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58.jpeg" ContentType="image/jpeg"/>
  <Override PartName="/ppt/media/image37.jpeg" ContentType="image/jpeg"/>
  <Override PartName="/ppt/media/image59.jpeg" ContentType="image/jpeg"/>
  <Override PartName="/ppt/media/image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54.jpeg" ContentType="image/jpe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2D4F-1D52-4DED-9CC3-774ABD6B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A2FC-B6E2-49A2-9258-6B806E16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39E-FCB1-4B14-BAB6-E393C9D3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8FA-B054-4C18-9B7D-4C7BAE90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CFE2-D122-4CC9-BE3C-32577847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6ACE-389B-4725-AFC1-6A02852E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E841-D73A-4ACD-9F89-040CDB36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F4E1-834B-452A-96C8-1A0D2A1E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5A13-71BE-45B0-B7EA-74CBA769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EFD2-C8B3-493F-AD98-7F7EA551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1562-31A1-44BD-8CF6-F1733C92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CBC-43FF-4B7B-ABF6-C7503B02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9639-EA24-4333-9702-3B3350E0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59B7-FB22-4EF7-BAB8-654D3BD5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9EDA-E2CE-45A4-BCDF-F2CB6A30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EC2B-58BF-47D7-ABF5-54D11123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F095-7620-49CC-AD72-C8EC3336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A4809-ED4A-4826-B466-2AC14239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7E349-662A-4BEC-85E2-2CA33AA0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A468A-D8A5-4F1B-8C11-4B23F6AA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094F2-EAF8-459B-8699-3430A5DE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CF870-34DC-4E79-B183-3ABFFE47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9E3-B2DC-4795-A85A-AD6D7CA3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ADBAB-FA20-4DE9-AAD0-B8742562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6261F-A0B5-4872-9167-E9CAA654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B7108-70EE-41C0-BC94-144D003C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82EF2-70A7-444D-8605-6E912034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229BA-0DDB-4FBC-B1F1-A9876E39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D81EF-275B-4F6C-B84F-BA569504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FC1CA-1782-4B15-B43A-127E3088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3D0CB-A1DF-47E6-A65B-85A5EFC9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6C8EE-E769-4FBD-9917-5F9DAE4D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A2650-5D19-47EE-9F14-96698C02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395B-0749-4D96-8805-7DAE4E29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F214F-F049-43E8-8067-887B7450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3D0C0-CFB4-4090-8E54-1FD273C5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E01F8-7486-4F06-886F-13E3E96E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E65A6-9FF4-49DA-976F-91B08891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4AB0F-9C26-41F3-AC0F-58DF2CE9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2C8E1-B600-4023-A814-2C60973D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C44CA-BBBD-4DAF-95B6-69597ABB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5A592-6FB6-47E3-8F0B-0726E045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F5147-6A06-48EC-AA88-28465DAD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DA2D2-92A1-4227-BBC8-266D0326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854B-11E0-4208-9FD9-FD082B22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4A57A-631B-4BBF-A749-E51DCCCB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A77DD-0AE3-46D9-9E93-919FECEA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06AA8-7FE8-410B-B774-BA78F81D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CA28A-C2E2-42C7-AC7C-842DB5EF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B203C-A61E-4AE4-B408-B5763541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59A18-A633-4EAC-A5AC-609814EE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53B50-1B19-4BB3-8F9E-4EA3B39C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307CB-F45F-40C5-81DC-3C92D222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7B9B4-A536-46AC-A4E8-3B0C5B89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DB0EB-65ED-413E-B187-6C71C2AE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69B-9569-4B42-98B0-41E6B5CF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4A7D6-A08D-4159-AE8C-7CE3B1E2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7CC63-F7BF-4D59-9E14-64FE2570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5C330-AA18-4742-9695-590821D2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7B069-7EE3-4463-8010-968FE134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C86D1-1604-4CE6-BF07-C6166C71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76C59-0AD7-4C9C-8238-D505E017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FF479-66BA-408A-8C9B-A3648916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22F3A-3C7B-47DF-AD32-4BAC3A4C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FB31F-2385-4918-8BA8-A2A74C38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A38C9-1DDA-47D7-B99F-19AE17DC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34A-D2AF-4CFA-90D9-8BA440F6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6F8B3-B2AA-4CFA-8A95-0ED851DF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FAC34-9857-4833-9DD3-9E905B18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08D38-2761-46EC-AC51-99FCAD90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8AFD6-8233-4A42-9AEE-83727E23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0AE5D-E1BC-4C32-93BC-12FB66A8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90CCB-48DC-4844-9417-686A79FB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88BEB-885D-406F-A0BF-3BDA4FD7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21D57-29A0-4B7E-8262-34595DC1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13C72-1072-42A9-B658-D3723082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5B03F-DD6C-40C5-8B3E-9EAB49F5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225-D72C-4968-AEB0-1E8E38F3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51904-3355-4655-884E-6A4681C4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06EFA-69D2-4973-B53B-FD86B2A3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3CC52-72F6-4FFE-9D66-415B121B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CE74D-733A-4B45-B233-C8CCA122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927CE-B4AD-4C5F-9919-EC05EE1B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C7C6-8DC5-4D92-9F46-AB3CD072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Wingdings 2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2" marL="995400" indent="-228600">
              <a:buClr>
                <a:srgbClr val="de6c36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3" marL="1216080" indent="-182520">
              <a:buClr>
                <a:srgbClr val="f9b639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4" marL="1425600" indent="-182520">
              <a:buClr>
                <a:srgbClr val="cf6da4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5" marL="1425600" indent="-182520">
              <a:buClr>
                <a:srgbClr val="000000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6" marL="1425600" indent="-182520">
              <a:buClr>
                <a:srgbClr val="000000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FC6D-A02F-422E-834B-EFD9ACA1E66C}" type="slidenum">
              <a:rPr b="0" lang="es-MX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9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Wingdings 2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2" marL="995400" indent="-228600">
              <a:buClr>
                <a:srgbClr val="de6c36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3" marL="1216080" indent="-182520">
              <a:buClr>
                <a:srgbClr val="f9b639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4" marL="1425600" indent="-182520">
              <a:buClr>
                <a:srgbClr val="cf6da4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5" marL="1425600" indent="-182520">
              <a:buClr>
                <a:srgbClr val="ffffff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6" marL="1425600" indent="-182520">
              <a:buClr>
                <a:srgbClr val="ffffff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BFDA-8E14-4F89-9676-C6793335274D}" type="slidenum">
              <a:rPr b="0" lang="es-MX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11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Wingdings 2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2" marL="995400" indent="-228600">
              <a:buClr>
                <a:srgbClr val="de6c36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3" marL="1216080" indent="-182520">
              <a:buClr>
                <a:srgbClr val="f9b639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4" marL="1425600" indent="-182520">
              <a:buClr>
                <a:srgbClr val="cf6da4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5" marL="1425600" indent="-182520">
              <a:buClr>
                <a:srgbClr val="ffffff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6" marL="1425600" indent="-182520">
              <a:buClr>
                <a:srgbClr val="ffffff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3EAA-4D30-496C-BB54-722EC28CF6B9}" type="slidenum">
              <a:rPr b="0" lang="es-MX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Wingdings 2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2" marL="995400" indent="-228600">
              <a:buClr>
                <a:srgbClr val="de6c36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3" marL="1216080" indent="-182520">
              <a:buClr>
                <a:srgbClr val="f9b639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4" marL="1425600" indent="-182520">
              <a:buClr>
                <a:srgbClr val="cf6da4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5" marL="1425600" indent="-182520">
              <a:buClr>
                <a:srgbClr val="000000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6" marL="1425600" indent="-182520">
              <a:buClr>
                <a:srgbClr val="000000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7445-C6D4-4F52-9932-1CA2F19CF674}" type="slidenum">
              <a:rPr b="0" lang="es-MX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11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Wingdings 2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2" marL="995400" indent="-228600">
              <a:buClr>
                <a:srgbClr val="de6c36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3" marL="1216080" indent="-182520">
              <a:buClr>
                <a:srgbClr val="f9b639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4" marL="1425600" indent="-182520">
              <a:buClr>
                <a:srgbClr val="cf6da4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5" marL="1425600" indent="-182520">
              <a:buClr>
                <a:srgbClr val="000000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6" marL="1425600" indent="-182520">
              <a:buClr>
                <a:srgbClr val="000000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F145-8847-4E64-8835-18AEE1C429F6}" type="slidenum">
              <a:rPr b="0" lang="es-MX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Wingdings 2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2" marL="995400" indent="-228600">
              <a:buClr>
                <a:srgbClr val="de6c36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3" marL="1216080" indent="-182520">
              <a:buClr>
                <a:srgbClr val="f9b639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4" marL="1425600" indent="-182520">
              <a:buClr>
                <a:srgbClr val="cf6da4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5" marL="1425600" indent="-182520">
              <a:buClr>
                <a:srgbClr val="000000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6" marL="1425600" indent="-182520">
              <a:buClr>
                <a:srgbClr val="000000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4700-7440-4117-8D16-5C789D185273}" type="slidenum">
              <a:rPr b="0" lang="es-MX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7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Wingdings 2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2" marL="995400" indent="-228600">
              <a:buClr>
                <a:srgbClr val="de6c36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3" marL="1216080" indent="-182520">
              <a:buClr>
                <a:srgbClr val="f9b639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4" marL="1425600" indent="-182520">
              <a:buClr>
                <a:srgbClr val="cf6da4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5" marL="1425600" indent="-182520">
              <a:buClr>
                <a:srgbClr val="000000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6" marL="1425600" indent="-182520">
              <a:buClr>
                <a:srgbClr val="000000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E10E-9BD3-47B0-B482-580BCE67620A}" type="slidenum">
              <a:rPr b="0" lang="es-MX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1 Título" descr=""/>
          <p:cNvPicPr/>
          <p:nvPr/>
        </p:nvPicPr>
        <p:blipFill>
          <a:blip r:embed="rId1"/>
          <a:stretch/>
        </p:blipFill>
        <p:spPr>
          <a:xfrm>
            <a:off x="450720" y="-133200"/>
            <a:ext cx="8242560" cy="1614240"/>
          </a:xfrm>
          <a:prstGeom prst="rect">
            <a:avLst/>
          </a:prstGeom>
          <a:ln w="0">
            <a:noFill/>
          </a:ln>
        </p:spPr>
      </p:pic>
      <p:sp>
        <p:nvSpPr>
          <p:cNvPr id="304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B411-4402-41BE-A867-9502D7BFA4A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5 Imagen" descr="tempFile.bmp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600200" y="2000160"/>
            <a:ext cx="5943600" cy="435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06" name="6 CuadroTexto"/>
          <p:cNvSpPr/>
          <p:nvPr/>
        </p:nvSpPr>
        <p:spPr>
          <a:xfrm>
            <a:off x="3439440" y="1571760"/>
            <a:ext cx="25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R: CARLOS GI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7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5066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142920" y="1428480"/>
            <a:ext cx="8429760" cy="4971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OR NINGÚN MOTIVO   SEAS FIADOR.</a:t>
            </a: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S PONERTE LA SOGA      AL CUELLO.</a:t>
            </a: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S PAGAR POR ALGO     QUE TU NO DISFRUTASTE.   </a:t>
            </a: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CUERDA QUE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63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238B-1802-4732-9DAD-F0BDD30CF55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6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5 CuadroTexto"/>
          <p:cNvSpPr/>
          <p:nvPr/>
        </p:nvSpPr>
        <p:spPr>
          <a:xfrm>
            <a:off x="4574880" y="5487840"/>
            <a:ext cx="4286520" cy="581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IADOR = PAGAD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2" descr="prestamo.jpg"/>
          <p:cNvPicPr/>
          <p:nvPr/>
        </p:nvPicPr>
        <p:blipFill>
          <a:blip r:embed="rId2"/>
          <a:stretch/>
        </p:blipFill>
        <p:spPr>
          <a:xfrm>
            <a:off x="7858080" y="1571760"/>
            <a:ext cx="1114560" cy="15238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FiadorKnot.jpg"/>
          <p:cNvPicPr/>
          <p:nvPr/>
        </p:nvPicPr>
        <p:blipFill>
          <a:blip r:embed="rId3"/>
          <a:stretch/>
        </p:blipFill>
        <p:spPr>
          <a:xfrm>
            <a:off x="8215200" y="3571920"/>
            <a:ext cx="743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1 Título" descr=""/>
          <p:cNvPicPr/>
          <p:nvPr/>
        </p:nvPicPr>
        <p:blipFill>
          <a:blip r:embed="rId1"/>
          <a:stretch/>
        </p:blipFill>
        <p:spPr>
          <a:xfrm>
            <a:off x="-6480" y="-92160"/>
            <a:ext cx="9156960" cy="11779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213840" y="1847880"/>
            <a:ext cx="721548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I NO LO PUEDES REGALAR MEJOR NO PRESTES.</a:t>
            </a: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  <a:p>
            <a:pPr marL="420480" indent="-30600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CUERDA QUE LO PRESTADO ES PARIENTE DE LO DADO.</a:t>
            </a: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  <a:p>
            <a:pPr marL="420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70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4E19-B1D8-45A9-81AB-DDD3E22738F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2" name="Picture 2" descr="t016dh02.jpg"/>
          <p:cNvPicPr/>
          <p:nvPr/>
        </p:nvPicPr>
        <p:blipFill>
          <a:blip r:embed="rId2"/>
          <a:stretch/>
        </p:blipFill>
        <p:spPr>
          <a:xfrm>
            <a:off x="7286760" y="2071800"/>
            <a:ext cx="1523880" cy="150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040206_cont_tufam-01.jpg"/>
          <p:cNvPicPr/>
          <p:nvPr/>
        </p:nvPicPr>
        <p:blipFill>
          <a:blip r:embed="rId3"/>
          <a:stretch/>
        </p:blipFill>
        <p:spPr>
          <a:xfrm>
            <a:off x="7429680" y="421488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1 Título" descr=""/>
          <p:cNvPicPr/>
          <p:nvPr/>
        </p:nvPicPr>
        <p:blipFill>
          <a:blip r:embed="rId1"/>
          <a:stretch/>
        </p:blipFill>
        <p:spPr>
          <a:xfrm>
            <a:off x="-6480" y="-49320"/>
            <a:ext cx="9156960" cy="15001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214200" y="18478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S UNA GRAN IRRESPONSABILIDAD.</a:t>
            </a: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O IMPORTANTE NO ES QUE PUEDAS "PERDER" EL AUTO, SINO LOS ACCIDENTES QUE PUEDES ORIGINAR.</a:t>
            </a: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76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3C2D-6355-49EF-9705-2BF0EB19149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Picture 2" descr="dibujo.jpg"/>
          <p:cNvPicPr/>
          <p:nvPr/>
        </p:nvPicPr>
        <p:blipFill>
          <a:blip r:embed="rId2"/>
          <a:stretch/>
        </p:blipFill>
        <p:spPr>
          <a:xfrm>
            <a:off x="7143840" y="1928880"/>
            <a:ext cx="1523880" cy="1500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6.jpg"/>
          <p:cNvPicPr/>
          <p:nvPr/>
        </p:nvPicPr>
        <p:blipFill>
          <a:blip r:embed="rId3"/>
          <a:stretch/>
        </p:blipFill>
        <p:spPr>
          <a:xfrm>
            <a:off x="7286760" y="4286160"/>
            <a:ext cx="1523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1 Título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229680" cy="1577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85840" y="1714680"/>
            <a:ext cx="7143840" cy="46591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AY ENFERMEDADES QUE TERMINAN CON TODAS LAS RESERVAS DE DINERO.</a:t>
            </a: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O LO CONSIDERES UN GASTO ES UNA INVERSIÓN.</a:t>
            </a: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82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8237-354B-4FA4-AB34-A20E3695A61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5 CuadroTexto"/>
          <p:cNvSpPr/>
          <p:nvPr/>
        </p:nvSpPr>
        <p:spPr>
          <a:xfrm>
            <a:off x="0" y="6519960"/>
            <a:ext cx="9144000" cy="3045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4" name="Picture 2" descr="esta_seguro.jpg"/>
          <p:cNvPicPr/>
          <p:nvPr/>
        </p:nvPicPr>
        <p:blipFill>
          <a:blip r:embed="rId2"/>
          <a:stretch/>
        </p:blipFill>
        <p:spPr>
          <a:xfrm>
            <a:off x="7500960" y="4357800"/>
            <a:ext cx="1405080" cy="1404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medicos.jpg"/>
          <p:cNvPicPr/>
          <p:nvPr/>
        </p:nvPicPr>
        <p:blipFill>
          <a:blip r:embed="rId3"/>
          <a:stretch/>
        </p:blipFill>
        <p:spPr>
          <a:xfrm>
            <a:off x="7429680" y="185724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1 Título" descr=""/>
          <p:cNvPicPr/>
          <p:nvPr/>
        </p:nvPicPr>
        <p:blipFill>
          <a:blip r:embed="rId1"/>
          <a:stretch/>
        </p:blipFill>
        <p:spPr>
          <a:xfrm>
            <a:off x="-109440" y="-73080"/>
            <a:ext cx="9399600" cy="11588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285840" y="1642680"/>
            <a:ext cx="7143840" cy="4730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 TIEMPOS DE VACAS GORDAS HAY QUE GUARDAR PARA EL TIEMPO DE VACAS FLACAS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 JUVENTUD FÍSICA NO ES ETERNA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Y QUE APROVECHAR LA JUVENTUD Y LA MADUREZ PARA VIVIR UNA VEJEZ DIGNA. 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8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AC31-36A3-4C64-9AB3-8B13B332493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Picture 2" descr="abuelosNP.jpg"/>
          <p:cNvPicPr/>
          <p:nvPr/>
        </p:nvPicPr>
        <p:blipFill>
          <a:blip r:embed="rId2"/>
          <a:stretch/>
        </p:blipFill>
        <p:spPr>
          <a:xfrm>
            <a:off x="7500960" y="457200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8222_BPE0033C.jpg"/>
          <p:cNvPicPr/>
          <p:nvPr/>
        </p:nvPicPr>
        <p:blipFill>
          <a:blip r:embed="rId3"/>
          <a:stretch/>
        </p:blipFill>
        <p:spPr>
          <a:xfrm>
            <a:off x="7286760" y="192888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1 Título" descr=""/>
          <p:cNvPicPr/>
          <p:nvPr/>
        </p:nvPicPr>
        <p:blipFill>
          <a:blip r:embed="rId1"/>
          <a:stretch/>
        </p:blipFill>
        <p:spPr>
          <a:xfrm>
            <a:off x="-152280" y="-85680"/>
            <a:ext cx="9485280" cy="13539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285840" y="1885680"/>
            <a:ext cx="7572240" cy="4329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FRUTA EN VIDA LO QUE TANTO TRABAJO TE COSTO GANAR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NTÉNLOS INTERESADOS EN TI MIENTRAS ESTÉS VIVO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O SI: DEJA TESTAMENTO PARA EVITAR PROBLEMAS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94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8CB7-9BA6-41FB-9325-28AB2BCFE9B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6" name="Picture 2" descr="animcct.gif"/>
          <p:cNvPicPr/>
          <p:nvPr/>
        </p:nvPicPr>
        <p:blipFill>
          <a:blip r:embed="rId2"/>
          <a:stretch/>
        </p:blipFill>
        <p:spPr>
          <a:xfrm>
            <a:off x="7753320" y="4572000"/>
            <a:ext cx="1390680" cy="1523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homepic3.jpg"/>
          <p:cNvPicPr/>
          <p:nvPr/>
        </p:nvPicPr>
        <p:blipFill>
          <a:blip r:embed="rId3"/>
          <a:stretch/>
        </p:blipFill>
        <p:spPr>
          <a:xfrm>
            <a:off x="7620120" y="2286000"/>
            <a:ext cx="152388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-6480" y="-55440"/>
            <a:ext cx="9156960" cy="11412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42920" y="1571760"/>
            <a:ext cx="8215200" cy="4829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UERDATE QUE "PAPELITO HABLA“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TRUIR ES FÁCIL, PERO DESPUÉS SIEMPRE HAY CODICIA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STA EL PARENTEZCO TERMINA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N VERDADERAS BATALLAS CAMPALES ENTRE PARIENTES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UERADATE: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00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245F-09CE-4254-8EED-7E268558CBD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5 CuadroTexto"/>
          <p:cNvSpPr/>
          <p:nvPr/>
        </p:nvSpPr>
        <p:spPr>
          <a:xfrm>
            <a:off x="0" y="6519960"/>
            <a:ext cx="9144000" cy="3045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7 CuadroTexto"/>
          <p:cNvSpPr/>
          <p:nvPr/>
        </p:nvSpPr>
        <p:spPr>
          <a:xfrm>
            <a:off x="4183920" y="4670280"/>
            <a:ext cx="32302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CASADOS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8 CuadroTexto"/>
          <p:cNvSpPr/>
          <p:nvPr/>
        </p:nvSpPr>
        <p:spPr>
          <a:xfrm>
            <a:off x="4088160" y="5500800"/>
            <a:ext cx="3432960" cy="825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ASA-DOS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4" name="Picture 2" descr="construir.gif"/>
          <p:cNvPicPr/>
          <p:nvPr/>
        </p:nvPicPr>
        <p:blipFill>
          <a:blip r:embed="rId2"/>
          <a:stretch/>
        </p:blipFill>
        <p:spPr>
          <a:xfrm>
            <a:off x="7572240" y="3357720"/>
            <a:ext cx="15242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1 Título" descr=""/>
          <p:cNvPicPr/>
          <p:nvPr/>
        </p:nvPicPr>
        <p:blipFill>
          <a:blip r:embed="rId1"/>
          <a:stretch/>
        </p:blipFill>
        <p:spPr>
          <a:xfrm>
            <a:off x="-6480" y="-60480"/>
            <a:ext cx="9156960" cy="10242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42920" y="1571400"/>
            <a:ext cx="7572240" cy="4802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BERÍA ESTAR PROHIBIDO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DA QUIEN DEBE TENER SUS PROPIOS RECURSOS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S RECURSOS SE PUEDEN UNIR TEMPORALMENTE SIEMPRE Y CUANDO HAYA CONSENTIMIENTO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0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7B75-7648-49C9-AB45-37B584A3B53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9" name="Picture 2" descr="BODA.gif"/>
          <p:cNvPicPr/>
          <p:nvPr/>
        </p:nvPicPr>
        <p:blipFill>
          <a:blip r:embed="rId2"/>
          <a:stretch/>
        </p:blipFill>
        <p:spPr>
          <a:xfrm>
            <a:off x="7429680" y="1714680"/>
            <a:ext cx="1438200" cy="15238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divorcio.jpg"/>
          <p:cNvPicPr/>
          <p:nvPr/>
        </p:nvPicPr>
        <p:blipFill>
          <a:blip r:embed="rId3"/>
          <a:stretch/>
        </p:blipFill>
        <p:spPr>
          <a:xfrm>
            <a:off x="7286760" y="4286160"/>
            <a:ext cx="15238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1 Título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242560" cy="13348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56840" y="1499760"/>
            <a:ext cx="7186680" cy="49006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 UNA FORMA DE AUTODEVALUACIÓN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8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 HACER QUE LA GENTE TE REHUYA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8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 LA MEJOR FORMA DE CERRARTE PUERTAS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8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VITA AL MÁXIMO PEDIR PRESTADO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8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Y SI TE PRESTAN: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¡PAGA!</a:t>
            </a:r>
            <a:endParaRPr b="0" lang="en-US" sz="6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13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002F-22F5-4A20-8937-0F80065B4F8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5" name="Picture 2" descr="x9121s36.gif"/>
          <p:cNvPicPr/>
          <p:nvPr/>
        </p:nvPicPr>
        <p:blipFill>
          <a:blip r:embed="rId2"/>
          <a:stretch/>
        </p:blipFill>
        <p:spPr>
          <a:xfrm>
            <a:off x="7620120" y="4857840"/>
            <a:ext cx="1523880" cy="14763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uesta1.jpg"/>
          <p:cNvPicPr/>
          <p:nvPr/>
        </p:nvPicPr>
        <p:blipFill>
          <a:blip r:embed="rId3"/>
          <a:stretch/>
        </p:blipFill>
        <p:spPr>
          <a:xfrm>
            <a:off x="7500960" y="2000160"/>
            <a:ext cx="125712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77580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LCOHOL</a:t>
            </a: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IGARROS</a:t>
            </a: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ROGAS</a:t>
            </a: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LACIONES DESTRUCTIVAS</a:t>
            </a: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19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85E4-5533-46DA-B9B5-24A2A318D8F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1" name="Picture 2" descr="malosv02.jpg"/>
          <p:cNvPicPr/>
          <p:nvPr/>
        </p:nvPicPr>
        <p:blipFill>
          <a:blip r:embed="rId2"/>
          <a:stretch/>
        </p:blipFill>
        <p:spPr>
          <a:xfrm>
            <a:off x="7072200" y="2000160"/>
            <a:ext cx="1457280" cy="1524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Dejar_fumar_facil_sabes.jpg"/>
          <p:cNvPicPr/>
          <p:nvPr/>
        </p:nvPicPr>
        <p:blipFill>
          <a:blip r:embed="rId3"/>
          <a:stretch/>
        </p:blipFill>
        <p:spPr>
          <a:xfrm>
            <a:off x="7000920" y="42148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ALCOHOLISMO.jpg"/>
          <p:cNvPicPr/>
          <p:nvPr/>
        </p:nvPicPr>
        <p:blipFill>
          <a:blip r:embed="rId4"/>
          <a:stretch/>
        </p:blipFill>
        <p:spPr>
          <a:xfrm>
            <a:off x="4500720" y="5143680"/>
            <a:ext cx="1409400" cy="13096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adiccionRelaciones.jpg"/>
          <p:cNvPicPr/>
          <p:nvPr/>
        </p:nvPicPr>
        <p:blipFill>
          <a:blip r:embed="rId5"/>
          <a:stretch/>
        </p:blipFill>
        <p:spPr>
          <a:xfrm>
            <a:off x="2643120" y="5214960"/>
            <a:ext cx="11430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1 Título" descr=""/>
          <p:cNvPicPr/>
          <p:nvPr/>
        </p:nvPicPr>
        <p:blipFill>
          <a:blip r:embed="rId1"/>
          <a:stretch/>
        </p:blipFill>
        <p:spPr>
          <a:xfrm>
            <a:off x="-6480" y="-92160"/>
            <a:ext cx="9156960" cy="12985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14200" y="1774800"/>
            <a:ext cx="7786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S ARITMÉTICA PURA.</a:t>
            </a:r>
            <a:endParaRPr b="0" lang="en-US" sz="48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I GASTAS MÁS DE LO QUE GANAS ESTÁS CREANDO DEUDAS.</a:t>
            </a:r>
            <a:endParaRPr b="0" lang="en-US" sz="48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S DEUDAS SALEN MÁS CARAS.</a:t>
            </a:r>
            <a:endParaRPr b="0" lang="en-US" sz="48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10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0EF8-22E3-46FF-8ACF-D239F82DE14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2" descr="recreativasml3.gif"/>
          <p:cNvPicPr/>
          <p:nvPr/>
        </p:nvPicPr>
        <p:blipFill>
          <a:blip r:embed="rId2"/>
          <a:stretch/>
        </p:blipFill>
        <p:spPr>
          <a:xfrm>
            <a:off x="7715160" y="1857240"/>
            <a:ext cx="1247760" cy="15242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imagen_popup_berrio.2.jpg"/>
          <p:cNvPicPr/>
          <p:nvPr/>
        </p:nvPicPr>
        <p:blipFill>
          <a:blip r:embed="rId3"/>
          <a:stretch/>
        </p:blipFill>
        <p:spPr>
          <a:xfrm>
            <a:off x="7407360" y="4138560"/>
            <a:ext cx="15606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Título" descr=""/>
          <p:cNvPicPr/>
          <p:nvPr/>
        </p:nvPicPr>
        <p:blipFill>
          <a:blip r:embed="rId1"/>
          <a:stretch/>
        </p:blipFill>
        <p:spPr>
          <a:xfrm>
            <a:off x="-55440" y="-103320"/>
            <a:ext cx="9285120" cy="13096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847880"/>
            <a:ext cx="690084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I NO SABES DONDE ESTÁ LA "FUGA" NO LA PUEDES REMEDIAR.</a:t>
            </a: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ESUPUESTA TUS GASTOS.</a:t>
            </a: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16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2338-0958-4161-95EC-1621B28F03D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8" name="Picture 2" descr="BALANZA ARITMETICA. BRAZOS 10 CASILLAS.bis.jpg"/>
          <p:cNvPicPr/>
          <p:nvPr/>
        </p:nvPicPr>
        <p:blipFill>
          <a:blip r:embed="rId2"/>
          <a:stretch/>
        </p:blipFill>
        <p:spPr>
          <a:xfrm>
            <a:off x="7358040" y="2143080"/>
            <a:ext cx="1523880" cy="1357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presupuesto.jpg"/>
          <p:cNvPicPr/>
          <p:nvPr/>
        </p:nvPicPr>
        <p:blipFill>
          <a:blip r:embed="rId3"/>
          <a:stretch/>
        </p:blipFill>
        <p:spPr>
          <a:xfrm>
            <a:off x="7358040" y="4214880"/>
            <a:ext cx="1523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1 Título" descr=""/>
          <p:cNvPicPr/>
          <p:nvPr/>
        </p:nvPicPr>
        <p:blipFill>
          <a:blip r:embed="rId1"/>
          <a:stretch/>
        </p:blipFill>
        <p:spPr>
          <a:xfrm>
            <a:off x="-6480" y="-73080"/>
            <a:ext cx="8699760" cy="127944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213840" y="1714680"/>
            <a:ext cx="7572600" cy="46591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NO CAPACITARTE.</a:t>
            </a:r>
            <a:endParaRPr b="0" lang="en-US" sz="48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NO ABRIR TU MENTE  A NUEVAS IDEAS.</a:t>
            </a:r>
            <a:endParaRPr b="0" lang="en-US" sz="48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NO APRENDER A HACER LAS COSAS DE MANERA DIFERENTE.</a:t>
            </a:r>
            <a:endParaRPr b="0" lang="en-US" sz="48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22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8AB8-999A-4931-BD87-B469C917F64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2" descr="Presupuesto.jpg"/>
          <p:cNvPicPr/>
          <p:nvPr/>
        </p:nvPicPr>
        <p:blipFill>
          <a:blip r:embed="rId2"/>
          <a:stretch/>
        </p:blipFill>
        <p:spPr>
          <a:xfrm>
            <a:off x="7786800" y="1928880"/>
            <a:ext cx="1123920" cy="1523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5_mente_1.jpg"/>
          <p:cNvPicPr/>
          <p:nvPr/>
        </p:nvPicPr>
        <p:blipFill>
          <a:blip r:embed="rId3"/>
          <a:stretch/>
        </p:blipFill>
        <p:spPr>
          <a:xfrm>
            <a:off x="7786800" y="4572000"/>
            <a:ext cx="1357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5066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214200" y="1643040"/>
            <a:ext cx="7786800" cy="4757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PAGARTE TU PRIMERO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 IMPORTANTE NO ES CUÁNTO AHORRAS, LO IMPORTANTE ES EMPEZAR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HORRAR Y NO INVERTIR ES UN GRAN ERROR. 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 TRATA DE QUE EL DINERO TRABAJE PARA TI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DERA EL PODER DEL INTERÉS COMPUESTO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2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3E4C-A1F6-4554-BF79-CD68F383740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7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2" descr="11_presupuesto.jpg"/>
          <p:cNvPicPr/>
          <p:nvPr/>
        </p:nvPicPr>
        <p:blipFill>
          <a:blip r:embed="rId2"/>
          <a:stretch/>
        </p:blipFill>
        <p:spPr>
          <a:xfrm>
            <a:off x="7643880" y="1857240"/>
            <a:ext cx="1238040" cy="1524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keko_ahorro.gif"/>
          <p:cNvPicPr/>
          <p:nvPr/>
        </p:nvPicPr>
        <p:blipFill>
          <a:blip r:embed="rId3"/>
          <a:stretch/>
        </p:blipFill>
        <p:spPr>
          <a:xfrm>
            <a:off x="7429680" y="4500720"/>
            <a:ext cx="1466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1 Título" descr=""/>
          <p:cNvPicPr/>
          <p:nvPr/>
        </p:nvPicPr>
        <p:blipFill>
          <a:blip r:embed="rId1"/>
          <a:stretch/>
        </p:blipFill>
        <p:spPr>
          <a:xfrm>
            <a:off x="-79200" y="-66600"/>
            <a:ext cx="8985240" cy="14572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214200" y="164304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NFIAR DEMASIADO  EN TU SISTEMA DE PENSIONES.</a:t>
            </a: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ODOS LOS SISTEMAS DE PENSIONES EN EL MUNDO ESTÁN "QUEBRADOS“.</a:t>
            </a: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34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F5E3-05FF-4EEC-BDC4-788A61A5780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4" descr="225px-RESISSSTE.svg.png"/>
          <p:cNvPicPr/>
          <p:nvPr/>
        </p:nvPicPr>
        <p:blipFill>
          <a:blip r:embed="rId2"/>
          <a:stretch/>
        </p:blipFill>
        <p:spPr>
          <a:xfrm>
            <a:off x="7429680" y="1785960"/>
            <a:ext cx="1376280" cy="1523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LEON_IMSS.jpg"/>
          <p:cNvPicPr/>
          <p:nvPr/>
        </p:nvPicPr>
        <p:blipFill>
          <a:blip r:embed="rId3"/>
          <a:stretch/>
        </p:blipFill>
        <p:spPr>
          <a:xfrm>
            <a:off x="7500960" y="4214880"/>
            <a:ext cx="13572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1 Título" descr=""/>
          <p:cNvPicPr/>
          <p:nvPr/>
        </p:nvPicPr>
        <p:blipFill>
          <a:blip r:embed="rId1"/>
          <a:stretch/>
        </p:blipFill>
        <p:spPr>
          <a:xfrm>
            <a:off x="-79200" y="-66600"/>
            <a:ext cx="9461160" cy="15778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214200" y="1571400"/>
            <a:ext cx="7715520" cy="4802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S TARJETAS DE CRÉDITO SON LA NUEVA FORMA DE ESCLAVITUD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11480" indent="-29952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 MEJOR PARA SALIR DE LA TRAMPA ES NO ENTRAR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11480" indent="-299520" algn="ctr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 YA ESTÁS ADENTRO SIGUE                   EL SISTEMA                                                              70% GASTOS                                                         20% PAGO TARJETAS                                         10 % AHORRO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11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40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6FA4-C1FC-4A5B-9FDF-931F9D8FA2C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2" descr="credi_guillotina.jpg"/>
          <p:cNvPicPr/>
          <p:nvPr/>
        </p:nvPicPr>
        <p:blipFill>
          <a:blip r:embed="rId2"/>
          <a:stretch/>
        </p:blipFill>
        <p:spPr>
          <a:xfrm>
            <a:off x="7934400" y="2143080"/>
            <a:ext cx="1066680" cy="1523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Tarjetas de Crédito.JPG"/>
          <p:cNvPicPr/>
          <p:nvPr/>
        </p:nvPicPr>
        <p:blipFill>
          <a:blip r:embed="rId3"/>
          <a:stretch/>
        </p:blipFill>
        <p:spPr>
          <a:xfrm>
            <a:off x="7715160" y="4429080"/>
            <a:ext cx="1228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1 Título" descr=""/>
          <p:cNvPicPr/>
          <p:nvPr/>
        </p:nvPicPr>
        <p:blipFill>
          <a:blip r:embed="rId1"/>
          <a:stretch/>
        </p:blipFill>
        <p:spPr>
          <a:xfrm>
            <a:off x="-55440" y="-73080"/>
            <a:ext cx="9291600" cy="115884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213840" y="1642680"/>
            <a:ext cx="7358040" cy="4730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RAR A CRÉDITO BIENES SUPERFLUOS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USAR DE LAS COMPRAS A MESES SIN INTERESES. 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 TODAS FORMAS LO VAS A PAGAR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RAR A CRÉDITO ES VENDER BARATO TUS MAÑANAS POR UN POCO DE HOY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46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E75A-89AE-40B5-83FB-E13CDFB3A69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6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2" descr="tema4.gif"/>
          <p:cNvPicPr/>
          <p:nvPr/>
        </p:nvPicPr>
        <p:blipFill>
          <a:blip r:embed="rId2"/>
          <a:stretch/>
        </p:blipFill>
        <p:spPr>
          <a:xfrm>
            <a:off x="7858080" y="1857240"/>
            <a:ext cx="1004760" cy="1785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12meses.JPG"/>
          <p:cNvPicPr/>
          <p:nvPr/>
        </p:nvPicPr>
        <p:blipFill>
          <a:blip r:embed="rId3"/>
          <a:stretch/>
        </p:blipFill>
        <p:spPr>
          <a:xfrm>
            <a:off x="7620120" y="4643280"/>
            <a:ext cx="15238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1 Título" descr=""/>
          <p:cNvPicPr/>
          <p:nvPr/>
        </p:nvPicPr>
        <p:blipFill>
          <a:blip r:embed="rId1"/>
          <a:stretch/>
        </p:blipFill>
        <p:spPr>
          <a:xfrm>
            <a:off x="-6480" y="219240"/>
            <a:ext cx="9174240" cy="10191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1280" y="1357200"/>
            <a:ext cx="6072480" cy="4143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 COMO "VENDERLE"      TU ALMA  AL DIABLO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INGÚN DINERO MAL HABIDO SE PUEDE DISFRUTAR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L ORDEN NATURAL           DE  LAS COSAS ES: 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52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47E3-812C-4E81-A1CA-000196B53CB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2" descr="fotog.jpeg"/>
          <p:cNvPicPr/>
          <p:nvPr/>
        </p:nvPicPr>
        <p:blipFill>
          <a:blip r:embed="rId2"/>
          <a:stretch/>
        </p:blipFill>
        <p:spPr>
          <a:xfrm>
            <a:off x="7620120" y="1571760"/>
            <a:ext cx="1523880" cy="12859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c5502c7bbe.jpg"/>
          <p:cNvPicPr/>
          <p:nvPr/>
        </p:nvPicPr>
        <p:blipFill>
          <a:blip r:embed="rId3"/>
          <a:stretch/>
        </p:blipFill>
        <p:spPr>
          <a:xfrm>
            <a:off x="6191280" y="1500120"/>
            <a:ext cx="1452600" cy="1357560"/>
          </a:xfrm>
          <a:prstGeom prst="rect">
            <a:avLst/>
          </a:prstGeom>
          <a:ln w="0">
            <a:noFill/>
          </a:ln>
        </p:spPr>
      </p:pic>
      <p:sp>
        <p:nvSpPr>
          <p:cNvPr id="356" name="7 CuadroTexto"/>
          <p:cNvSpPr/>
          <p:nvPr/>
        </p:nvSpPr>
        <p:spPr>
          <a:xfrm>
            <a:off x="4643280" y="5357880"/>
            <a:ext cx="1549440" cy="10083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rbel"/>
              </a:rPr>
              <a:t>SER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8 CuadroTexto"/>
          <p:cNvSpPr/>
          <p:nvPr/>
        </p:nvSpPr>
        <p:spPr>
          <a:xfrm>
            <a:off x="5429160" y="4429080"/>
            <a:ext cx="2589480" cy="192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rbel"/>
              </a:rPr>
              <a:t>HACER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9 CuadroTexto"/>
          <p:cNvSpPr/>
          <p:nvPr/>
        </p:nvSpPr>
        <p:spPr>
          <a:xfrm>
            <a:off x="6336360" y="3357720"/>
            <a:ext cx="2838600" cy="1099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rbel"/>
              </a:rPr>
              <a:t>TENER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Picture 6" descr="ahorro-signo-dinero.jpg"/>
          <p:cNvPicPr/>
          <p:nvPr/>
        </p:nvPicPr>
        <p:blipFill>
          <a:blip r:embed="rId4"/>
          <a:stretch/>
        </p:blipFill>
        <p:spPr>
          <a:xfrm>
            <a:off x="8001000" y="4572000"/>
            <a:ext cx="1143000" cy="1928880"/>
          </a:xfrm>
          <a:prstGeom prst="rect">
            <a:avLst/>
          </a:prstGeom>
          <a:ln w="0">
            <a:noFill/>
          </a:ln>
        </p:spPr>
      </p:pic>
      <p:sp>
        <p:nvSpPr>
          <p:cNvPr id="360" name="11 CuadroTexto"/>
          <p:cNvSpPr/>
          <p:nvPr/>
        </p:nvSpPr>
        <p:spPr>
          <a:xfrm>
            <a:off x="6929280" y="857160"/>
            <a:ext cx="14288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orbel"/>
              </a:rPr>
              <a:t>X</a:t>
            </a:r>
            <a:endParaRPr b="0" lang="en-US" sz="1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5T05:25:03Z</dcterms:created>
  <dc:creator>carlosgil</dc:creator>
  <dc:description/>
  <dc:language>en-US</dc:language>
  <cp:lastModifiedBy>Terminal</cp:lastModifiedBy>
  <dcterms:modified xsi:type="dcterms:W3CDTF">2008-05-27T19:36:38Z</dcterms:modified>
  <cp:revision>21</cp:revision>
  <dc:subject/>
  <dc:title>18 ERRORE$ EN LA$ FINANZA$ PER$ONALE$</dc:title>
</cp:coreProperties>
</file>