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3.jpeg" ContentType="image/jpeg"/>
  <Override PartName="/ppt/media/Presentaci%C3%B3n%20dram%C3%A1tica.wav" ContentType="audio/x-wav"/>
  <Override PartName="/ppt/media/image5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B67-3EC2-4DDC-B923-9C6A05E6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38A-5826-470D-BE58-8D61BB81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A96-78DF-4A19-851E-FD3225AE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749-5D4E-4ABB-9781-64C9BE00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1D53-42F9-4FA2-8E11-41FDED68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D2FA-4330-4A04-90A3-24CA67DA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1F2-3801-4ADF-900C-A77EC570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881-1C70-42CA-816E-448A216C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3DA-7985-4698-9959-EC3D90D0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8A8-5EDC-46D7-89BE-18B55A2E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05C-BE30-4604-A8DA-56C6B0F4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D31-C033-4C3E-BFF3-C1EAE67C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CE29-4D83-41F8-B889-20D38EF4F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esentaci&#243;n%20dram&#225;tic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33320" y="5715000"/>
            <a:ext cx="587880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¿Les gustaría saber cuáles so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Síganme por aquí, si les parece bie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304920"/>
            <a:ext cx="871524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s 10 aglomeraciones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ás pobladas del mundo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410280" y="3124080"/>
            <a:ext cx="4758840" cy="764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PRESENTAMO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02120" y="2514600"/>
            <a:ext cx="4560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ara su 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Presentaci%C3%B3n%20dram%C3%A1tic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394440" y="372960"/>
            <a:ext cx="49629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La número 4 es Bombay (Indi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n 20,041,000 hab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333360"/>
            <a:ext cx="7920000" cy="82548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La número 3 es Sâo Paulo (Brasil) con 20,262,000 habit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2920" y="5780160"/>
            <a:ext cx="6661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Rounded MT Bold"/>
              </a:rPr>
              <a:t>Una ciudad que crece a pasos agigan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87480" y="260280"/>
            <a:ext cx="45104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La número 2 es Delhi (Indi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n 22,157,000 hab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209700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(Toda la India tiene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población de 1,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millones de habita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03560" y="177840"/>
            <a:ext cx="67719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Y en el puesto 1, la indiscutible campeona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es TOKYO, Japón, con 36,669.000 hab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6308640"/>
            <a:ext cx="6095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¡Una verdadera explosión demográfic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6280" y="228600"/>
            <a:ext cx="8686800" cy="21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ffff"/>
                </a:solidFill>
                <a:latin typeface="Arial"/>
              </a:rPr>
              <a:t>Hacemos ahora aquí algunas observaciones import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inguna ciudad europea figura en la lista. Moscú es la ciudad europea más poblada (10,5 millones), y figura en el puesto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En la India hay tres ciudades millonarias: Delhi,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omba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y Calcuta. Entre las tres superan los 57 millones de habita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5373720"/>
            <a:ext cx="7924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Veamos ahora algunos aspectos de las condiciones en que se vive en las grandes ciudades, sobre todo en las asiátic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19720" y="228600"/>
            <a:ext cx="4495680" cy="3230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4038480" cy="3143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495680" y="3962520"/>
            <a:ext cx="4419720" cy="272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52280" y="297180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Los transportes y las unidades habita-cionales hacen que la gente se sie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81960" y="3429000"/>
            <a:ext cx="347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comprimida, amontonada, reducid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ahogada en un pequeño espac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04920" y="228600"/>
            <a:ext cx="3962160" cy="27320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869760" y="712800"/>
            <a:ext cx="2750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ritannic Bold"/>
              </a:rPr>
              <a:t>Aquí viven mi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ritannic Bold"/>
              </a:rPr>
              <a:t>de famil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3080" y="3733920"/>
            <a:ext cx="24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Una playa satu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de bañ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2666880"/>
            <a:ext cx="3809880" cy="580680"/>
          </a:xfrm>
          <a:prstGeom prst="rect">
            <a:avLst/>
          </a:prstGeom>
          <a:solidFill>
            <a:srgbClr val="ffff66">
              <a:alpha val="50000"/>
            </a:srgbClr>
          </a:solidFill>
          <a:ln w="381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Los multifamiliares semejan enormes panales de abej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7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329440" cy="626436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925880" y="4583160"/>
            <a:ext cx="4038840" cy="2014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an esta saturada autopi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digan con sinceridad si no es mucho mejor vivir en ciudades más pequeñ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Ciudad, para que sea “vivible”, no debería tener más de 500.000 habitant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2680" y="765000"/>
            <a:ext cx="18464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doni MT Black"/>
              </a:rPr>
              <a:t>¡QUÉ HORROR!</a:t>
            </a:r>
            <a:r>
              <a:rPr b="0" lang="es-ES" sz="1800" spc="-1" strike="noStrike">
                <a:solidFill>
                  <a:srgbClr val="ffffff"/>
                </a:solidFill>
                <a:latin typeface="Bodoni MT Black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61182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71120" y="3068640"/>
            <a:ext cx="7156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57160" y="33336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n el número 12 está Los Ángeles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2,762,000 habitantes en su área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37080" y="158760"/>
            <a:ext cx="5725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La número 11 es Buenos Ai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que llega a los 13,074,000 hab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16280" y="404640"/>
            <a:ext cx="731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En el puesto número 10 está Karachi (Pakistá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con 13,125,000 hab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1960" y="228600"/>
            <a:ext cx="69087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La número 9 es Dhaka (Banglade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n 14,648,000 hab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10680" y="333360"/>
            <a:ext cx="548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La número 8 es Calcuta (India)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15,552,000 al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74160" y="228600"/>
            <a:ext cx="52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La número 7 es Shanghai (Chin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n 16,575,000 hab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71468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Rounded MT Bold"/>
              </a:rPr>
              <a:t>Como país, China tiene 1,300 millones de habitant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Rounded MT Bold"/>
              </a:rPr>
              <a:t>la misma población que en 1939 </a:t>
            </a:r>
            <a:r>
              <a:rPr b="1" i="1" lang="es-ES" sz="2000" spc="-1" strike="noStrike">
                <a:solidFill>
                  <a:srgbClr val="cc3300"/>
                </a:solidFill>
                <a:latin typeface="Arial Rounded MT Bold"/>
              </a:rPr>
              <a:t>tenía</a:t>
            </a:r>
            <a:r>
              <a:rPr b="1" lang="es-ES" sz="2000" spc="-1" strike="noStrike">
                <a:solidFill>
                  <a:srgbClr val="cc33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3300"/>
                </a:solidFill>
                <a:latin typeface="Arial Rounded MT Bold"/>
              </a:rPr>
              <a:t>                 </a:t>
            </a:r>
            <a:r>
              <a:rPr b="1" i="1" lang="es-ES" sz="2400" spc="-1" strike="noStrike">
                <a:solidFill>
                  <a:srgbClr val="cc3300"/>
                </a:solidFill>
                <a:latin typeface="Arial Rounded MT Bold"/>
              </a:rPr>
              <a:t>todo el 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8000" y="228600"/>
            <a:ext cx="6604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La número 6 es Nueva York con 19,4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hab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0120" y="228600"/>
            <a:ext cx="5773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La número 5 es la Ciu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de México con 19,46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habitantes en su área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56280" y="5950080"/>
            <a:ext cx="4784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 Rounded MT Bold"/>
              </a:rPr>
              <a:t>(Estos habitantes son los que ten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toda</a:t>
            </a:r>
            <a:r>
              <a:rPr b="1" lang="es-ES" sz="2000" spc="-1" strike="noStrike">
                <a:solidFill>
                  <a:srgbClr val="ffff00"/>
                </a:solidFill>
                <a:latin typeface="Arial Rounded MT Bold"/>
              </a:rPr>
              <a:t> la República Mexicana en 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00:13:36Z</dcterms:created>
  <dc:creator/>
  <dc:description/>
  <dc:language>en-US</dc:language>
  <cp:lastModifiedBy>u00568</cp:lastModifiedBy>
  <dcterms:modified xsi:type="dcterms:W3CDTF">2010-04-27T12:22:11Z</dcterms:modified>
  <cp:revision>128</cp:revision>
  <dc:subject/>
  <dc:title>Presentación de PowerPoint</dc:title>
</cp:coreProperties>
</file>