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Presentaci%C3%B3n%20dram%C3%A1tica.wav" ContentType="audio/x-wav"/>
  <Override PartName="/ppt/media/image5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AB8-5D95-4A33-9C6B-BC2F289D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D16-DFDC-49C1-9376-65EA013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3B7-A28A-49DD-B07E-0209D6A9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4A4-2600-48D5-9E4D-75FE85BE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6C0-ABC5-483E-9D57-7C8AABD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B60-0B0E-4D32-B9C1-73CEEF5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E62-EFA9-4CB1-9CB2-33EBEC5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EB2-DEA6-4690-A799-B9431D3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1A2-2D9C-409F-BC4A-9E2625F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883-B2E7-4BC0-90BF-396FB11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997-E73B-4762-9FB4-5B48EA7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E4A-6EE3-44B9-AC7C-BA1EF1C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EB82-3F16-4144-8467-F9F5D141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esentaci&#243;n%20dram&#225;tic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3320" y="5715000"/>
            <a:ext cx="58788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¿Les gustaría saber cuáles s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Síganme por aquí, si les parece bi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304920"/>
            <a:ext cx="87152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 10 aglomeraciones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ás pobladas del mundo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410280" y="3124080"/>
            <a:ext cx="475884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PRESENTAM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02120" y="2514600"/>
            <a:ext cx="4560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a su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esentaci%C3%B3n%20dram%C3%A1t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94440" y="372960"/>
            <a:ext cx="4962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4 es Bombay (Indi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20,041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333360"/>
            <a:ext cx="7920000" cy="8254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3 es Sâo Paulo (Brasil) con 20,262,000 habit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5780160"/>
            <a:ext cx="666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Rounded MT Bold"/>
              </a:rPr>
              <a:t>Una ciudad que crece a pasos agigan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87480" y="260280"/>
            <a:ext cx="4510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2 es Delhi (Indi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22,157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09700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(Toda la India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población de 1,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illones de habit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03560" y="177840"/>
            <a:ext cx="6771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Y en el puesto 1, la indiscutible campeon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s TOKYO, Japón, con 36,669.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630864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¡Una verdadera explosión demográf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6280" y="228600"/>
            <a:ext cx="8686800" cy="21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Arial"/>
              </a:rPr>
              <a:t>Hacemos ahora aquí algunas observacione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inguna ciudad europea figura en la lista. Moscú es la ciudad europea más poblada (10,5 millones), y figura en el puesto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n la India hay tres ciudades millonarias: Delhi,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mba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 Calcuta. Entre las tres superan los 57 millones de habit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37372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Veamos ahora algunos aspectos de las condiciones en que se vive en las grandes ciudades, sobre todo en las asiátic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495680" cy="323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4038480" cy="3143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495680" y="3962520"/>
            <a:ext cx="4419720" cy="27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52280" y="29718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Los transportes y las unidades habita-cionales hacen que la gente se sie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81960" y="3429000"/>
            <a:ext cx="34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omprimida, amontonada, reducid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hogada en un pequeño espa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3962160" cy="2732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869760" y="712800"/>
            <a:ext cx="2750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Aquí viven m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de fami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3080" y="3733920"/>
            <a:ext cx="24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Una playa satu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de bañ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666880"/>
            <a:ext cx="3809880" cy="580680"/>
          </a:xfrm>
          <a:prstGeom prst="rect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s multifamiliares semejan enormes panales de abe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329440" cy="62643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925880" y="4583160"/>
            <a:ext cx="4038840" cy="2014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an esta saturada autopi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igan con sinceridad si no es mucho mejor vivir en ciudades más pequeñ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Ciudad, para que sea “vivible”, no debería tener más de 500.000 habitant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680" y="765000"/>
            <a:ext cx="1846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doni MT Black"/>
              </a:rPr>
              <a:t>¡QUÉ HORROR!</a:t>
            </a:r>
            <a:r>
              <a:rPr b="0" lang="es-ES" sz="1800" spc="-1" strike="noStrike">
                <a:solidFill>
                  <a:srgbClr val="ffffff"/>
                </a:solidFill>
                <a:latin typeface="Bodoni MT Black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6118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71120" y="3068640"/>
            <a:ext cx="7156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57160" y="33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el número 12 está Los Ángeles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2,762,000 habitantes en su área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7080" y="158760"/>
            <a:ext cx="5725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11 es Buenos Ai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que llega a los 13,074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16280" y="404640"/>
            <a:ext cx="73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En el puesto número 10 está Karachi (Pakistá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 13,125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1960" y="228600"/>
            <a:ext cx="6908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9 es Dhaka (Banglad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14,648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10680" y="333360"/>
            <a:ext cx="548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8 es Calcuta (India)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5,552,000 al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74160" y="228600"/>
            <a:ext cx="52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7 es Shanghai (Chin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16,575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71468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Como país, China tiene 1,300 millones de habitan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la misma población que en 1939 </a:t>
            </a:r>
            <a:r>
              <a:rPr b="1" i="1" lang="es-ES" sz="2000" spc="-1" strike="noStrike">
                <a:solidFill>
                  <a:srgbClr val="cc3300"/>
                </a:solidFill>
                <a:latin typeface="Arial Rounded MT Bold"/>
              </a:rPr>
              <a:t>tenía</a:t>
            </a: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                 </a:t>
            </a: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todo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8000" y="228600"/>
            <a:ext cx="660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6 es Nueva York con 19,4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0120" y="228600"/>
            <a:ext cx="577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5 es la Ciu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 México con 19,4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abitantes en su área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6280" y="5950080"/>
            <a:ext cx="4784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(Estos habitantes son los que ten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toda</a:t>
            </a: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 la República Mexicana en 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/>
  <dc:description/>
  <dc:language>en-US</dc:language>
  <cp:lastModifiedBy>u00568</cp:lastModifiedBy>
  <dcterms:modified xsi:type="dcterms:W3CDTF">2010-04-27T12:22:11Z</dcterms:modified>
  <cp:revision>128</cp:revision>
  <dc:subject/>
  <dc:title>Presentación de PowerPoint</dc:title>
</cp:coreProperties>
</file>