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688-2506-4B6C-8521-7F760F34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BA3-8BF0-4812-9B53-FF32870A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D75-9B2C-468F-A2EC-CA1A974C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C2B-EA6B-4486-BFB8-19C0C202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68BD-36D7-4DC0-97C7-87389708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F8FC-F95B-4854-82F7-B4923655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D69-BF1F-4D93-9FA2-58CCDC41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F49-FF8B-4A7E-AD72-3DCB1E0B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A6B2-7A99-4BF1-A8E7-F58860E3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E7E8-0239-4FFB-A71F-BD8C1D29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67DD-7594-479D-9CE5-4F06A850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AB60-1115-4FC4-AEE2-7413A302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DB2D-EA9F-4965-9B38-E5E40E202B3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042920" y="1628640"/>
            <a:ext cx="7524720" cy="3426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ffff"/>
                </a:solidFill>
                <a:latin typeface="Comic Sans MS"/>
              </a:rPr>
              <a:t>¡¡¡OLE 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30200" y="5589720"/>
            <a:ext cx="83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S LIGAR EN UNA DISCO, SE VAN A UN LUGAR TRANQUILO Y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32000" y="907920"/>
            <a:ext cx="6480000" cy="50421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3"/>
          <p:cNvSpPr/>
          <p:nvPr/>
        </p:nvSpPr>
        <p:spPr>
          <a:xfrm>
            <a:off x="2916360" y="1125360"/>
            <a:ext cx="3671640" cy="863640"/>
          </a:xfrm>
          <a:prstGeom prst="wedgeRoundRectCallout">
            <a:avLst>
              <a:gd name="adj1" fmla="val -52509"/>
              <a:gd name="adj2" fmla="val 1275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rido, tengo que decirte una cosa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3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0421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3"/>
          <p:cNvSpPr/>
          <p:nvPr/>
        </p:nvSpPr>
        <p:spPr>
          <a:xfrm>
            <a:off x="971640" y="2133720"/>
            <a:ext cx="2663640" cy="2016000"/>
          </a:xfrm>
          <a:prstGeom prst="wedgeRoundRectCallout">
            <a:avLst>
              <a:gd name="adj1" fmla="val 62393"/>
              <a:gd name="adj2" fmla="val -362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y una puta, y si quieres hacer el amor conmigo son 10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1187280" y="765000"/>
            <a:ext cx="2592720" cy="1295640"/>
          </a:xfrm>
          <a:prstGeom prst="wedgeRoundRectCallout">
            <a:avLst>
              <a:gd name="adj1" fmla="val 112583"/>
              <a:gd name="adj2" fmla="val 490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ómo? ¡Me lo dices ahora …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4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042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3"/>
          <p:cNvSpPr/>
          <p:nvPr/>
        </p:nvSpPr>
        <p:spPr>
          <a:xfrm>
            <a:off x="5219640" y="765000"/>
            <a:ext cx="3313080" cy="1295640"/>
          </a:xfrm>
          <a:prstGeom prst="wedgeRoundRectCallout">
            <a:avLst>
              <a:gd name="adj1" fmla="val -50333"/>
              <a:gd name="adj2" fmla="val 80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ueno …cuando hace falta, hay que pagar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5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0421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3"/>
          <p:cNvSpPr/>
          <p:nvPr/>
        </p:nvSpPr>
        <p:spPr>
          <a:xfrm>
            <a:off x="4284720" y="1197000"/>
            <a:ext cx="3672000" cy="1295280"/>
          </a:xfrm>
          <a:prstGeom prst="wedgeRoundRectCallout">
            <a:avLst>
              <a:gd name="adj1" fmla="val -79486"/>
              <a:gd name="adj2" fmla="val 775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o querido ,que le estás sacando provecho a tu diner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332000" y="907920"/>
            <a:ext cx="6480000" cy="5042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1619280" y="1125360"/>
            <a:ext cx="180036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tro h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ás tar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3419640" y="1125360"/>
            <a:ext cx="2592360" cy="1224000"/>
          </a:xfrm>
          <a:prstGeom prst="wedgeRoundRectCallout">
            <a:avLst>
              <a:gd name="adj1" fmla="val -53736"/>
              <a:gd name="adj2" fmla="val 1279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 Dime, cuando piensas arranca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5940360" y="981000"/>
            <a:ext cx="2160720" cy="1513080"/>
          </a:xfrm>
          <a:prstGeom prst="wedgeRoundRectCallout">
            <a:avLst>
              <a:gd name="adj1" fmla="val 1726"/>
              <a:gd name="adj2" fmla="val 9469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o tambien tengo que decirte alg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7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042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61959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3132000" y="1125360"/>
            <a:ext cx="3961080" cy="1511640"/>
          </a:xfrm>
          <a:prstGeom prst="wedgeRoundRectCallout">
            <a:avLst>
              <a:gd name="adj1" fmla="val -101"/>
              <a:gd name="adj2" fmla="val 723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y taxista …y si quieres regresar a la ciudad en coche …te costara 100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8:53:29Z</dcterms:created>
  <dc:creator>pc</dc:creator>
  <dc:description/>
  <dc:language>en-US</dc:language>
  <cp:lastModifiedBy>raxado</cp:lastModifiedBy>
  <dcterms:modified xsi:type="dcterms:W3CDTF">2007-10-06T20:32:43Z</dcterms:modified>
  <cp:revision>4</cp:revision>
  <dc:subject/>
  <dc:title>¡¡¡OLE !!!</dc:title>
</cp:coreProperties>
</file>