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769-A867-4FA1-9A3F-009B2FD5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298-7DF3-4BE1-A3A1-19178EFC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E4F-96E6-4A37-8EDC-3D554886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B9C-F367-4D7F-8484-EB0A758E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975-5F00-4CCD-9155-9D9BC0A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E07-E999-4C96-9B8D-D6AF8AF9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D96-6775-47D6-AD6A-3B471EBD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6AA-86B4-439B-863A-CE273CB5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9F7-5D41-4309-A460-3369EC4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221-C76A-4102-B62E-1FB56F5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F96-6435-4D87-A1C8-8EB0F20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E83-9583-41BF-9DAA-2B28224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CD70-3017-4DCC-9770-5F788FF497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42920" y="1628640"/>
            <a:ext cx="7524720" cy="3426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ffff"/>
                </a:solidFill>
                <a:latin typeface="Comic Sans MS"/>
              </a:rPr>
              <a:t>¡¡¡OLE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30200" y="5589720"/>
            <a:ext cx="83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LIGAR EN UNA DISCO, SE VAN A UN LUGAR TRANQUILO Y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2916360" y="1125360"/>
            <a:ext cx="3671640" cy="863640"/>
          </a:xfrm>
          <a:prstGeom prst="wedgeRoundRectCallout">
            <a:avLst>
              <a:gd name="adj1" fmla="val -52509"/>
              <a:gd name="adj2" fmla="val 127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rido, tengo que decirte una cosa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3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>
            <a:off x="971640" y="2133720"/>
            <a:ext cx="2663640" cy="2016000"/>
          </a:xfrm>
          <a:prstGeom prst="wedgeRoundRectCallout">
            <a:avLst>
              <a:gd name="adj1" fmla="val 62393"/>
              <a:gd name="adj2" fmla="val -3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y una puta, y si quieres hacer el amor conmigo son 1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187280" y="765000"/>
            <a:ext cx="2592720" cy="1295640"/>
          </a:xfrm>
          <a:prstGeom prst="wedgeRoundRectCallout">
            <a:avLst>
              <a:gd name="adj1" fmla="val 112583"/>
              <a:gd name="adj2" fmla="val 490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? ¡Me lo dices ahora 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219640" y="765000"/>
            <a:ext cx="3313080" cy="1295640"/>
          </a:xfrm>
          <a:prstGeom prst="wedgeRoundRectCallout">
            <a:avLst>
              <a:gd name="adj1" fmla="val -50333"/>
              <a:gd name="adj2" fmla="val 8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eno …cuando hace falta, hay que paga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>
            <a:off x="4284720" y="1197000"/>
            <a:ext cx="3672000" cy="1295280"/>
          </a:xfrm>
          <a:prstGeom prst="wedgeRoundRectCallout">
            <a:avLst>
              <a:gd name="adj1" fmla="val -79486"/>
              <a:gd name="adj2" fmla="val 77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o querido ,que le estás sacando provecho a tu dine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619280" y="1125360"/>
            <a:ext cx="180036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tro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tar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3419640" y="1125360"/>
            <a:ext cx="2592360" cy="1224000"/>
          </a:xfrm>
          <a:prstGeom prst="wedgeRoundRectCallout">
            <a:avLst>
              <a:gd name="adj1" fmla="val -53736"/>
              <a:gd name="adj2" fmla="val 127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Dime, cuando piensas arranc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5940360" y="981000"/>
            <a:ext cx="2160720" cy="1513080"/>
          </a:xfrm>
          <a:prstGeom prst="wedgeRoundRectCallout">
            <a:avLst>
              <a:gd name="adj1" fmla="val 1726"/>
              <a:gd name="adj2" fmla="val 946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 tambien tengo que decirte alg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7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1959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132000" y="1125360"/>
            <a:ext cx="3961080" cy="1511640"/>
          </a:xfrm>
          <a:prstGeom prst="wedgeRoundRectCallout">
            <a:avLst>
              <a:gd name="adj1" fmla="val -101"/>
              <a:gd name="adj2" fmla="val 723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y taxista …y si quieres regresar a la ciudad en coche …te costara 100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53:29Z</dcterms:created>
  <dc:creator>pc</dc:creator>
  <dc:description/>
  <dc:language>en-US</dc:language>
  <cp:lastModifiedBy>raxado</cp:lastModifiedBy>
  <dcterms:modified xsi:type="dcterms:W3CDTF">2007-10-06T20:32:43Z</dcterms:modified>
  <cp:revision>4</cp:revision>
  <dc:subject/>
  <dc:title>¡¡¡OLE !!!</dc:title>
</cp:coreProperties>
</file>