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434-8D76-4FF5-8613-04AF2D9A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23D-EF39-4333-B67D-63AC7932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3B4-8A13-4815-B2A6-FAC45BB2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BFA8-12C6-41DE-B8A2-350F84D7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BCC-3073-48F8-930E-9C31C7E9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9BD-ACAC-4EFD-897D-0BA32E8D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A1B-CCFD-41D9-B83B-88DA7E2D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5C3B-5B31-4D4A-BA55-77B9A053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452-9F73-4C80-B5EE-3A004689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29D8-46A4-4FEB-BAD6-82F735B6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747-802C-4A79-997C-23086D22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37E-F7FE-4013-B7A0-FE947C16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6D18-0223-4AD8-835D-1C6C7D17B39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5480" y="0"/>
            <a:ext cx="461484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20960" y="404640"/>
            <a:ext cx="5240160" cy="612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7080" y="57240"/>
            <a:ext cx="8889840" cy="6743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7080" y="63360"/>
            <a:ext cx="8889840" cy="6731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35100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95320" y="787320"/>
            <a:ext cx="7353360" cy="5283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87280" y="966960"/>
            <a:ext cx="6985080" cy="4776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8240" y="812880"/>
            <a:ext cx="7607520" cy="5232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35240" y="0"/>
            <a:ext cx="467352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522360"/>
            <a:ext cx="7848360" cy="5759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7960" y="736560"/>
            <a:ext cx="8128080" cy="5384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30208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441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1080"/>
            <a:ext cx="9144000" cy="6495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33440" y="0"/>
            <a:ext cx="467856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08080" y="0"/>
            <a:ext cx="512784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88840" y="584280"/>
            <a:ext cx="7366320" cy="5689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8:30:51Z</dcterms:created>
  <dc:creator>thosial</dc:creator>
  <dc:description/>
  <dc:language>en-US</dc:language>
  <cp:lastModifiedBy>Michel St-Pierre</cp:lastModifiedBy>
  <dcterms:modified xsi:type="dcterms:W3CDTF">2006-02-10T05:24:11Z</dcterms:modified>
  <cp:revision>4</cp:revision>
  <dc:subject>humour</dc:subject>
  <dc:title>FUN</dc:title>
</cp:coreProperties>
</file>