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6C4-AAE6-4772-9C9E-3DFEC65E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438-6E6A-4552-9FC0-D6E167F6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8B6-81C6-4B5E-9E05-43DA7EBB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60F-BDA8-41A5-9D9B-38D63A2F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F90-4DD8-4E4D-8BF2-ACCD8FDD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1D0-8ECE-4E2D-BFC7-3367C52A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EF7-4C90-4C1C-B252-B199336C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6B7-B2BF-49A6-BE41-7F40EC9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8ED-AB29-47EA-8592-170657D2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654-05DF-4839-BC7E-AF666E16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E6D-2853-47B6-A6E9-974F301F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8E1-BAB6-465F-9CB6-B652E65A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BAA2-EFDF-48A6-BDE0-00543B411A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0960" y="404640"/>
            <a:ext cx="5240160" cy="612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7080" y="57240"/>
            <a:ext cx="8889840" cy="674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7080" y="63360"/>
            <a:ext cx="8889840" cy="673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35100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95320" y="787320"/>
            <a:ext cx="7353360" cy="528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87280" y="966960"/>
            <a:ext cx="6985080" cy="4776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7607520" cy="5232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35240" y="0"/>
            <a:ext cx="46735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522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736560"/>
            <a:ext cx="8128080" cy="5384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495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33440" y="0"/>
            <a:ext cx="467856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88840" y="584280"/>
            <a:ext cx="7366320" cy="568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8:30:51Z</dcterms:created>
  <dc:creator>thosial</dc:creator>
  <dc:description/>
  <dc:language>en-US</dc:language>
  <cp:lastModifiedBy>Michel St-Pierre</cp:lastModifiedBy>
  <dcterms:modified xsi:type="dcterms:W3CDTF">2006-02-10T05:24:11Z</dcterms:modified>
  <cp:revision>4</cp:revision>
  <dc:subject>humour</dc:subject>
  <dc:title>FUN</dc:title>
</cp:coreProperties>
</file>