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82A8-D152-4502-B097-604164A7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2403-71BB-4D25-9A74-2EC6E1E7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3A88-DA28-4370-B0C0-46EBB41F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38DC-37F3-4828-96B2-C9EAA26B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542-E3B5-4570-9526-9C9D2B5E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E646-DBC4-494D-817A-5FD34BA2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3751-2E91-421A-8FB4-C1D8B2B4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088F-21D8-454A-ABB4-3BF22C75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294B-9399-48F0-B645-089CC9F6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5B5F-3378-4900-885E-53AB5FD8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0FF4-EA45-44E7-AA87-379063AE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AE8A-4803-4194-BE87-6F6E7383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14E7-B737-469A-B4F6-5571C04B1D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90440" y="2532240"/>
            <a:ext cx="7315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udia este breve rela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pero que haga un GRAN cambio en 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7720" y="404640"/>
            <a:ext cx="8001000" cy="8251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Cuando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el día de hoy termin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7960" y="5734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eanette - Soy Rebe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38280" y="161280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entonces, cuando acabe el trabaj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Recuérdale a tus amigos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36880" y="2997360"/>
            <a:ext cx="1828800" cy="1841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89120" y="501336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‘</a:t>
            </a: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¡BAJEN EL VASO HOY!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1830240"/>
            <a:ext cx="7619760" cy="39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El profesor empezó su clase sosteniendo un vaso de ag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Lo levantó y preguntó a la cl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“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¿Cuánto creen que este vaso pesa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‘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¡50gms!’ .... ‘¡100gms!’ .....‘125gms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16377"/>
                </a:solidFill>
                <a:latin typeface="Times New Roman"/>
              </a:rPr>
              <a:t>..respondieron los estudi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828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0000" y="1652760"/>
            <a:ext cx="659124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“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Realmente no puedo saberlo hasta pesarlo,” dijo el profesor, “pero, mi pregunta 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¿Qué puede pasar si lo sostengo unos minutos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‘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Nada’</a:t>
            </a:r>
            <a:r>
              <a:rPr b="0" lang="es-ES" sz="3200" spc="-1" strike="noStrike">
                <a:solidFill>
                  <a:srgbClr val="616377"/>
                </a:solidFill>
                <a:latin typeface="Times New Roman"/>
              </a:rPr>
              <a:t> …..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los estudiantes dijeron</a:t>
            </a:r>
            <a:r>
              <a:rPr b="0" lang="es-ES" sz="3200" spc="-1" strike="noStrike">
                <a:solidFill>
                  <a:srgbClr val="616377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095960" y="4581360"/>
            <a:ext cx="17971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4360" y="1635120"/>
            <a:ext cx="76960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‘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OK, ¿Qué podría pasar si lo sostengo una hora?’ el profesor pregunt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‘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Su brazo podría dolerle’, dijo uno de los estudi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659640" y="4437000"/>
            <a:ext cx="17971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4360" y="184464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“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Estás correcto, ahora ¿Qué pasaría si lo sostengo todo el día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“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¡Su brazo se entumecerá, quizá tenga estrés muscular y parálisis, y seguro tendría que ir al hospital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…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.. Dijo otro estudiante, y todos rie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451640" y="3286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4360" y="1628640"/>
            <a:ext cx="78483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“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Muy bi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Pero en ese tiempo ¿El peso del vaso cambió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preguntó el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‘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No’…. fue la respue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951600" y="4487760"/>
            <a:ext cx="17971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4360" y="1568520"/>
            <a:ext cx="74674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“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Entonces ¿Qué causa que el brazo duela y que el músculo se estrese?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Los estudiantes estaban sorprend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“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¿Qué debo hacer ahora para que se me quite el dolor?” preguntó nuevamente el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“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¡Baje el vaso!” dijo uno de los estudi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43800" y="5300640"/>
            <a:ext cx="1420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4360" y="1555920"/>
            <a:ext cx="708660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“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¡Exactamente!” dijo el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330033"/>
                </a:solidFill>
                <a:latin typeface="Times New Roman"/>
              </a:rPr>
              <a:t>Los problemas de la vida son como 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Mantenlos pocos minutos en tu cabeza y estarán b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Piensa en ellos un largo tiempo y empezarán a dol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Mantenlos más tiempo, y empezarán a paralizarte.  No serás capaz de ha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236000" y="312840"/>
            <a:ext cx="1796760" cy="1820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740720" y="5445000"/>
            <a:ext cx="12729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4360" y="1557360"/>
            <a:ext cx="6767280" cy="4735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ff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Es importante el pensar en los retos y problemas en tu vida, pero MÁS IMPORTANTE es </a:t>
            </a:r>
            <a:r>
              <a:rPr b="1" lang="es-ES" sz="3200" spc="-1" strike="noStrike">
                <a:solidFill>
                  <a:srgbClr val="330033"/>
                </a:solidFill>
                <a:latin typeface="Times New Roman"/>
              </a:rPr>
              <a:t>‘PONERLOS ABAJO’</a:t>
            </a: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 al final del cada día, antes de ir a dorm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16377"/>
                </a:solidFill>
                <a:latin typeface="Times New Roman"/>
              </a:rPr>
              <a:t>¡De esa manera, no tendrás estrés, despertarás bien cada día, y maneja-rás cualquier situación o reto que se presente en tu camin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451640" y="264960"/>
            <a:ext cx="1524240" cy="1219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359480" y="5203800"/>
            <a:ext cx="1676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02:21:32Z</dcterms:created>
  <dc:creator>Agustín Miranda Hernández</dc:creator>
  <dc:description/>
  <dc:language>en-US</dc:language>
  <cp:lastModifiedBy>Agustín Miranda Hernández</cp:lastModifiedBy>
  <dcterms:modified xsi:type="dcterms:W3CDTF">2010-10-22T02:40:42Z</dcterms:modified>
  <cp:revision>2</cp:revision>
  <dc:subject/>
  <dc:title>Diapositiva 1</dc:title>
</cp:coreProperties>
</file>